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5006C1-FBC5-4D85-A6B4-9FB4D7684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4BCF5A-F3A2-467A-AC5E-FE9BB9EFC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31680" y="4047840"/>
            <a:ext cx="51210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Img"/>
          </p:nvPr>
        </p:nvSpPr>
        <p:spPr>
          <a:xfrm>
            <a:off x="1168560" y="306360"/>
            <a:ext cx="462420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E0F9-265C-4D85-8CF7-8AFFB5EDE2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911A-0DA0-486D-A873-74B5F11F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00FE-3BB9-4E58-845E-79B3918E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8A68-1549-4B80-9607-22867DAED7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E732-9F19-4B6A-A235-57A84FD9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D392-CC9D-4213-B50F-0BC62ADC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E6A2-E7A4-4172-A29A-BFBB397D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7515-D68B-4860-90FD-4929C3FF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E999-0611-4346-9EED-8E304F26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7A0E-D1B5-4C86-A5D4-43BE6B7B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B521-3BDA-43F2-8BA3-CC62B7F6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18BA-CF40-48D5-8673-97670215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6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E54-977C-44F4-8D6E-3FE1C1E7DAA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1DF6-1E5F-4C25-A54D-DA04AFFEB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Disa3" descr=""/>
          <p:cNvPicPr/>
          <p:nvPr/>
        </p:nvPicPr>
        <p:blipFill>
          <a:blip r:embed="rId2"/>
          <a:stretch/>
        </p:blipFill>
        <p:spPr>
          <a:xfrm>
            <a:off x="7924680" y="76320"/>
            <a:ext cx="1160640" cy="1162080"/>
          </a:xfrm>
          <a:prstGeom prst="rect">
            <a:avLst/>
          </a:prstGeom>
          <a:ln w="0">
            <a:noFill/>
          </a:ln>
        </p:spPr>
      </p:pic>
      <p:pic>
        <p:nvPicPr>
          <p:cNvPr id="5" name="dod_clr_72" descr=""/>
          <p:cNvPicPr/>
          <p:nvPr/>
        </p:nvPicPr>
        <p:blipFill>
          <a:blip r:embed="rId3"/>
          <a:stretch/>
        </p:blipFill>
        <p:spPr>
          <a:xfrm>
            <a:off x="25560" y="38160"/>
            <a:ext cx="120492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3" name="Disa3" descr=""/>
          <p:cNvPicPr/>
          <p:nvPr/>
        </p:nvPicPr>
        <p:blipFill>
          <a:blip r:embed="rId2"/>
          <a:stretch/>
        </p:blipFill>
        <p:spPr>
          <a:xfrm>
            <a:off x="6389640" y="76320"/>
            <a:ext cx="2621160" cy="2574720"/>
          </a:xfrm>
          <a:prstGeom prst="rect">
            <a:avLst/>
          </a:prstGeom>
          <a:ln w="0">
            <a:noFill/>
          </a:ln>
        </p:spPr>
      </p:pic>
      <p:pic>
        <p:nvPicPr>
          <p:cNvPr id="44" name="dod_clr_72" descr=""/>
          <p:cNvPicPr/>
          <p:nvPr/>
        </p:nvPicPr>
        <p:blipFill>
          <a:blip r:embed="rId3"/>
          <a:stretch/>
        </p:blipFill>
        <p:spPr>
          <a:xfrm>
            <a:off x="66600" y="28440"/>
            <a:ext cx="2605320" cy="2605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23840"/>
            <a:ext cx="739152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Bush/Rumsfeld Defense Priorities/Objectives</a:t>
            </a:r>
            <a:br>
              <a:rPr sz="2700"/>
            </a:b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A Mandate For Change </a:t>
            </a:r>
            <a:endParaRPr b="1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53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ush Prioriti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12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velop the capabilities to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fen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gainst missiles, terrorism, and threats against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pace assets and information system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12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 the military of the new century by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king advantage of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new possibilities offered by the ongo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chnological Revolu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msfeld objectives for deterring and defending against new threa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12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dernize US C3I capabiliti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8240" indent="-22572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Modern C3I infrastruct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is the foundation upon which military power rests and is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fundamental to the transformation of US military forc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  We must also strengthen our intelligence capabilities and space capabilities and protect those assaults against various forms of att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12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form US Defense establishment --- by swiftly introducing new weapon systems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842080"/>
            <a:ext cx="6933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ology as enabler for transformation to address new thre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7BD5-20BA-47E0-8BE2-A549A8583E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23940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me Concepts Associated With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ansformatio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6040" indent="-176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ymmetric uncertain threats and new demanding missi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920" indent="-1634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exibility to dominate over spectrum of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ile dispersed forces networked by C4ISR to enable new warfighting concep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920" indent="-1634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twork centric warfare and effects based outc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pid decisive operations enabled by Joint Adaptive C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920" indent="-1634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ormation Superiority and Decision Domi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ilorable assured survivable system-of-system information infrastructur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920" indent="-1634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lobal information Gr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engineered force structure, organization, doctrine, ---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920" indent="-1634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ssion capability pac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similation of within-reach technology while preparing for long-term less understood problem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920" indent="-1634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loration, innovation and adap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943600"/>
            <a:ext cx="7391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for fundamental changes on unprecedented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35AC-0EB2-4BDA-A278-6E5CA85F06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5960" y="1509840"/>
            <a:ext cx="5533920" cy="28177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73480" y="5575320"/>
            <a:ext cx="102708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986520" y="4662360"/>
          <a:ext cx="19288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6520" y="4662360"/>
                    <a:ext cx="19288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253760" y="5648400"/>
            <a:ext cx="89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57760" y="2955960"/>
            <a:ext cx="1660320" cy="866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(Includes IO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73480" y="3029040"/>
            <a:ext cx="181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o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76640" y="5575320"/>
            <a:ext cx="102708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76640" y="5648400"/>
            <a:ext cx="98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708440"/>
            <a:ext cx="5613480" cy="50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43440" y="4853160"/>
            <a:ext cx="403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ormation Dissemination /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0440" y="1943280"/>
            <a:ext cx="2292480" cy="1879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36880" y="1943280"/>
            <a:ext cx="1681200" cy="579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73480" y="1905120"/>
            <a:ext cx="165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3000" y="1157400"/>
            <a:ext cx="26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ue Battlespace Ent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1509840"/>
            <a:ext cx="1600200" cy="289224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8560" y="1908000"/>
            <a:ext cx="233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mand Conce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90440" y="3605040"/>
            <a:ext cx="229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3240" y="3559320"/>
            <a:ext cx="89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cep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81040" y="2471760"/>
            <a:ext cx="12258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O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gan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ctr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8520" y="3559320"/>
            <a:ext cx="89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cep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00560" y="2271600"/>
            <a:ext cx="89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cep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57760" y="3605040"/>
            <a:ext cx="1660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7760" y="2271600"/>
            <a:ext cx="1660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73480" y="2595600"/>
            <a:ext cx="142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73480" y="3895560"/>
            <a:ext cx="142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3895560"/>
            <a:ext cx="142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540240" y="2089080"/>
            <a:ext cx="0" cy="180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597640" y="3098520"/>
            <a:ext cx="0" cy="79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597640" y="2088720"/>
            <a:ext cx="0" cy="50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82560" y="2089080"/>
            <a:ext cx="15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17880" y="3822840"/>
            <a:ext cx="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73480" y="252216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517720" y="2089080"/>
            <a:ext cx="79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173480" y="3822840"/>
            <a:ext cx="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17720" y="3098880"/>
            <a:ext cx="79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828880" y="420012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57760" y="420012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884840" y="420012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801800" y="420012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2362320"/>
            <a:ext cx="1066680" cy="460080"/>
          </a:xfrm>
          <a:prstGeom prst="rightArrow">
            <a:avLst>
              <a:gd name="adj1" fmla="val 50000"/>
              <a:gd name="adj2" fmla="val 5796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171480" y="3352680"/>
            <a:ext cx="1066680" cy="462240"/>
          </a:xfrm>
          <a:prstGeom prst="rightArrow">
            <a:avLst>
              <a:gd name="adj1" fmla="val 50000"/>
              <a:gd name="adj2" fmla="val 5769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7040" y="3278160"/>
            <a:ext cx="195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cision Behavi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27320" y="3913200"/>
            <a:ext cx="0" cy="8683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0560" y="521496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38880" y="3912840"/>
            <a:ext cx="0" cy="7952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756400" y="2395080"/>
            <a:ext cx="0" cy="2313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181480" y="5791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303720" y="5792760"/>
            <a:ext cx="869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828880" y="52146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05880" y="5765760"/>
            <a:ext cx="962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Quality o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observ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05880" y="4468680"/>
            <a:ext cx="1457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hared   In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70840" y="1631880"/>
            <a:ext cx="1351080" cy="274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hared  Awar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10960" y="5262480"/>
            <a:ext cx="1602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Quality of  In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6960" y="2819520"/>
            <a:ext cx="1174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Degree o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ynchron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45200" y="3886200"/>
            <a:ext cx="1093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ission MO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9240" y="6338880"/>
            <a:ext cx="159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round Tru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SD Analysis Framework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24680" y="4419720"/>
            <a:ext cx="0" cy="2077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1662120"/>
            <a:ext cx="1447920" cy="579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1752480"/>
            <a:ext cx="121932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d Ent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697120"/>
            <a:ext cx="1447920" cy="579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2727360"/>
            <a:ext cx="1219320" cy="531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bat Adjudica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3686040"/>
            <a:ext cx="1447920" cy="579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67480" y="3705120"/>
            <a:ext cx="1219320" cy="531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erational Outc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3CA8-CBFD-4D1E-98D0-0BC4BCA90E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deling and Simulation for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4ISR Assessmen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D Goal:  Integrated framework for examining &amp; understanding the casual relationship between C4ISR system performance and combat outcome (PBD 07OC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D Challenge:  Modeling C2 in a manner that facilitates assessment of C4ISR contribution to combat outco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D Approach:  Establish R&amp;D program for modeling critical aspects of C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cus on modeling for C2 decision-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sk DISA and oth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A Strategy:  Practical, Multi-Pronged Approac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elop a five year R&amp;D plan to improve modeling of C2 decision-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and evolve initial M/S research and analysis capabil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lore approaches for modeling C2 Decision Making in the analysis of C4ISR issues of interest to DISA custom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In conjunction with with JFCOM focus experimentation to develop needed dat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2387-048E-4278-8658-1464A52F38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9640" y="311040"/>
            <a:ext cx="6878520" cy="5875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bjectives of Workshop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223920" indent="-22392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rove  Models for C2 Decision Mak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77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77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full C4ISR assessment cap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77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dible insights regarding imp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rget opportunities for improve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77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models for near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77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s to focus sustained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B2A9-F0FD-465E-8344-E446F92E71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411120"/>
            <a:ext cx="655344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ope and Focus of Workshop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bat operations and scenari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 scale contingencies/major theater w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alyses using the JWARS Campaign Mod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luation of operations pl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ssment of C2 concepts/system mi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cisions in the context of the IS value cha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lity of information (QOI), decision, combat out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OI, shared awareness, collaboration, synchronization, out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-level modeling and experim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roved representation of decision making in JW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roved modeling of decision-making in supporting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for key modeling parameters and vari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73F4-7BCF-4C1D-A87D-B3507F1BDB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22968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mat for Workshop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0160" y="1447920"/>
            <a:ext cx="56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riefings to set the stag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tional domain oriented working group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tional scenarios/vignett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562720"/>
            <a:ext cx="807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223920" indent="-223920">
              <a:lnSpc>
                <a:spcPct val="11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decisions / decision elements can / should be model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1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ow might they be model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2640" y="2895480"/>
            <a:ext cx="7544160" cy="2532600"/>
            <a:chOff x="1142640" y="2895480"/>
            <a:chExt cx="7544160" cy="2532600"/>
          </a:xfrm>
        </p:grpSpPr>
        <p:sp>
          <p:nvSpPr>
            <p:cNvPr id="170" name=""/>
            <p:cNvSpPr/>
            <p:nvPr/>
          </p:nvSpPr>
          <p:spPr>
            <a:xfrm>
              <a:off x="1295280" y="371808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mpaig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81280" y="289548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chelon of Decision-Mak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33920" y="3352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rategi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57800" y="33526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peratio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91520" y="3352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ac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86200" y="3718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ore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3718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W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58000" y="48610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isrupt by Fi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1280" y="2895480"/>
              <a:ext cx="5105520" cy="2514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3352680"/>
              <a:ext cx="5105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3733920"/>
              <a:ext cx="7543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3733920"/>
              <a:ext cx="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142640" y="5410080"/>
              <a:ext cx="2438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43000" y="4648320"/>
              <a:ext cx="7543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3000" y="4114800"/>
              <a:ext cx="7543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26240" y="4800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ecision Strik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16080" y="4191120"/>
              <a:ext cx="229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ominant Maneu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09720" y="4724280"/>
              <a:ext cx="118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umbia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eban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09360" y="4191120"/>
              <a:ext cx="97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osov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240" y="419112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ake the H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05520" y="335268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335268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D424-3401-442E-85F7-4003E4DEBC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98640" y="421920"/>
            <a:ext cx="54230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tting The Stag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1656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Operational Vie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. Hay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1656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WARS Capabiliti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TC  McIntyr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1656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MSO Developmen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TC  Bjorkma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1656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act of C4IS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.  Hinik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1656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ganizational Model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.  Serfat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1656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gnitive Model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. Leedha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B3D7-C0A4-47FC-A1E9-050B9D4C64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75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odeling C2 Decision-Making Process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er Worksho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ly 200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668600" y="5257800"/>
            <a:ext cx="2270160" cy="840600"/>
            <a:chOff x="1668600" y="5257800"/>
            <a:chExt cx="2270160" cy="840600"/>
          </a:xfrm>
        </p:grpSpPr>
        <p:sp>
          <p:nvSpPr>
            <p:cNvPr id="197" name=""/>
            <p:cNvSpPr/>
            <p:nvPr/>
          </p:nvSpPr>
          <p:spPr>
            <a:xfrm>
              <a:off x="1668600" y="5257800"/>
              <a:ext cx="22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ave Signor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87640" y="5638680"/>
              <a:ext cx="14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RA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35640" y="5257800"/>
            <a:ext cx="1852560" cy="835920"/>
            <a:chOff x="5435640" y="5257800"/>
            <a:chExt cx="1852560" cy="835920"/>
          </a:xfrm>
        </p:grpSpPr>
        <p:sp>
          <p:nvSpPr>
            <p:cNvPr id="200" name=""/>
            <p:cNvSpPr/>
            <p:nvPr/>
          </p:nvSpPr>
          <p:spPr>
            <a:xfrm>
              <a:off x="5435640" y="525780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ick Ha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32360" y="5634000"/>
              <a:ext cx="10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EB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00:19:27Z</dcterms:created>
  <dc:creator>John Friel</dc:creator>
  <dc:description/>
  <dc:language>en-US</dc:language>
  <cp:lastModifiedBy>David Noble</cp:lastModifiedBy>
  <cp:lastPrinted>2001-07-31T11:11:10Z</cp:lastPrinted>
  <dcterms:modified xsi:type="dcterms:W3CDTF">2001-07-31T13:32:33Z</dcterms:modified>
  <cp:revision>180</cp:revision>
  <dc:subject/>
  <dc:title>PowerPoint Presentation</dc:title>
</cp:coreProperties>
</file>