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8560" y="384804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840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572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856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572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5C6B-78F4-4C09-81C3-A6E74C5F90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B3D4-2CD7-4E85-BCB6-0AE36DD63C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E7B1-2F40-4F0D-9506-0418006ECE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99E7-0C42-4C86-A884-69AAD1671F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6F1B-1D04-40EF-9AE2-7CAA2099A4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8CB2-951A-4F53-BB3E-AC7B9C7DAF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43D1-935F-4BAC-A440-701A3D52A0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840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A72B-F14D-48A3-9795-CD2DFD69C7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69C8-BFAD-4D1C-92FB-9411A8D5DC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560" y="384804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A8FC-606D-4334-9A18-A2A059AE23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840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D0A9-70F5-4A9C-ABE1-6FF7438CB6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572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324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856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572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324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8514-BAEF-4AFB-8A6F-4B6BB950B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840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06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4040" indent="-207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0200" indent="-208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70200" indent="-208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70200" indent="-208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1"/>
          </p:nvPr>
        </p:nvSpPr>
        <p:spPr>
          <a:xfrm>
            <a:off x="7170840" y="6432120"/>
            <a:ext cx="1751040" cy="335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fld id="{266DB392-0A95-42DF-8A9B-040032939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24000" y="4952880"/>
            <a:ext cx="8515080" cy="11448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Disa3" descr=""/>
          <p:cNvPicPr/>
          <p:nvPr/>
        </p:nvPicPr>
        <p:blipFill>
          <a:blip r:embed="rId2"/>
          <a:stretch/>
        </p:blipFill>
        <p:spPr>
          <a:xfrm>
            <a:off x="247680" y="133200"/>
            <a:ext cx="3355920" cy="33562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5956200" y="-720"/>
            <a:ext cx="31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NCLASS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13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3.png"/><Relationship Id="rId36" Type="http://schemas.openxmlformats.org/officeDocument/2006/relationships/image" Target="../media/image29.png"/><Relationship Id="rId37" Type="http://schemas.openxmlformats.org/officeDocument/2006/relationships/image" Target="../media/image29.png"/><Relationship Id="rId38" Type="http://schemas.openxmlformats.org/officeDocument/2006/relationships/image" Target="../media/image29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2.png"/><Relationship Id="rId44" Type="http://schemas.openxmlformats.org/officeDocument/2006/relationships/image" Target="../media/image13.png"/><Relationship Id="rId45" Type="http://schemas.openxmlformats.org/officeDocument/2006/relationships/image" Target="../media/image8.png"/><Relationship Id="rId46" Type="http://schemas.openxmlformats.org/officeDocument/2006/relationships/image" Target="../media/image9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2.png"/><Relationship Id="rId50" Type="http://schemas.openxmlformats.org/officeDocument/2006/relationships/image" Target="../media/image13.png"/><Relationship Id="rId51" Type="http://schemas.openxmlformats.org/officeDocument/2006/relationships/image" Target="../media/image8.png"/><Relationship Id="rId52" Type="http://schemas.openxmlformats.org/officeDocument/2006/relationships/image" Target="../media/image9.png"/><Relationship Id="rId53" Type="http://schemas.openxmlformats.org/officeDocument/2006/relationships/image" Target="../media/image10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3.png"/><Relationship Id="rId57" Type="http://schemas.openxmlformats.org/officeDocument/2006/relationships/image" Target="../media/image30.png"/><Relationship Id="rId58" Type="http://schemas.openxmlformats.org/officeDocument/2006/relationships/image" Target="../media/image30.png"/><Relationship Id="rId59" Type="http://schemas.openxmlformats.org/officeDocument/2006/relationships/image" Target="../media/image8.png"/><Relationship Id="rId60" Type="http://schemas.openxmlformats.org/officeDocument/2006/relationships/image" Target="../media/image9.png"/><Relationship Id="rId61" Type="http://schemas.openxmlformats.org/officeDocument/2006/relationships/image" Target="../media/image10.png"/><Relationship Id="rId62" Type="http://schemas.openxmlformats.org/officeDocument/2006/relationships/image" Target="../media/image11.png"/><Relationship Id="rId63" Type="http://schemas.openxmlformats.org/officeDocument/2006/relationships/image" Target="../media/image12.png"/><Relationship Id="rId64" Type="http://schemas.openxmlformats.org/officeDocument/2006/relationships/image" Target="../media/image13.png"/><Relationship Id="rId65" Type="http://schemas.openxmlformats.org/officeDocument/2006/relationships/image" Target="../media/image31.png"/><Relationship Id="rId66" Type="http://schemas.openxmlformats.org/officeDocument/2006/relationships/image" Target="../media/image31.png"/><Relationship Id="rId67" Type="http://schemas.openxmlformats.org/officeDocument/2006/relationships/image" Target="../media/image31.png"/><Relationship Id="rId68" Type="http://schemas.openxmlformats.org/officeDocument/2006/relationships/image" Target="../media/image8.png"/><Relationship Id="rId69" Type="http://schemas.openxmlformats.org/officeDocument/2006/relationships/image" Target="../media/image9.png"/><Relationship Id="rId70" Type="http://schemas.openxmlformats.org/officeDocument/2006/relationships/image" Target="../media/image10.png"/><Relationship Id="rId71" Type="http://schemas.openxmlformats.org/officeDocument/2006/relationships/image" Target="../media/image11.png"/><Relationship Id="rId72" Type="http://schemas.openxmlformats.org/officeDocument/2006/relationships/image" Target="../media/image12.png"/><Relationship Id="rId73" Type="http://schemas.openxmlformats.org/officeDocument/2006/relationships/image" Target="../media/image13.png"/><Relationship Id="rId74" Type="http://schemas.openxmlformats.org/officeDocument/2006/relationships/image" Target="../media/image8.png"/><Relationship Id="rId75" Type="http://schemas.openxmlformats.org/officeDocument/2006/relationships/image" Target="../media/image9.png"/><Relationship Id="rId76" Type="http://schemas.openxmlformats.org/officeDocument/2006/relationships/image" Target="../media/image10.png"/><Relationship Id="rId77" Type="http://schemas.openxmlformats.org/officeDocument/2006/relationships/image" Target="../media/image11.png"/><Relationship Id="rId78" Type="http://schemas.openxmlformats.org/officeDocument/2006/relationships/image" Target="../media/image12.png"/><Relationship Id="rId79" Type="http://schemas.openxmlformats.org/officeDocument/2006/relationships/image" Target="../media/image13.png"/><Relationship Id="rId80" Type="http://schemas.openxmlformats.org/officeDocument/2006/relationships/image" Target="../media/image8.png"/><Relationship Id="rId81" Type="http://schemas.openxmlformats.org/officeDocument/2006/relationships/image" Target="../media/image9.png"/><Relationship Id="rId82" Type="http://schemas.openxmlformats.org/officeDocument/2006/relationships/image" Target="../media/image10.png"/><Relationship Id="rId83" Type="http://schemas.openxmlformats.org/officeDocument/2006/relationships/image" Target="../media/image11.png"/><Relationship Id="rId84" Type="http://schemas.openxmlformats.org/officeDocument/2006/relationships/image" Target="../media/image12.png"/><Relationship Id="rId85" Type="http://schemas.openxmlformats.org/officeDocument/2006/relationships/image" Target="../media/image13.png"/><Relationship Id="rId86" Type="http://schemas.openxmlformats.org/officeDocument/2006/relationships/image" Target="../media/image32.png"/><Relationship Id="rId87" Type="http://schemas.openxmlformats.org/officeDocument/2006/relationships/image" Target="../media/image32.png"/><Relationship Id="rId8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2.png"/><Relationship Id="rId27" Type="http://schemas.openxmlformats.org/officeDocument/2006/relationships/image" Target="../media/image13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isa3" descr=""/>
          <p:cNvPicPr/>
          <p:nvPr/>
        </p:nvPicPr>
        <p:blipFill>
          <a:blip r:embed="rId1"/>
          <a:stretch/>
        </p:blipFill>
        <p:spPr>
          <a:xfrm>
            <a:off x="530280" y="378000"/>
            <a:ext cx="3355920" cy="3355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33920" y="380880"/>
            <a:ext cx="5181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aded Loo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lex Adaptive Systems (CAS)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mmand and Control (C2)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b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Paul J. Hiniker, Ph.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I Modeling, Simulation &amp; Assess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se Information Systems Ag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lington, VA 222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d at the R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ng of C2 Decision Processes Worksh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31, 2001, McLean, 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562720" y="2487600"/>
            <a:ext cx="14475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log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 0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46180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e of Battle 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52880" y="2057400"/>
            <a:ext cx="0" cy="251460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4543560"/>
            <a:ext cx="29718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95760" y="5073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Worklo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2920" y="2790720"/>
            <a:ext cx="1887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 Decision Loop Speed 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838080"/>
            <a:ext cx="5638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ct of Pace of Battle (P) on Quality Decision Loop Speed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59480" y="2739960"/>
            <a:ext cx="0" cy="18036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3070080"/>
            <a:ext cx="2743200" cy="1397160"/>
          </a:xfrm>
          <a:custGeom>
            <a:avLst/>
            <a:gdLst/>
            <a:ahLst/>
            <a:rect l="l" t="t" r="r" b="b"/>
            <a:pathLst>
              <a:path w="1728" h="880">
                <a:moveTo>
                  <a:pt x="0" y="880"/>
                </a:moveTo>
                <a:cubicBezTo>
                  <a:pt x="136" y="848"/>
                  <a:pt x="272" y="816"/>
                  <a:pt x="384" y="688"/>
                </a:cubicBezTo>
                <a:cubicBezTo>
                  <a:pt x="496" y="560"/>
                  <a:pt x="584" y="224"/>
                  <a:pt x="672" y="112"/>
                </a:cubicBezTo>
                <a:cubicBezTo>
                  <a:pt x="760" y="0"/>
                  <a:pt x="856" y="16"/>
                  <a:pt x="912" y="16"/>
                </a:cubicBezTo>
                <a:cubicBezTo>
                  <a:pt x="968" y="16"/>
                  <a:pt x="968" y="88"/>
                  <a:pt x="1008" y="112"/>
                </a:cubicBezTo>
                <a:cubicBezTo>
                  <a:pt x="1048" y="136"/>
                  <a:pt x="1112" y="128"/>
                  <a:pt x="1152" y="160"/>
                </a:cubicBezTo>
                <a:cubicBezTo>
                  <a:pt x="1192" y="192"/>
                  <a:pt x="1216" y="280"/>
                  <a:pt x="1248" y="304"/>
                </a:cubicBezTo>
                <a:cubicBezTo>
                  <a:pt x="1280" y="328"/>
                  <a:pt x="1312" y="280"/>
                  <a:pt x="1344" y="304"/>
                </a:cubicBezTo>
                <a:cubicBezTo>
                  <a:pt x="1376" y="328"/>
                  <a:pt x="1400" y="416"/>
                  <a:pt x="1440" y="448"/>
                </a:cubicBezTo>
                <a:cubicBezTo>
                  <a:pt x="1480" y="480"/>
                  <a:pt x="1552" y="472"/>
                  <a:pt x="1584" y="496"/>
                </a:cubicBezTo>
                <a:cubicBezTo>
                  <a:pt x="1616" y="520"/>
                  <a:pt x="1608" y="568"/>
                  <a:pt x="1632" y="592"/>
                </a:cubicBezTo>
                <a:cubicBezTo>
                  <a:pt x="1656" y="616"/>
                  <a:pt x="1712" y="632"/>
                  <a:pt x="1728" y="64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8720" y="3933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722840" y="4264200"/>
            <a:ext cx="21744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80320" y="36133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erform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43120" y="507348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Yerkes-Dodson La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554040"/>
            <a:ext cx="81532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from Controlled Experiment on Bounded Rationality with Variable Threats, 19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: Identification of first arriving air threat from several on tactical air defense displ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 Treatment: 4 simultaneous threats at 12 different arrival spee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reatment: 7 simultaneous threats at 12 different arrival spee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: For both threat conditions, subjects performance followed Yerkes-Dodson growth curve which peaked at T* = 2.2 seconds/thre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decision-making performance is limited by number and speed of decision elements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600200" y="1143000"/>
            <a:ext cx="6019920" cy="5043600"/>
            <a:chOff x="1600200" y="1143000"/>
            <a:chExt cx="6019920" cy="5043600"/>
          </a:xfrm>
        </p:grpSpPr>
        <p:sp>
          <p:nvSpPr>
            <p:cNvPr id="297" name=""/>
            <p:cNvSpPr/>
            <p:nvPr/>
          </p:nvSpPr>
          <p:spPr>
            <a:xfrm>
              <a:off x="1600200" y="1143000"/>
              <a:ext cx="6019920" cy="10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 Looming C2 Cl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ty Decision Loop Speed (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 and Pace of Battle (P) on Battlefield Exchange Ration (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925640" y="2133720"/>
              <a:ext cx="5370480" cy="4052880"/>
              <a:chOff x="1925640" y="2133720"/>
              <a:chExt cx="5370480" cy="4052880"/>
            </a:xfrm>
          </p:grpSpPr>
          <p:sp>
            <p:nvSpPr>
              <p:cNvPr id="299" name=""/>
              <p:cNvSpPr/>
              <p:nvPr/>
            </p:nvSpPr>
            <p:spPr>
              <a:xfrm>
                <a:off x="4192560" y="4287960"/>
                <a:ext cx="2463840" cy="12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92560" y="2135160"/>
                <a:ext cx="0" cy="21826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74920" y="4287960"/>
                <a:ext cx="31212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637360" y="4256640"/>
                <a:ext cx="1579320" cy="192996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734640" y="3618000"/>
                <a:ext cx="1600200" cy="125388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174920" y="2785680"/>
                <a:ext cx="2481480" cy="149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65760" y="4338720"/>
                <a:ext cx="630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880" bIns="478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60480"/>
                    <a:tab algn="l" pos="1920960"/>
                    <a:tab algn="l" pos="2881440"/>
                    <a:tab algn="l" pos="3841920"/>
                    <a:tab algn="l" pos="4802040"/>
                    <a:tab algn="l" pos="5762520"/>
                    <a:tab algn="l" pos="6723000"/>
                    <a:tab algn="l" pos="7683480"/>
                    <a:tab algn="l" pos="8643960"/>
                    <a:tab algn="l" pos="9604440"/>
                    <a:tab algn="l" pos="105649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584520" y="2133720"/>
                <a:ext cx="71280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880" bIns="478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60480"/>
                    <a:tab algn="l" pos="1920960"/>
                    <a:tab algn="l" pos="2881440"/>
                    <a:tab algn="l" pos="3841920"/>
                    <a:tab algn="l" pos="4802040"/>
                    <a:tab algn="l" pos="5762520"/>
                    <a:tab algn="l" pos="6723000"/>
                    <a:tab algn="l" pos="7683480"/>
                    <a:tab algn="l" pos="8643960"/>
                    <a:tab algn="l" pos="9604440"/>
                    <a:tab algn="l" pos="105649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13600" y="5000760"/>
                <a:ext cx="35136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880" bIns="478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0480"/>
                    <a:tab algn="l" pos="1920960"/>
                    <a:tab algn="l" pos="2881440"/>
                    <a:tab algn="l" pos="3841920"/>
                    <a:tab algn="l" pos="4802040"/>
                    <a:tab algn="l" pos="5762520"/>
                    <a:tab algn="l" pos="6723000"/>
                    <a:tab algn="l" pos="7683480"/>
                    <a:tab algn="l" pos="8643960"/>
                    <a:tab algn="l" pos="9604440"/>
                    <a:tab algn="l" pos="105649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82880" y="5359320"/>
                <a:ext cx="17280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25640" y="5759280"/>
                <a:ext cx="9237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880" bIns="478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60480"/>
                    <a:tab algn="l" pos="1920960"/>
                    <a:tab algn="l" pos="2881440"/>
                    <a:tab algn="l" pos="3841920"/>
                    <a:tab algn="l" pos="4802040"/>
                    <a:tab algn="l" pos="5762520"/>
                    <a:tab algn="l" pos="6723000"/>
                    <a:tab algn="l" pos="7683480"/>
                    <a:tab algn="l" pos="8643960"/>
                    <a:tab algn="l" pos="9604440"/>
                    <a:tab algn="l" pos="1056492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log P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3128760" y="5553000"/>
                <a:ext cx="3537000" cy="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6653160" y="2771280"/>
                <a:ext cx="0" cy="280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3135240" y="2784240"/>
                <a:ext cx="3524040" cy="2781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27400" y="2664000"/>
            <a:ext cx="3270240" cy="1684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78200" y="2451240"/>
            <a:ext cx="3970440" cy="2044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021400" y="1643040"/>
            <a:ext cx="5565240" cy="3378240"/>
            <a:chOff x="2021400" y="1643040"/>
            <a:chExt cx="5565240" cy="3378240"/>
          </a:xfrm>
        </p:grpSpPr>
        <p:grpSp>
          <p:nvGrpSpPr>
            <p:cNvPr id="316" name=""/>
            <p:cNvGrpSpPr/>
            <p:nvPr/>
          </p:nvGrpSpPr>
          <p:grpSpPr>
            <a:xfrm>
              <a:off x="2021400" y="3444840"/>
              <a:ext cx="2112480" cy="1379880"/>
              <a:chOff x="2021400" y="3444840"/>
              <a:chExt cx="2112480" cy="13798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2281320" y="4027680"/>
                <a:ext cx="1568520" cy="797040"/>
                <a:chOff x="2281320" y="4027680"/>
                <a:chExt cx="1568520" cy="7970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281320" y="4027680"/>
                  <a:ext cx="1568520" cy="797040"/>
                </a:xfrm>
                <a:custGeom>
                  <a:avLst/>
                  <a:gdLst/>
                  <a:ahLst/>
                  <a:rect l="l" t="t" r="r" b="b"/>
                  <a:pathLst>
                    <a:path w="4146" h="1924">
                      <a:moveTo>
                        <a:pt x="526" y="408"/>
                      </a:moveTo>
                      <a:cubicBezTo>
                        <a:pt x="446" y="433"/>
                        <a:pt x="366" y="458"/>
                        <a:pt x="286" y="540"/>
                      </a:cubicBezTo>
                      <a:cubicBezTo>
                        <a:pt x="206" y="622"/>
                        <a:pt x="82" y="770"/>
                        <a:pt x="46" y="900"/>
                      </a:cubicBezTo>
                      <a:cubicBezTo>
                        <a:pt x="10" y="1030"/>
                        <a:pt x="0" y="1194"/>
                        <a:pt x="70" y="1320"/>
                      </a:cubicBezTo>
                      <a:cubicBezTo>
                        <a:pt x="140" y="1446"/>
                        <a:pt x="266" y="1570"/>
                        <a:pt x="466" y="1656"/>
                      </a:cubicBezTo>
                      <a:cubicBezTo>
                        <a:pt x="666" y="1742"/>
                        <a:pt x="860" y="1804"/>
                        <a:pt x="1270" y="1836"/>
                      </a:cubicBezTo>
                      <a:cubicBezTo>
                        <a:pt x="1680" y="1868"/>
                        <a:pt x="2498" y="1924"/>
                        <a:pt x="2926" y="1848"/>
                      </a:cubicBezTo>
                      <a:cubicBezTo>
                        <a:pt x="3354" y="1772"/>
                        <a:pt x="3642" y="1568"/>
                        <a:pt x="3838" y="1380"/>
                      </a:cubicBezTo>
                      <a:cubicBezTo>
                        <a:pt x="4034" y="1192"/>
                        <a:pt x="4058" y="900"/>
                        <a:pt x="4102" y="720"/>
                      </a:cubicBezTo>
                      <a:cubicBezTo>
                        <a:pt x="4146" y="540"/>
                        <a:pt x="4130" y="420"/>
                        <a:pt x="4102" y="300"/>
                      </a:cubicBezTo>
                      <a:cubicBezTo>
                        <a:pt x="4074" y="180"/>
                        <a:pt x="3966" y="50"/>
                        <a:pt x="3934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rot="16200000">
                  <a:off x="2395440" y="4120920"/>
                  <a:ext cx="180360" cy="1681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3265560" y="4640400"/>
                <a:ext cx="549360" cy="1033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2021400" y="3444840"/>
                <a:ext cx="417240" cy="738360"/>
                <a:chOff x="2021400" y="3444840"/>
                <a:chExt cx="417240" cy="7383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022480" y="3947040"/>
                  <a:ext cx="97920" cy="221400"/>
                </a:xfrm>
                <a:custGeom>
                  <a:avLst/>
                  <a:gdLst/>
                  <a:ahLst/>
                  <a:rect l="l" t="t" r="r" b="b"/>
                  <a:pathLst>
                    <a:path w="224" h="169">
                      <a:moveTo>
                        <a:pt x="21" y="0"/>
                      </a:moveTo>
                      <a:lnTo>
                        <a:pt x="39" y="11"/>
                      </a:lnTo>
                      <a:lnTo>
                        <a:pt x="51" y="15"/>
                      </a:lnTo>
                      <a:lnTo>
                        <a:pt x="64" y="15"/>
                      </a:lnTo>
                      <a:lnTo>
                        <a:pt x="86" y="23"/>
                      </a:lnTo>
                      <a:lnTo>
                        <a:pt x="99" y="23"/>
                      </a:lnTo>
                      <a:lnTo>
                        <a:pt x="116" y="27"/>
                      </a:lnTo>
                      <a:lnTo>
                        <a:pt x="129" y="30"/>
                      </a:lnTo>
                      <a:lnTo>
                        <a:pt x="142" y="30"/>
                      </a:lnTo>
                      <a:lnTo>
                        <a:pt x="159" y="38"/>
                      </a:lnTo>
                      <a:lnTo>
                        <a:pt x="163" y="49"/>
                      </a:lnTo>
                      <a:lnTo>
                        <a:pt x="163" y="61"/>
                      </a:lnTo>
                      <a:lnTo>
                        <a:pt x="163" y="72"/>
                      </a:lnTo>
                      <a:lnTo>
                        <a:pt x="176" y="80"/>
                      </a:lnTo>
                      <a:lnTo>
                        <a:pt x="184" y="91"/>
                      </a:lnTo>
                      <a:lnTo>
                        <a:pt x="197" y="102"/>
                      </a:lnTo>
                      <a:lnTo>
                        <a:pt x="202" y="114"/>
                      </a:lnTo>
                      <a:lnTo>
                        <a:pt x="202" y="125"/>
                      </a:lnTo>
                      <a:lnTo>
                        <a:pt x="202" y="136"/>
                      </a:lnTo>
                      <a:lnTo>
                        <a:pt x="202" y="148"/>
                      </a:lnTo>
                      <a:lnTo>
                        <a:pt x="193" y="159"/>
                      </a:lnTo>
                      <a:lnTo>
                        <a:pt x="210" y="168"/>
                      </a:lnTo>
                      <a:lnTo>
                        <a:pt x="223" y="168"/>
                      </a:lnTo>
                      <a:lnTo>
                        <a:pt x="210" y="168"/>
                      </a:lnTo>
                      <a:lnTo>
                        <a:pt x="193" y="168"/>
                      </a:lnTo>
                      <a:lnTo>
                        <a:pt x="176" y="168"/>
                      </a:lnTo>
                      <a:lnTo>
                        <a:pt x="159" y="168"/>
                      </a:lnTo>
                      <a:lnTo>
                        <a:pt x="142" y="167"/>
                      </a:lnTo>
                      <a:lnTo>
                        <a:pt x="129" y="163"/>
                      </a:lnTo>
                      <a:lnTo>
                        <a:pt x="116" y="163"/>
                      </a:lnTo>
                      <a:lnTo>
                        <a:pt x="103" y="167"/>
                      </a:lnTo>
                      <a:lnTo>
                        <a:pt x="90" y="167"/>
                      </a:lnTo>
                      <a:lnTo>
                        <a:pt x="73" y="168"/>
                      </a:lnTo>
                      <a:lnTo>
                        <a:pt x="56" y="168"/>
                      </a:lnTo>
                      <a:lnTo>
                        <a:pt x="39" y="167"/>
                      </a:lnTo>
                      <a:lnTo>
                        <a:pt x="26" y="167"/>
                      </a:lnTo>
                      <a:lnTo>
                        <a:pt x="13" y="167"/>
                      </a:lnTo>
                      <a:lnTo>
                        <a:pt x="0" y="167"/>
                      </a:lnTo>
                      <a:lnTo>
                        <a:pt x="0" y="155"/>
                      </a:lnTo>
                      <a:lnTo>
                        <a:pt x="0" y="144"/>
                      </a:lnTo>
                      <a:lnTo>
                        <a:pt x="0" y="129"/>
                      </a:lnTo>
                      <a:lnTo>
                        <a:pt x="4" y="117"/>
                      </a:lnTo>
                      <a:lnTo>
                        <a:pt x="0" y="106"/>
                      </a:lnTo>
                      <a:lnTo>
                        <a:pt x="0" y="95"/>
                      </a:lnTo>
                      <a:lnTo>
                        <a:pt x="0" y="83"/>
                      </a:lnTo>
                      <a:lnTo>
                        <a:pt x="0" y="72"/>
                      </a:lnTo>
                      <a:lnTo>
                        <a:pt x="0" y="61"/>
                      </a:lnTo>
                      <a:lnTo>
                        <a:pt x="0" y="45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0" y="11"/>
                      </a:lnTo>
                      <a:lnTo>
                        <a:pt x="13" y="4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4ecfd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062080" y="3878280"/>
                  <a:ext cx="266400" cy="269640"/>
                </a:xfrm>
                <a:custGeom>
                  <a:avLst/>
                  <a:gdLst>
                    <a:gd name="textAreaLeft" fmla="*/ 9720 w 266400"/>
                    <a:gd name="textAreaRight" fmla="*/ 256680 w 266400"/>
                    <a:gd name="textAreaTop" fmla="*/ 9720 h 269640"/>
                    <a:gd name="textAreaBottom" fmla="*/ 259920 h 269640"/>
                  </a:gdLst>
                  <a:ahLst/>
                  <a:rect l="textAreaLeft" t="textAreaTop" r="textAreaRight" b="textAreaBottom"/>
                  <a:pathLst>
                    <a:path w="21600" h="21862">
                      <a:moveTo>
                        <a:pt x="2699" y="0"/>
                      </a:moveTo>
                      <a:arcTo wR="2699" hR="2699" stAng="16200000" swAng="-5400000"/>
                      <a:lnTo>
                        <a:pt x="0" y="19163"/>
                      </a:lnTo>
                      <a:arcTo wR="2699" hR="2699" stAng="10800000" swAng="-5400000"/>
                      <a:lnTo>
                        <a:pt x="18901" y="21862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ae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99192" dir="3018055" blurRad="0" rotWithShape="0">
                    <a:srgbClr val="31650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100960" y="3740760"/>
                  <a:ext cx="251280" cy="3535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037240" y="3709440"/>
                  <a:ext cx="207000" cy="357480"/>
                </a:xfrm>
                <a:custGeom>
                  <a:avLst/>
                  <a:gdLst/>
                  <a:ahLst/>
                  <a:rect l="l" t="t" r="r" b="b"/>
                  <a:pathLst>
                    <a:path w="473" h="273">
                      <a:moveTo>
                        <a:pt x="47" y="71"/>
                      </a:moveTo>
                      <a:lnTo>
                        <a:pt x="31" y="76"/>
                      </a:lnTo>
                      <a:lnTo>
                        <a:pt x="18" y="85"/>
                      </a:lnTo>
                      <a:lnTo>
                        <a:pt x="8" y="97"/>
                      </a:lnTo>
                      <a:lnTo>
                        <a:pt x="2" y="111"/>
                      </a:lnTo>
                      <a:lnTo>
                        <a:pt x="0" y="125"/>
                      </a:lnTo>
                      <a:lnTo>
                        <a:pt x="0" y="132"/>
                      </a:lnTo>
                      <a:lnTo>
                        <a:pt x="2" y="140"/>
                      </a:lnTo>
                      <a:lnTo>
                        <a:pt x="8" y="154"/>
                      </a:lnTo>
                      <a:lnTo>
                        <a:pt x="18" y="167"/>
                      </a:lnTo>
                      <a:lnTo>
                        <a:pt x="13" y="186"/>
                      </a:lnTo>
                      <a:lnTo>
                        <a:pt x="13" y="195"/>
                      </a:lnTo>
                      <a:lnTo>
                        <a:pt x="15" y="204"/>
                      </a:lnTo>
                      <a:lnTo>
                        <a:pt x="23" y="219"/>
                      </a:lnTo>
                      <a:lnTo>
                        <a:pt x="37" y="232"/>
                      </a:lnTo>
                      <a:lnTo>
                        <a:pt x="53" y="240"/>
                      </a:lnTo>
                      <a:lnTo>
                        <a:pt x="71" y="243"/>
                      </a:lnTo>
                      <a:lnTo>
                        <a:pt x="90" y="239"/>
                      </a:lnTo>
                      <a:lnTo>
                        <a:pt x="108" y="229"/>
                      </a:lnTo>
                      <a:lnTo>
                        <a:pt x="135" y="245"/>
                      </a:lnTo>
                      <a:lnTo>
                        <a:pt x="165" y="254"/>
                      </a:lnTo>
                      <a:lnTo>
                        <a:pt x="181" y="255"/>
                      </a:lnTo>
                      <a:lnTo>
                        <a:pt x="189" y="255"/>
                      </a:lnTo>
                      <a:lnTo>
                        <a:pt x="197" y="254"/>
                      </a:lnTo>
                      <a:lnTo>
                        <a:pt x="228" y="245"/>
                      </a:lnTo>
                      <a:lnTo>
                        <a:pt x="247" y="258"/>
                      </a:lnTo>
                      <a:lnTo>
                        <a:pt x="269" y="266"/>
                      </a:lnTo>
                      <a:lnTo>
                        <a:pt x="291" y="271"/>
                      </a:lnTo>
                      <a:lnTo>
                        <a:pt x="303" y="272"/>
                      </a:lnTo>
                      <a:lnTo>
                        <a:pt x="308" y="272"/>
                      </a:lnTo>
                      <a:lnTo>
                        <a:pt x="314" y="272"/>
                      </a:lnTo>
                      <a:lnTo>
                        <a:pt x="359" y="262"/>
                      </a:lnTo>
                      <a:lnTo>
                        <a:pt x="379" y="251"/>
                      </a:lnTo>
                      <a:lnTo>
                        <a:pt x="398" y="235"/>
                      </a:lnTo>
                      <a:lnTo>
                        <a:pt x="410" y="237"/>
                      </a:lnTo>
                      <a:lnTo>
                        <a:pt x="415" y="237"/>
                      </a:lnTo>
                      <a:lnTo>
                        <a:pt x="421" y="236"/>
                      </a:lnTo>
                      <a:lnTo>
                        <a:pt x="440" y="230"/>
                      </a:lnTo>
                      <a:lnTo>
                        <a:pt x="456" y="218"/>
                      </a:lnTo>
                      <a:lnTo>
                        <a:pt x="467" y="202"/>
                      </a:lnTo>
                      <a:lnTo>
                        <a:pt x="472" y="184"/>
                      </a:lnTo>
                      <a:lnTo>
                        <a:pt x="472" y="175"/>
                      </a:lnTo>
                      <a:lnTo>
                        <a:pt x="470" y="165"/>
                      </a:lnTo>
                      <a:lnTo>
                        <a:pt x="462" y="147"/>
                      </a:lnTo>
                      <a:lnTo>
                        <a:pt x="445" y="132"/>
                      </a:lnTo>
                      <a:lnTo>
                        <a:pt x="455" y="121"/>
                      </a:lnTo>
                      <a:lnTo>
                        <a:pt x="459" y="109"/>
                      </a:lnTo>
                      <a:lnTo>
                        <a:pt x="460" y="104"/>
                      </a:lnTo>
                      <a:lnTo>
                        <a:pt x="459" y="98"/>
                      </a:lnTo>
                      <a:lnTo>
                        <a:pt x="454" y="86"/>
                      </a:lnTo>
                      <a:lnTo>
                        <a:pt x="446" y="78"/>
                      </a:lnTo>
                      <a:lnTo>
                        <a:pt x="435" y="71"/>
                      </a:lnTo>
                      <a:lnTo>
                        <a:pt x="422" y="69"/>
                      </a:lnTo>
                      <a:lnTo>
                        <a:pt x="419" y="69"/>
                      </a:lnTo>
                      <a:lnTo>
                        <a:pt x="415" y="69"/>
                      </a:lnTo>
                      <a:lnTo>
                        <a:pt x="408" y="71"/>
                      </a:lnTo>
                      <a:lnTo>
                        <a:pt x="385" y="52"/>
                      </a:lnTo>
                      <a:lnTo>
                        <a:pt x="357" y="40"/>
                      </a:lnTo>
                      <a:lnTo>
                        <a:pt x="343" y="38"/>
                      </a:lnTo>
                      <a:lnTo>
                        <a:pt x="335" y="37"/>
                      </a:lnTo>
                      <a:lnTo>
                        <a:pt x="331" y="37"/>
                      </a:lnTo>
                      <a:lnTo>
                        <a:pt x="327" y="37"/>
                      </a:lnTo>
                      <a:lnTo>
                        <a:pt x="297" y="43"/>
                      </a:lnTo>
                      <a:lnTo>
                        <a:pt x="283" y="25"/>
                      </a:lnTo>
                      <a:lnTo>
                        <a:pt x="265" y="11"/>
                      </a:lnTo>
                      <a:lnTo>
                        <a:pt x="245" y="3"/>
                      </a:lnTo>
                      <a:lnTo>
                        <a:pt x="223" y="0"/>
                      </a:lnTo>
                      <a:lnTo>
                        <a:pt x="217" y="0"/>
                      </a:lnTo>
                      <a:lnTo>
                        <a:pt x="212" y="0"/>
                      </a:lnTo>
                      <a:lnTo>
                        <a:pt x="200" y="3"/>
                      </a:lnTo>
                      <a:lnTo>
                        <a:pt x="180" y="11"/>
                      </a:lnTo>
                      <a:lnTo>
                        <a:pt x="162" y="24"/>
                      </a:lnTo>
                      <a:lnTo>
                        <a:pt x="148" y="43"/>
                      </a:lnTo>
                      <a:lnTo>
                        <a:pt x="135" y="32"/>
                      </a:lnTo>
                      <a:lnTo>
                        <a:pt x="120" y="25"/>
                      </a:lnTo>
                      <a:lnTo>
                        <a:pt x="104" y="23"/>
                      </a:lnTo>
                      <a:lnTo>
                        <a:pt x="100" y="23"/>
                      </a:lnTo>
                      <a:lnTo>
                        <a:pt x="96" y="23"/>
                      </a:lnTo>
                      <a:lnTo>
                        <a:pt x="88" y="25"/>
                      </a:lnTo>
                      <a:lnTo>
                        <a:pt x="73" y="31"/>
                      </a:lnTo>
                      <a:lnTo>
                        <a:pt x="61" y="41"/>
                      </a:lnTo>
                      <a:lnTo>
                        <a:pt x="52" y="54"/>
                      </a:lnTo>
                      <a:lnTo>
                        <a:pt x="47" y="71"/>
                      </a:lnTo>
                      <a:lnTo>
                        <a:pt x="47" y="71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075040" y="3444840"/>
                  <a:ext cx="160560" cy="521280"/>
                </a:xfrm>
                <a:custGeom>
                  <a:avLst/>
                  <a:gdLst/>
                  <a:ahLst/>
                  <a:rect l="l" t="t" r="r" b="b"/>
                  <a:pathLst>
                    <a:path w="368" h="398">
                      <a:moveTo>
                        <a:pt x="95" y="358"/>
                      </a:moveTo>
                      <a:lnTo>
                        <a:pt x="103" y="371"/>
                      </a:lnTo>
                      <a:lnTo>
                        <a:pt x="115" y="382"/>
                      </a:lnTo>
                      <a:lnTo>
                        <a:pt x="131" y="390"/>
                      </a:lnTo>
                      <a:lnTo>
                        <a:pt x="149" y="395"/>
                      </a:lnTo>
                      <a:lnTo>
                        <a:pt x="169" y="397"/>
                      </a:lnTo>
                      <a:lnTo>
                        <a:pt x="178" y="397"/>
                      </a:lnTo>
                      <a:lnTo>
                        <a:pt x="189" y="395"/>
                      </a:lnTo>
                      <a:lnTo>
                        <a:pt x="208" y="390"/>
                      </a:lnTo>
                      <a:lnTo>
                        <a:pt x="225" y="382"/>
                      </a:lnTo>
                      <a:lnTo>
                        <a:pt x="251" y="386"/>
                      </a:lnTo>
                      <a:lnTo>
                        <a:pt x="263" y="386"/>
                      </a:lnTo>
                      <a:lnTo>
                        <a:pt x="275" y="384"/>
                      </a:lnTo>
                      <a:lnTo>
                        <a:pt x="296" y="377"/>
                      </a:lnTo>
                      <a:lnTo>
                        <a:pt x="313" y="366"/>
                      </a:lnTo>
                      <a:lnTo>
                        <a:pt x="324" y="352"/>
                      </a:lnTo>
                      <a:lnTo>
                        <a:pt x="327" y="337"/>
                      </a:lnTo>
                      <a:lnTo>
                        <a:pt x="323" y="321"/>
                      </a:lnTo>
                      <a:lnTo>
                        <a:pt x="308" y="306"/>
                      </a:lnTo>
                      <a:lnTo>
                        <a:pt x="331" y="284"/>
                      </a:lnTo>
                      <a:lnTo>
                        <a:pt x="343" y="258"/>
                      </a:lnTo>
                      <a:lnTo>
                        <a:pt x="344" y="245"/>
                      </a:lnTo>
                      <a:lnTo>
                        <a:pt x="344" y="238"/>
                      </a:lnTo>
                      <a:lnTo>
                        <a:pt x="343" y="231"/>
                      </a:lnTo>
                      <a:lnTo>
                        <a:pt x="331" y="205"/>
                      </a:lnTo>
                      <a:lnTo>
                        <a:pt x="348" y="189"/>
                      </a:lnTo>
                      <a:lnTo>
                        <a:pt x="359" y="171"/>
                      </a:lnTo>
                      <a:lnTo>
                        <a:pt x="365" y="152"/>
                      </a:lnTo>
                      <a:lnTo>
                        <a:pt x="367" y="143"/>
                      </a:lnTo>
                      <a:lnTo>
                        <a:pt x="367" y="138"/>
                      </a:lnTo>
                      <a:lnTo>
                        <a:pt x="367" y="133"/>
                      </a:lnTo>
                      <a:lnTo>
                        <a:pt x="353" y="95"/>
                      </a:lnTo>
                      <a:lnTo>
                        <a:pt x="338" y="78"/>
                      </a:lnTo>
                      <a:lnTo>
                        <a:pt x="318" y="62"/>
                      </a:lnTo>
                      <a:lnTo>
                        <a:pt x="319" y="53"/>
                      </a:lnTo>
                      <a:lnTo>
                        <a:pt x="319" y="48"/>
                      </a:lnTo>
                      <a:lnTo>
                        <a:pt x="319" y="43"/>
                      </a:lnTo>
                      <a:lnTo>
                        <a:pt x="310" y="27"/>
                      </a:lnTo>
                      <a:lnTo>
                        <a:pt x="294" y="14"/>
                      </a:lnTo>
                      <a:lnTo>
                        <a:pt x="273" y="5"/>
                      </a:lnTo>
                      <a:lnTo>
                        <a:pt x="249" y="0"/>
                      </a:lnTo>
                      <a:lnTo>
                        <a:pt x="236" y="0"/>
                      </a:lnTo>
                      <a:lnTo>
                        <a:pt x="223" y="1"/>
                      </a:lnTo>
                      <a:lnTo>
                        <a:pt x="199" y="9"/>
                      </a:lnTo>
                      <a:lnTo>
                        <a:pt x="178" y="22"/>
                      </a:lnTo>
                      <a:lnTo>
                        <a:pt x="164" y="14"/>
                      </a:lnTo>
                      <a:lnTo>
                        <a:pt x="148" y="11"/>
                      </a:lnTo>
                      <a:lnTo>
                        <a:pt x="140" y="10"/>
                      </a:lnTo>
                      <a:lnTo>
                        <a:pt x="132" y="11"/>
                      </a:lnTo>
                      <a:lnTo>
                        <a:pt x="117" y="15"/>
                      </a:lnTo>
                      <a:lnTo>
                        <a:pt x="105" y="22"/>
                      </a:lnTo>
                      <a:lnTo>
                        <a:pt x="96" y="31"/>
                      </a:lnTo>
                      <a:lnTo>
                        <a:pt x="93" y="42"/>
                      </a:lnTo>
                      <a:lnTo>
                        <a:pt x="93" y="45"/>
                      </a:lnTo>
                      <a:lnTo>
                        <a:pt x="93" y="48"/>
                      </a:lnTo>
                      <a:lnTo>
                        <a:pt x="96" y="54"/>
                      </a:lnTo>
                      <a:lnTo>
                        <a:pt x="70" y="73"/>
                      </a:lnTo>
                      <a:lnTo>
                        <a:pt x="54" y="96"/>
                      </a:lnTo>
                      <a:lnTo>
                        <a:pt x="51" y="109"/>
                      </a:lnTo>
                      <a:lnTo>
                        <a:pt x="50" y="115"/>
                      </a:lnTo>
                      <a:lnTo>
                        <a:pt x="50" y="118"/>
                      </a:lnTo>
                      <a:lnTo>
                        <a:pt x="50" y="122"/>
                      </a:lnTo>
                      <a:lnTo>
                        <a:pt x="59" y="147"/>
                      </a:lnTo>
                      <a:lnTo>
                        <a:pt x="33" y="159"/>
                      </a:lnTo>
                      <a:lnTo>
                        <a:pt x="15" y="174"/>
                      </a:lnTo>
                      <a:lnTo>
                        <a:pt x="4" y="191"/>
                      </a:lnTo>
                      <a:lnTo>
                        <a:pt x="0" y="210"/>
                      </a:lnTo>
                      <a:lnTo>
                        <a:pt x="0" y="214"/>
                      </a:lnTo>
                      <a:lnTo>
                        <a:pt x="1" y="219"/>
                      </a:lnTo>
                      <a:lnTo>
                        <a:pt x="4" y="228"/>
                      </a:lnTo>
                      <a:lnTo>
                        <a:pt x="14" y="246"/>
                      </a:lnTo>
                      <a:lnTo>
                        <a:pt x="33" y="261"/>
                      </a:lnTo>
                      <a:lnTo>
                        <a:pt x="59" y="273"/>
                      </a:lnTo>
                      <a:lnTo>
                        <a:pt x="43" y="283"/>
                      </a:lnTo>
                      <a:lnTo>
                        <a:pt x="34" y="296"/>
                      </a:lnTo>
                      <a:lnTo>
                        <a:pt x="31" y="309"/>
                      </a:lnTo>
                      <a:lnTo>
                        <a:pt x="31" y="313"/>
                      </a:lnTo>
                      <a:lnTo>
                        <a:pt x="31" y="316"/>
                      </a:lnTo>
                      <a:lnTo>
                        <a:pt x="34" y="323"/>
                      </a:lnTo>
                      <a:lnTo>
                        <a:pt x="42" y="335"/>
                      </a:lnTo>
                      <a:lnTo>
                        <a:pt x="55" y="346"/>
                      </a:lnTo>
                      <a:lnTo>
                        <a:pt x="73" y="354"/>
                      </a:lnTo>
                      <a:lnTo>
                        <a:pt x="95" y="357"/>
                      </a:lnTo>
                      <a:lnTo>
                        <a:pt x="95" y="358"/>
                      </a:lnTo>
                    </a:path>
                  </a:pathLst>
                </a:custGeom>
                <a:gradFill rotWithShape="0">
                  <a:gsLst>
                    <a:gs pos="0">
                      <a:srgbClr val="e4e4e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115720" y="3638160"/>
                  <a:ext cx="322920" cy="428400"/>
                </a:xfrm>
                <a:custGeom>
                  <a:avLst/>
                  <a:gdLst/>
                  <a:ahLst/>
                  <a:rect l="l" t="t" r="r" b="b"/>
                  <a:pathLst>
                    <a:path w="738" h="327">
                      <a:moveTo>
                        <a:pt x="73" y="85"/>
                      </a:moveTo>
                      <a:lnTo>
                        <a:pt x="48" y="91"/>
                      </a:lnTo>
                      <a:lnTo>
                        <a:pt x="28" y="102"/>
                      </a:lnTo>
                      <a:lnTo>
                        <a:pt x="13" y="116"/>
                      </a:lnTo>
                      <a:lnTo>
                        <a:pt x="3" y="133"/>
                      </a:lnTo>
                      <a:lnTo>
                        <a:pt x="0" y="150"/>
                      </a:lnTo>
                      <a:lnTo>
                        <a:pt x="1" y="158"/>
                      </a:lnTo>
                      <a:lnTo>
                        <a:pt x="3" y="168"/>
                      </a:lnTo>
                      <a:lnTo>
                        <a:pt x="12" y="185"/>
                      </a:lnTo>
                      <a:lnTo>
                        <a:pt x="29" y="200"/>
                      </a:lnTo>
                      <a:lnTo>
                        <a:pt x="20" y="223"/>
                      </a:lnTo>
                      <a:lnTo>
                        <a:pt x="21" y="234"/>
                      </a:lnTo>
                      <a:lnTo>
                        <a:pt x="24" y="244"/>
                      </a:lnTo>
                      <a:lnTo>
                        <a:pt x="37" y="263"/>
                      </a:lnTo>
                      <a:lnTo>
                        <a:pt x="57" y="278"/>
                      </a:lnTo>
                      <a:lnTo>
                        <a:pt x="83" y="287"/>
                      </a:lnTo>
                      <a:lnTo>
                        <a:pt x="111" y="291"/>
                      </a:lnTo>
                      <a:lnTo>
                        <a:pt x="141" y="287"/>
                      </a:lnTo>
                      <a:lnTo>
                        <a:pt x="169" y="274"/>
                      </a:lnTo>
                      <a:lnTo>
                        <a:pt x="211" y="294"/>
                      </a:lnTo>
                      <a:lnTo>
                        <a:pt x="258" y="305"/>
                      </a:lnTo>
                      <a:lnTo>
                        <a:pt x="282" y="306"/>
                      </a:lnTo>
                      <a:lnTo>
                        <a:pt x="295" y="306"/>
                      </a:lnTo>
                      <a:lnTo>
                        <a:pt x="307" y="305"/>
                      </a:lnTo>
                      <a:lnTo>
                        <a:pt x="356" y="294"/>
                      </a:lnTo>
                      <a:lnTo>
                        <a:pt x="386" y="309"/>
                      </a:lnTo>
                      <a:lnTo>
                        <a:pt x="420" y="319"/>
                      </a:lnTo>
                      <a:lnTo>
                        <a:pt x="455" y="325"/>
                      </a:lnTo>
                      <a:lnTo>
                        <a:pt x="472" y="326"/>
                      </a:lnTo>
                      <a:lnTo>
                        <a:pt x="481" y="326"/>
                      </a:lnTo>
                      <a:lnTo>
                        <a:pt x="491" y="326"/>
                      </a:lnTo>
                      <a:lnTo>
                        <a:pt x="560" y="314"/>
                      </a:lnTo>
                      <a:lnTo>
                        <a:pt x="592" y="300"/>
                      </a:lnTo>
                      <a:lnTo>
                        <a:pt x="621" y="282"/>
                      </a:lnTo>
                      <a:lnTo>
                        <a:pt x="639" y="284"/>
                      </a:lnTo>
                      <a:lnTo>
                        <a:pt x="648" y="284"/>
                      </a:lnTo>
                      <a:lnTo>
                        <a:pt x="657" y="283"/>
                      </a:lnTo>
                      <a:lnTo>
                        <a:pt x="688" y="276"/>
                      </a:lnTo>
                      <a:lnTo>
                        <a:pt x="712" y="262"/>
                      </a:lnTo>
                      <a:lnTo>
                        <a:pt x="729" y="242"/>
                      </a:lnTo>
                      <a:lnTo>
                        <a:pt x="736" y="221"/>
                      </a:lnTo>
                      <a:lnTo>
                        <a:pt x="737" y="210"/>
                      </a:lnTo>
                      <a:lnTo>
                        <a:pt x="735" y="198"/>
                      </a:lnTo>
                      <a:lnTo>
                        <a:pt x="721" y="177"/>
                      </a:lnTo>
                      <a:lnTo>
                        <a:pt x="695" y="158"/>
                      </a:lnTo>
                      <a:lnTo>
                        <a:pt x="710" y="145"/>
                      </a:lnTo>
                      <a:lnTo>
                        <a:pt x="717" y="131"/>
                      </a:lnTo>
                      <a:lnTo>
                        <a:pt x="718" y="124"/>
                      </a:lnTo>
                      <a:lnTo>
                        <a:pt x="717" y="117"/>
                      </a:lnTo>
                      <a:lnTo>
                        <a:pt x="709" y="104"/>
                      </a:lnTo>
                      <a:lnTo>
                        <a:pt x="697" y="93"/>
                      </a:lnTo>
                      <a:lnTo>
                        <a:pt x="680" y="85"/>
                      </a:lnTo>
                      <a:lnTo>
                        <a:pt x="659" y="82"/>
                      </a:lnTo>
                      <a:lnTo>
                        <a:pt x="654" y="82"/>
                      </a:lnTo>
                      <a:lnTo>
                        <a:pt x="648" y="83"/>
                      </a:lnTo>
                      <a:lnTo>
                        <a:pt x="636" y="85"/>
                      </a:lnTo>
                      <a:lnTo>
                        <a:pt x="601" y="62"/>
                      </a:lnTo>
                      <a:lnTo>
                        <a:pt x="558" y="48"/>
                      </a:lnTo>
                      <a:lnTo>
                        <a:pt x="535" y="45"/>
                      </a:lnTo>
                      <a:lnTo>
                        <a:pt x="523" y="45"/>
                      </a:lnTo>
                      <a:lnTo>
                        <a:pt x="517" y="45"/>
                      </a:lnTo>
                      <a:lnTo>
                        <a:pt x="511" y="44"/>
                      </a:lnTo>
                      <a:lnTo>
                        <a:pt x="464" y="52"/>
                      </a:lnTo>
                      <a:lnTo>
                        <a:pt x="443" y="30"/>
                      </a:lnTo>
                      <a:lnTo>
                        <a:pt x="414" y="13"/>
                      </a:lnTo>
                      <a:lnTo>
                        <a:pt x="382" y="4"/>
                      </a:lnTo>
                      <a:lnTo>
                        <a:pt x="348" y="0"/>
                      </a:lnTo>
                      <a:lnTo>
                        <a:pt x="339" y="0"/>
                      </a:lnTo>
                      <a:lnTo>
                        <a:pt x="330" y="1"/>
                      </a:lnTo>
                      <a:lnTo>
                        <a:pt x="313" y="3"/>
                      </a:lnTo>
                      <a:lnTo>
                        <a:pt x="281" y="13"/>
                      </a:lnTo>
                      <a:lnTo>
                        <a:pt x="253" y="29"/>
                      </a:lnTo>
                      <a:lnTo>
                        <a:pt x="231" y="52"/>
                      </a:lnTo>
                      <a:lnTo>
                        <a:pt x="211" y="38"/>
                      </a:lnTo>
                      <a:lnTo>
                        <a:pt x="188" y="30"/>
                      </a:lnTo>
                      <a:lnTo>
                        <a:pt x="163" y="27"/>
                      </a:lnTo>
                      <a:lnTo>
                        <a:pt x="157" y="27"/>
                      </a:lnTo>
                      <a:lnTo>
                        <a:pt x="150" y="28"/>
                      </a:lnTo>
                      <a:lnTo>
                        <a:pt x="137" y="30"/>
                      </a:lnTo>
                      <a:lnTo>
                        <a:pt x="115" y="37"/>
                      </a:lnTo>
                      <a:lnTo>
                        <a:pt x="95" y="49"/>
                      </a:lnTo>
                      <a:lnTo>
                        <a:pt x="81" y="65"/>
                      </a:lnTo>
                      <a:lnTo>
                        <a:pt x="74" y="85"/>
                      </a:lnTo>
                      <a:lnTo>
                        <a:pt x="73" y="85"/>
                      </a:lnTo>
                    </a:path>
                  </a:pathLst>
                </a:custGeom>
                <a:gradFill rotWithShape="0">
                  <a:gsLst>
                    <a:gs pos="0">
                      <a:srgbClr val="e4e4e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103840" y="3510000"/>
                  <a:ext cx="133920" cy="403200"/>
                </a:xfrm>
                <a:custGeom>
                  <a:avLst/>
                  <a:gdLst/>
                  <a:ahLst/>
                  <a:rect l="l" t="t" r="r" b="b"/>
                  <a:pathLst>
                    <a:path w="306" h="308">
                      <a:moveTo>
                        <a:pt x="79" y="277"/>
                      </a:moveTo>
                      <a:lnTo>
                        <a:pt x="85" y="287"/>
                      </a:lnTo>
                      <a:lnTo>
                        <a:pt x="96" y="295"/>
                      </a:lnTo>
                      <a:lnTo>
                        <a:pt x="108" y="302"/>
                      </a:lnTo>
                      <a:lnTo>
                        <a:pt x="124" y="306"/>
                      </a:lnTo>
                      <a:lnTo>
                        <a:pt x="140" y="307"/>
                      </a:lnTo>
                      <a:lnTo>
                        <a:pt x="148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7" y="295"/>
                      </a:lnTo>
                      <a:lnTo>
                        <a:pt x="208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6" y="292"/>
                      </a:lnTo>
                      <a:lnTo>
                        <a:pt x="260" y="283"/>
                      </a:lnTo>
                      <a:lnTo>
                        <a:pt x="269" y="273"/>
                      </a:lnTo>
                      <a:lnTo>
                        <a:pt x="272" y="261"/>
                      </a:lnTo>
                      <a:lnTo>
                        <a:pt x="269" y="248"/>
                      </a:lnTo>
                      <a:lnTo>
                        <a:pt x="256" y="236"/>
                      </a:lnTo>
                      <a:lnTo>
                        <a:pt x="275" y="219"/>
                      </a:lnTo>
                      <a:lnTo>
                        <a:pt x="285" y="199"/>
                      </a:lnTo>
                      <a:lnTo>
                        <a:pt x="286" y="189"/>
                      </a:lnTo>
                      <a:lnTo>
                        <a:pt x="286" y="184"/>
                      </a:lnTo>
                      <a:lnTo>
                        <a:pt x="285" y="179"/>
                      </a:lnTo>
                      <a:lnTo>
                        <a:pt x="275" y="159"/>
                      </a:lnTo>
                      <a:lnTo>
                        <a:pt x="289" y="146"/>
                      </a:lnTo>
                      <a:lnTo>
                        <a:pt x="299" y="132"/>
                      </a:lnTo>
                      <a:lnTo>
                        <a:pt x="304" y="118"/>
                      </a:lnTo>
                      <a:lnTo>
                        <a:pt x="305" y="110"/>
                      </a:lnTo>
                      <a:lnTo>
                        <a:pt x="305" y="106"/>
                      </a:lnTo>
                      <a:lnTo>
                        <a:pt x="305" y="103"/>
                      </a:lnTo>
                      <a:lnTo>
                        <a:pt x="293" y="74"/>
                      </a:lnTo>
                      <a:lnTo>
                        <a:pt x="281" y="60"/>
                      </a:lnTo>
                      <a:lnTo>
                        <a:pt x="264" y="48"/>
                      </a:lnTo>
                      <a:lnTo>
                        <a:pt x="265" y="41"/>
                      </a:lnTo>
                      <a:lnTo>
                        <a:pt x="265" y="37"/>
                      </a:lnTo>
                      <a:lnTo>
                        <a:pt x="265" y="33"/>
                      </a:lnTo>
                      <a:lnTo>
                        <a:pt x="258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6" y="0"/>
                      </a:lnTo>
                      <a:lnTo>
                        <a:pt x="185" y="1"/>
                      </a:lnTo>
                      <a:lnTo>
                        <a:pt x="165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6" y="8"/>
                      </a:lnTo>
                      <a:lnTo>
                        <a:pt x="109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7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79" y="276"/>
                      </a:lnTo>
                      <a:lnTo>
                        <a:pt x="79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107440" y="3679200"/>
                  <a:ext cx="134280" cy="403200"/>
                </a:xfrm>
                <a:custGeom>
                  <a:avLst/>
                  <a:gdLst/>
                  <a:ahLst/>
                  <a:rect l="l" t="t" r="r" b="b"/>
                  <a:pathLst>
                    <a:path w="307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4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8" y="295"/>
                      </a:lnTo>
                      <a:lnTo>
                        <a:pt x="209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0" y="273"/>
                      </a:lnTo>
                      <a:lnTo>
                        <a:pt x="273" y="261"/>
                      </a:lnTo>
                      <a:lnTo>
                        <a:pt x="269" y="248"/>
                      </a:lnTo>
                      <a:lnTo>
                        <a:pt x="257" y="236"/>
                      </a:lnTo>
                      <a:lnTo>
                        <a:pt x="276" y="219"/>
                      </a:lnTo>
                      <a:lnTo>
                        <a:pt x="286" y="199"/>
                      </a:lnTo>
                      <a:lnTo>
                        <a:pt x="287" y="189"/>
                      </a:lnTo>
                      <a:lnTo>
                        <a:pt x="287" y="184"/>
                      </a:lnTo>
                      <a:lnTo>
                        <a:pt x="286" y="179"/>
                      </a:lnTo>
                      <a:lnTo>
                        <a:pt x="276" y="159"/>
                      </a:lnTo>
                      <a:lnTo>
                        <a:pt x="290" y="146"/>
                      </a:lnTo>
                      <a:lnTo>
                        <a:pt x="300" y="132"/>
                      </a:lnTo>
                      <a:lnTo>
                        <a:pt x="305" y="118"/>
                      </a:lnTo>
                      <a:lnTo>
                        <a:pt x="306" y="110"/>
                      </a:lnTo>
                      <a:lnTo>
                        <a:pt x="306" y="106"/>
                      </a:lnTo>
                      <a:lnTo>
                        <a:pt x="306" y="103"/>
                      </a:lnTo>
                      <a:lnTo>
                        <a:pt x="294" y="74"/>
                      </a:lnTo>
                      <a:lnTo>
                        <a:pt x="282" y="60"/>
                      </a:lnTo>
                      <a:lnTo>
                        <a:pt x="265" y="48"/>
                      </a:lnTo>
                      <a:lnTo>
                        <a:pt x="266" y="41"/>
                      </a:lnTo>
                      <a:lnTo>
                        <a:pt x="266" y="37"/>
                      </a:lnTo>
                      <a:lnTo>
                        <a:pt x="266" y="33"/>
                      </a:lnTo>
                      <a:lnTo>
                        <a:pt x="259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7" y="0"/>
                      </a:lnTo>
                      <a:lnTo>
                        <a:pt x="186" y="1"/>
                      </a:lnTo>
                      <a:lnTo>
                        <a:pt x="166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48560" y="3780000"/>
                  <a:ext cx="134640" cy="40320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5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8" y="306"/>
                      </a:lnTo>
                      <a:lnTo>
                        <a:pt x="174" y="302"/>
                      </a:lnTo>
                      <a:lnTo>
                        <a:pt x="188" y="295"/>
                      </a:lnTo>
                      <a:lnTo>
                        <a:pt x="210" y="298"/>
                      </a:lnTo>
                      <a:lnTo>
                        <a:pt x="220" y="298"/>
                      </a:lnTo>
                      <a:lnTo>
                        <a:pt x="230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1" y="273"/>
                      </a:lnTo>
                      <a:lnTo>
                        <a:pt x="274" y="261"/>
                      </a:lnTo>
                      <a:lnTo>
                        <a:pt x="270" y="248"/>
                      </a:lnTo>
                      <a:lnTo>
                        <a:pt x="258" y="236"/>
                      </a:lnTo>
                      <a:lnTo>
                        <a:pt x="277" y="219"/>
                      </a:lnTo>
                      <a:lnTo>
                        <a:pt x="287" y="199"/>
                      </a:lnTo>
                      <a:lnTo>
                        <a:pt x="288" y="189"/>
                      </a:lnTo>
                      <a:lnTo>
                        <a:pt x="288" y="184"/>
                      </a:lnTo>
                      <a:lnTo>
                        <a:pt x="287" y="179"/>
                      </a:lnTo>
                      <a:lnTo>
                        <a:pt x="277" y="159"/>
                      </a:lnTo>
                      <a:lnTo>
                        <a:pt x="291" y="146"/>
                      </a:lnTo>
                      <a:lnTo>
                        <a:pt x="301" y="132"/>
                      </a:lnTo>
                      <a:lnTo>
                        <a:pt x="306" y="118"/>
                      </a:lnTo>
                      <a:lnTo>
                        <a:pt x="307" y="110"/>
                      </a:lnTo>
                      <a:lnTo>
                        <a:pt x="307" y="106"/>
                      </a:lnTo>
                      <a:lnTo>
                        <a:pt x="307" y="103"/>
                      </a:lnTo>
                      <a:lnTo>
                        <a:pt x="295" y="74"/>
                      </a:lnTo>
                      <a:lnTo>
                        <a:pt x="283" y="60"/>
                      </a:lnTo>
                      <a:lnTo>
                        <a:pt x="266" y="48"/>
                      </a:lnTo>
                      <a:lnTo>
                        <a:pt x="267" y="41"/>
                      </a:lnTo>
                      <a:lnTo>
                        <a:pt x="267" y="37"/>
                      </a:lnTo>
                      <a:lnTo>
                        <a:pt x="267" y="33"/>
                      </a:lnTo>
                      <a:lnTo>
                        <a:pt x="259" y="21"/>
                      </a:lnTo>
                      <a:lnTo>
                        <a:pt x="246" y="10"/>
                      </a:lnTo>
                      <a:lnTo>
                        <a:pt x="228" y="3"/>
                      </a:lnTo>
                      <a:lnTo>
                        <a:pt x="208" y="0"/>
                      </a:lnTo>
                      <a:lnTo>
                        <a:pt x="198" y="0"/>
                      </a:lnTo>
                      <a:lnTo>
                        <a:pt x="187" y="1"/>
                      </a:lnTo>
                      <a:lnTo>
                        <a:pt x="166" y="7"/>
                      </a:lnTo>
                      <a:lnTo>
                        <a:pt x="149" y="17"/>
                      </a:lnTo>
                      <a:lnTo>
                        <a:pt x="137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8" y="12"/>
                      </a:lnTo>
                      <a:lnTo>
                        <a:pt x="88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9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152440" y="3709440"/>
                  <a:ext cx="134280" cy="403200"/>
                </a:xfrm>
                <a:custGeom>
                  <a:avLst/>
                  <a:gdLst/>
                  <a:ahLst/>
                  <a:rect l="l" t="t" r="r" b="b"/>
                  <a:pathLst>
                    <a:path w="307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4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8" y="295"/>
                      </a:lnTo>
                      <a:lnTo>
                        <a:pt x="209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0" y="273"/>
                      </a:lnTo>
                      <a:lnTo>
                        <a:pt x="273" y="261"/>
                      </a:lnTo>
                      <a:lnTo>
                        <a:pt x="269" y="248"/>
                      </a:lnTo>
                      <a:lnTo>
                        <a:pt x="257" y="236"/>
                      </a:lnTo>
                      <a:lnTo>
                        <a:pt x="276" y="219"/>
                      </a:lnTo>
                      <a:lnTo>
                        <a:pt x="286" y="199"/>
                      </a:lnTo>
                      <a:lnTo>
                        <a:pt x="287" y="189"/>
                      </a:lnTo>
                      <a:lnTo>
                        <a:pt x="287" y="184"/>
                      </a:lnTo>
                      <a:lnTo>
                        <a:pt x="286" y="179"/>
                      </a:lnTo>
                      <a:lnTo>
                        <a:pt x="276" y="159"/>
                      </a:lnTo>
                      <a:lnTo>
                        <a:pt x="290" y="146"/>
                      </a:lnTo>
                      <a:lnTo>
                        <a:pt x="300" y="132"/>
                      </a:lnTo>
                      <a:lnTo>
                        <a:pt x="305" y="118"/>
                      </a:lnTo>
                      <a:lnTo>
                        <a:pt x="306" y="110"/>
                      </a:lnTo>
                      <a:lnTo>
                        <a:pt x="306" y="106"/>
                      </a:lnTo>
                      <a:lnTo>
                        <a:pt x="306" y="103"/>
                      </a:lnTo>
                      <a:lnTo>
                        <a:pt x="294" y="74"/>
                      </a:lnTo>
                      <a:lnTo>
                        <a:pt x="282" y="60"/>
                      </a:lnTo>
                      <a:lnTo>
                        <a:pt x="265" y="48"/>
                      </a:lnTo>
                      <a:lnTo>
                        <a:pt x="266" y="41"/>
                      </a:lnTo>
                      <a:lnTo>
                        <a:pt x="266" y="37"/>
                      </a:lnTo>
                      <a:lnTo>
                        <a:pt x="266" y="33"/>
                      </a:lnTo>
                      <a:lnTo>
                        <a:pt x="259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7" y="0"/>
                      </a:lnTo>
                      <a:lnTo>
                        <a:pt x="186" y="1"/>
                      </a:lnTo>
                      <a:lnTo>
                        <a:pt x="166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2021400" y="3542400"/>
                  <a:ext cx="120240" cy="170640"/>
                  <a:chOff x="2021400" y="3542400"/>
                  <a:chExt cx="120240" cy="1706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20580000">
                    <a:off x="2050200" y="3549240"/>
                    <a:ext cx="69840" cy="156960"/>
                  </a:xfrm>
                  <a:prstGeom prst="star5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059560" y="3549240"/>
                    <a:ext cx="51120" cy="156960"/>
                  </a:xfrm>
                  <a:prstGeom prst="star5">
                    <a:avLst/>
                  </a:prstGeom>
                  <a:solidFill>
                    <a:srgbClr val="f8220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20160000">
                    <a:off x="2049480" y="3550320"/>
                    <a:ext cx="57600" cy="150480"/>
                  </a:xfrm>
                  <a:prstGeom prst="star5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2105280" y="3738240"/>
                  <a:ext cx="179640" cy="237600"/>
                  <a:chOff x="2105280" y="3738240"/>
                  <a:chExt cx="179640" cy="2376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20580000">
                    <a:off x="2144520" y="3749400"/>
                    <a:ext cx="111240" cy="214560"/>
                  </a:xfrm>
                  <a:prstGeom prst="star5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60000" y="3749760"/>
                    <a:ext cx="82080" cy="214560"/>
                  </a:xfrm>
                  <a:prstGeom prst="star5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20160000">
                    <a:off x="2143080" y="3750840"/>
                    <a:ext cx="93240" cy="206280"/>
                  </a:xfrm>
                  <a:prstGeom prst="star5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2253240" y="3973680"/>
                  <a:ext cx="119520" cy="170280"/>
                  <a:chOff x="2253240" y="3973680"/>
                  <a:chExt cx="119520" cy="17028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20580000">
                    <a:off x="2281680" y="3980160"/>
                    <a:ext cx="69480" cy="156960"/>
                  </a:xfrm>
                  <a:prstGeom prst="star5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292120" y="3980160"/>
                    <a:ext cx="50400" cy="156960"/>
                  </a:xfrm>
                  <a:prstGeom prst="star5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20160000">
                    <a:off x="2280960" y="3982320"/>
                    <a:ext cx="57960" cy="148680"/>
                  </a:xfrm>
                  <a:prstGeom prst="star5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" name=""/>
              <p:cNvGrpSpPr/>
              <p:nvPr/>
            </p:nvGrpSpPr>
            <p:grpSpPr>
              <a:xfrm>
                <a:off x="2360520" y="3825360"/>
                <a:ext cx="272880" cy="422280"/>
                <a:chOff x="2360520" y="3825360"/>
                <a:chExt cx="272880" cy="422280"/>
              </a:xfrm>
            </p:grpSpPr>
            <p:grpSp>
              <p:nvGrpSpPr>
                <p:cNvPr id="345" name=""/>
                <p:cNvGrpSpPr/>
                <p:nvPr/>
              </p:nvGrpSpPr>
              <p:grpSpPr>
                <a:xfrm>
                  <a:off x="2360520" y="3858840"/>
                  <a:ext cx="194400" cy="325800"/>
                  <a:chOff x="2360520" y="3858840"/>
                  <a:chExt cx="194400" cy="3258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2364120" y="3858840"/>
                    <a:ext cx="190800" cy="111960"/>
                  </a:xfrm>
                  <a:custGeom>
                    <a:avLst/>
                    <a:gdLst>
                      <a:gd name="textAreaLeft" fmla="*/ 0 w 190800"/>
                      <a:gd name="textAreaRight" fmla="*/ 191160 w 190800"/>
                      <a:gd name="textAreaTop" fmla="*/ 14400 h 111960"/>
                      <a:gd name="textAreaBottom" fmla="*/ 97560 h 111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364120" y="3965760"/>
                    <a:ext cx="190800" cy="111960"/>
                  </a:xfrm>
                  <a:custGeom>
                    <a:avLst/>
                    <a:gdLst>
                      <a:gd name="textAreaLeft" fmla="*/ 0 w 190800"/>
                      <a:gd name="textAreaRight" fmla="*/ 191160 w 190800"/>
                      <a:gd name="textAreaTop" fmla="*/ 14400 h 111960"/>
                      <a:gd name="textAreaBottom" fmla="*/ 97560 h 111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360520" y="4072680"/>
                    <a:ext cx="190800" cy="111960"/>
                  </a:xfrm>
                  <a:custGeom>
                    <a:avLst/>
                    <a:gdLst>
                      <a:gd name="textAreaLeft" fmla="*/ 0 w 190800"/>
                      <a:gd name="textAreaRight" fmla="*/ 191160 w 190800"/>
                      <a:gd name="textAreaTop" fmla="*/ 14400 h 111960"/>
                      <a:gd name="textAreaBottom" fmla="*/ 97560 h 111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 flipV="1" rot="16200000">
                  <a:off x="2372400" y="3986640"/>
                  <a:ext cx="422280" cy="99000"/>
                </a:xfrm>
                <a:prstGeom prst="triangle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754600"/>
                    </a:gs>
                    <a:gs pos="5000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 flipV="1" rot="19365000">
                <a:off x="3506400" y="3633120"/>
                <a:ext cx="478080" cy="358560"/>
              </a:xfrm>
              <a:custGeom>
                <a:avLst/>
                <a:gdLst>
                  <a:gd name="textAreaLeft" fmla="*/ 0 w 478080"/>
                  <a:gd name="textAreaRight" fmla="*/ 478440 w 478080"/>
                  <a:gd name="textAreaTop" fmla="*/ 0 h 358560"/>
                  <a:gd name="textAreaBottom" fmla="*/ 358560 h 35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567350"/>
                    <a:lnTo>
                      <a:pt x="25" y="10070"/>
                    </a:lnTo>
                    <a:arcTo wR="10800" hR="10800" stAng="-10567350" swAng="1056735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3822840" y="3743640"/>
                <a:ext cx="311040" cy="120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7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 </a:t>
                </a: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8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Act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643120" y="3471840"/>
                <a:ext cx="1138320" cy="122112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89808" dir="10316091" blurRad="0" rotWithShape="0">
                  <a:srgbClr val="00cc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130560" y="3470400"/>
                <a:ext cx="189000" cy="120636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12600" dir="5400000" blurRad="0" rotWithShape="0">
                  <a:srgbClr val="00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3140280" y="4008600"/>
                <a:ext cx="123840" cy="216000"/>
                <a:chOff x="3140280" y="4008600"/>
                <a:chExt cx="123840" cy="2160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140280" y="4008600"/>
                  <a:ext cx="123840" cy="216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3155760" y="4082040"/>
                  <a:ext cx="80280" cy="100800"/>
                  <a:chOff x="3155760" y="4082040"/>
                  <a:chExt cx="80280" cy="10080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3155760" y="4150800"/>
                    <a:ext cx="18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163320" y="4141080"/>
                    <a:ext cx="51480" cy="36720"/>
                  </a:xfrm>
                  <a:prstGeom prst="roundRect">
                    <a:avLst>
                      <a:gd name="adj" fmla="val 12495"/>
                    </a:avLst>
                  </a:pr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170880" y="4122360"/>
                    <a:ext cx="48600" cy="4824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158640" y="4118040"/>
                    <a:ext cx="3996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165840" y="4082040"/>
                    <a:ext cx="3096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173760" y="4108320"/>
                    <a:ext cx="622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171240" y="4090680"/>
                    <a:ext cx="259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171960" y="4114080"/>
                    <a:ext cx="259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199320" y="4127760"/>
                    <a:ext cx="259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180600" y="4118040"/>
                    <a:ext cx="259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3157200" y="4094640"/>
                    <a:ext cx="20160" cy="24120"/>
                    <a:chOff x="3157200" y="4094640"/>
                    <a:chExt cx="20160" cy="2412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20580000">
                      <a:off x="3160440" y="4096080"/>
                      <a:ext cx="13680" cy="2124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3162600" y="4096080"/>
                      <a:ext cx="10080" cy="2124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0160000">
                      <a:off x="3160800" y="4096080"/>
                      <a:ext cx="11160" cy="2052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3173760" y="4121280"/>
                    <a:ext cx="30240" cy="33840"/>
                    <a:chOff x="3173760" y="4121280"/>
                    <a:chExt cx="30240" cy="33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580000">
                      <a:off x="3178800" y="4123440"/>
                      <a:ext cx="21240" cy="29160"/>
                    </a:xfrm>
                    <a:prstGeom prst="star5">
                      <a:avLst/>
                    </a:pr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3182040" y="4123800"/>
                      <a:ext cx="15840" cy="29160"/>
                    </a:xfrm>
                    <a:prstGeom prst="star5">
                      <a:avLst/>
                    </a:pr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20160000">
                      <a:off x="3178440" y="4123800"/>
                      <a:ext cx="18000" cy="28080"/>
                    </a:xfrm>
                    <a:prstGeom prst="star5">
                      <a:avLst/>
                    </a:pr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3202200" y="4153680"/>
                    <a:ext cx="20160" cy="24120"/>
                    <a:chOff x="3202200" y="4153680"/>
                    <a:chExt cx="20160" cy="241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580000">
                      <a:off x="3205440" y="4155120"/>
                      <a:ext cx="13680" cy="21240"/>
                    </a:xfrm>
                    <a:prstGeom prst="star5">
                      <a:avLst/>
                    </a:pr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3207960" y="4155120"/>
                      <a:ext cx="9720" cy="21240"/>
                    </a:xfrm>
                    <a:prstGeom prst="star5">
                      <a:avLst/>
                    </a:pr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20160000">
                      <a:off x="3205800" y="4155480"/>
                      <a:ext cx="11160" cy="20160"/>
                    </a:xfrm>
                    <a:prstGeom prst="star5">
                      <a:avLst/>
                    </a:pr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79" name=""/>
              <p:cNvSpPr/>
              <p:nvPr/>
            </p:nvSpPr>
            <p:spPr>
              <a:xfrm>
                <a:off x="3403800" y="3606840"/>
                <a:ext cx="101520" cy="95256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12600" dir="5400000" blurRad="0" rotWithShape="0">
                  <a:srgbClr val="00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3411720" y="4015080"/>
                <a:ext cx="68040" cy="188640"/>
                <a:chOff x="3411720" y="4015080"/>
                <a:chExt cx="68040" cy="1886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411720" y="4015080"/>
                  <a:ext cx="68040" cy="188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3426480" y="4072320"/>
                  <a:ext cx="44280" cy="87840"/>
                  <a:chOff x="3426480" y="4072320"/>
                  <a:chExt cx="44280" cy="8784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426840" y="4132080"/>
                    <a:ext cx="100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430800" y="4123800"/>
                    <a:ext cx="28080" cy="32040"/>
                  </a:xfrm>
                  <a:custGeom>
                    <a:avLst/>
                    <a:gdLst>
                      <a:gd name="textAreaLeft" fmla="*/ 720 w 28080"/>
                      <a:gd name="textAreaRight" fmla="*/ 27360 w 28080"/>
                      <a:gd name="textAreaTop" fmla="*/ 720 h 32040"/>
                      <a:gd name="textAreaBottom" fmla="*/ 31320 h 32040"/>
                    </a:gdLst>
                    <a:ahLst/>
                    <a:rect l="textAreaLeft" t="textAreaTop" r="textAreaRight" b="textAreaBottom"/>
                    <a:pathLst>
                      <a:path w="21600" h="24608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1909"/>
                        </a:lnTo>
                        <a:arcTo wR="2699" hR="2699" stAng="10800000" swAng="-5400000"/>
                        <a:lnTo>
                          <a:pt x="18901" y="24608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435120" y="4107600"/>
                    <a:ext cx="26640" cy="4212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428280" y="4103640"/>
                    <a:ext cx="2196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432240" y="4072320"/>
                    <a:ext cx="169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436560" y="4095360"/>
                    <a:ext cx="342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435480" y="4079880"/>
                    <a:ext cx="14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435840" y="4100040"/>
                    <a:ext cx="14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450600" y="4112280"/>
                    <a:ext cx="14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440520" y="4103640"/>
                    <a:ext cx="14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3426480" y="4083840"/>
                    <a:ext cx="12960" cy="20160"/>
                    <a:chOff x="3426480" y="4083840"/>
                    <a:chExt cx="12960" cy="2016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20580000">
                      <a:off x="3429720" y="4084200"/>
                      <a:ext cx="7200" cy="1872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3430800" y="4084560"/>
                      <a:ext cx="5400" cy="1872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20160000">
                      <a:off x="3429720" y="4084200"/>
                      <a:ext cx="6120" cy="1800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3434760" y="4107240"/>
                    <a:ext cx="19800" cy="28080"/>
                    <a:chOff x="3434760" y="4107240"/>
                    <a:chExt cx="19800" cy="280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0580000">
                      <a:off x="3439080" y="4108320"/>
                      <a:ext cx="11880" cy="25560"/>
                    </a:xfrm>
                    <a:prstGeom prst="star5">
                      <a:avLst/>
                    </a:pr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160" bIns="-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3441240" y="4108680"/>
                      <a:ext cx="8640" cy="25560"/>
                    </a:xfrm>
                    <a:prstGeom prst="star5">
                      <a:avLst/>
                    </a:pr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160" bIns="-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rot="20160000">
                      <a:off x="3439080" y="4108680"/>
                      <a:ext cx="10080" cy="24840"/>
                    </a:xfrm>
                    <a:prstGeom prst="star5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160" bIns="-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450960" y="4135320"/>
                    <a:ext cx="12960" cy="20160"/>
                    <a:chOff x="3450960" y="4135320"/>
                    <a:chExt cx="12960" cy="201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20580000">
                      <a:off x="3454200" y="4135680"/>
                      <a:ext cx="7200" cy="18720"/>
                    </a:xfrm>
                    <a:prstGeom prst="star5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3455280" y="4136040"/>
                      <a:ext cx="5400" cy="18720"/>
                    </a:xfrm>
                    <a:prstGeom prst="star5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20160000">
                      <a:off x="3454200" y="4135680"/>
                      <a:ext cx="6120" cy="18000"/>
                    </a:xfrm>
                    <a:prstGeom prst="star5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05" name=""/>
              <p:cNvSpPr/>
              <p:nvPr/>
            </p:nvSpPr>
            <p:spPr>
              <a:xfrm>
                <a:off x="3571920" y="3733920"/>
                <a:ext cx="52560" cy="69228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12600" dir="5400000" blurRad="0" rotWithShape="0">
                  <a:srgbClr val="00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3591000" y="4038840"/>
                <a:ext cx="34920" cy="108000"/>
                <a:chOff x="3591000" y="4038840"/>
                <a:chExt cx="34920" cy="1080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591000" y="4038840"/>
                  <a:ext cx="3492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3598200" y="4071240"/>
                  <a:ext cx="23040" cy="50400"/>
                  <a:chOff x="3598200" y="4071240"/>
                  <a:chExt cx="23040" cy="504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3598560" y="4105440"/>
                    <a:ext cx="54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600720" y="4100760"/>
                    <a:ext cx="14400" cy="18360"/>
                  </a:xfrm>
                  <a:custGeom>
                    <a:avLst/>
                    <a:gdLst>
                      <a:gd name="textAreaLeft" fmla="*/ 360 w 14400"/>
                      <a:gd name="textAreaRight" fmla="*/ 14040 w 14400"/>
                      <a:gd name="textAreaTop" fmla="*/ 360 h 18360"/>
                      <a:gd name="textAreaBottom" fmla="*/ 18000 h 18360"/>
                    </a:gdLst>
                    <a:ahLst/>
                    <a:rect l="textAreaLeft" t="textAreaTop" r="textAreaRight" b="textAreaBottom"/>
                    <a:pathLst>
                      <a:path w="21600" h="27395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4696"/>
                        </a:lnTo>
                        <a:arcTo wR="2699" hR="2699" stAng="10800000" swAng="-5400000"/>
                        <a:lnTo>
                          <a:pt x="18901" y="27395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602880" y="4091400"/>
                    <a:ext cx="1368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599280" y="4089240"/>
                    <a:ext cx="111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601440" y="4071240"/>
                    <a:ext cx="8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603600" y="4084200"/>
                    <a:ext cx="1764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602880" y="4075560"/>
                    <a:ext cx="72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603240" y="4087080"/>
                    <a:ext cx="72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610800" y="4093920"/>
                    <a:ext cx="72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605400" y="4089240"/>
                    <a:ext cx="7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598200" y="4077720"/>
                    <a:ext cx="6840" cy="11520"/>
                    <a:chOff x="3598200" y="4077720"/>
                    <a:chExt cx="6840" cy="115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rot="20580000">
                      <a:off x="3600000" y="4077720"/>
                      <a:ext cx="3600" cy="1080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3600360" y="4078080"/>
                      <a:ext cx="2520" cy="1080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rot="20160000">
                      <a:off x="3600000" y="4078080"/>
                      <a:ext cx="2880" cy="1044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602520" y="4091400"/>
                    <a:ext cx="10800" cy="15480"/>
                    <a:chOff x="3602520" y="4091400"/>
                    <a:chExt cx="10800" cy="1548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rot="20580000">
                      <a:off x="3605040" y="4091760"/>
                      <a:ext cx="6120" cy="14400"/>
                    </a:xfrm>
                    <a:prstGeom prst="star5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3605760" y="4092120"/>
                      <a:ext cx="4680" cy="14400"/>
                    </a:xfrm>
                    <a:prstGeom prst="star5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20160000">
                      <a:off x="3605040" y="4091760"/>
                      <a:ext cx="5040" cy="14040"/>
                    </a:xfrm>
                    <a:prstGeom prst="star5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610800" y="4107600"/>
                    <a:ext cx="7200" cy="11520"/>
                    <a:chOff x="3610800" y="4107600"/>
                    <a:chExt cx="7200" cy="1152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rot="20580000">
                      <a:off x="3612600" y="4107600"/>
                      <a:ext cx="3600" cy="10800"/>
                    </a:xfrm>
                    <a:prstGeom prst="star5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612960" y="4107960"/>
                      <a:ext cx="2520" cy="10800"/>
                    </a:xfrm>
                    <a:prstGeom prst="star5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 rot="20160000">
                      <a:off x="3612600" y="4107600"/>
                      <a:ext cx="3240" cy="10440"/>
                    </a:xfrm>
                    <a:prstGeom prst="star5">
                      <a:avLst/>
                    </a:pr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31" name=""/>
              <p:cNvSpPr txBox="1"/>
              <p:nvPr/>
            </p:nvSpPr>
            <p:spPr>
              <a:xfrm>
                <a:off x="3624480" y="4232520"/>
                <a:ext cx="43164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28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Monitor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29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202720" y="3492720"/>
              <a:ext cx="2383920" cy="1528560"/>
              <a:chOff x="5202720" y="3492720"/>
              <a:chExt cx="2383920" cy="152856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496120" y="4121280"/>
                <a:ext cx="1769760" cy="900000"/>
                <a:chOff x="5496120" y="4121280"/>
                <a:chExt cx="1769760" cy="9000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496120" y="4121280"/>
                  <a:ext cx="1769760" cy="900000"/>
                </a:xfrm>
                <a:custGeom>
                  <a:avLst/>
                  <a:gdLst/>
                  <a:ahLst/>
                  <a:rect l="l" t="t" r="r" b="b"/>
                  <a:pathLst>
                    <a:path w="4146" h="1924">
                      <a:moveTo>
                        <a:pt x="526" y="408"/>
                      </a:moveTo>
                      <a:cubicBezTo>
                        <a:pt x="446" y="433"/>
                        <a:pt x="366" y="458"/>
                        <a:pt x="286" y="540"/>
                      </a:cubicBezTo>
                      <a:cubicBezTo>
                        <a:pt x="206" y="622"/>
                        <a:pt x="82" y="770"/>
                        <a:pt x="46" y="900"/>
                      </a:cubicBezTo>
                      <a:cubicBezTo>
                        <a:pt x="10" y="1030"/>
                        <a:pt x="0" y="1194"/>
                        <a:pt x="70" y="1320"/>
                      </a:cubicBezTo>
                      <a:cubicBezTo>
                        <a:pt x="140" y="1446"/>
                        <a:pt x="266" y="1570"/>
                        <a:pt x="466" y="1656"/>
                      </a:cubicBezTo>
                      <a:cubicBezTo>
                        <a:pt x="666" y="1742"/>
                        <a:pt x="860" y="1804"/>
                        <a:pt x="1270" y="1836"/>
                      </a:cubicBezTo>
                      <a:cubicBezTo>
                        <a:pt x="1680" y="1868"/>
                        <a:pt x="2498" y="1924"/>
                        <a:pt x="2926" y="1848"/>
                      </a:cubicBezTo>
                      <a:cubicBezTo>
                        <a:pt x="3354" y="1772"/>
                        <a:pt x="3642" y="1568"/>
                        <a:pt x="3838" y="1380"/>
                      </a:cubicBezTo>
                      <a:cubicBezTo>
                        <a:pt x="4034" y="1192"/>
                        <a:pt x="4058" y="900"/>
                        <a:pt x="4102" y="720"/>
                      </a:cubicBezTo>
                      <a:cubicBezTo>
                        <a:pt x="4146" y="540"/>
                        <a:pt x="4130" y="420"/>
                        <a:pt x="4102" y="300"/>
                      </a:cubicBezTo>
                      <a:cubicBezTo>
                        <a:pt x="4074" y="180"/>
                        <a:pt x="3966" y="50"/>
                        <a:pt x="3934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rot="16200000">
                  <a:off x="5625000" y="4226400"/>
                  <a:ext cx="203760" cy="1897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6607080" y="4813560"/>
                <a:ext cx="619200" cy="1159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5202720" y="3519720"/>
                <a:ext cx="470880" cy="834840"/>
                <a:chOff x="5202720" y="3519720"/>
                <a:chExt cx="470880" cy="8348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5203800" y="4087440"/>
                  <a:ext cx="110520" cy="250200"/>
                </a:xfrm>
                <a:custGeom>
                  <a:avLst/>
                  <a:gdLst/>
                  <a:ahLst/>
                  <a:rect l="l" t="t" r="r" b="b"/>
                  <a:pathLst>
                    <a:path w="224" h="169">
                      <a:moveTo>
                        <a:pt x="21" y="0"/>
                      </a:moveTo>
                      <a:lnTo>
                        <a:pt x="39" y="11"/>
                      </a:lnTo>
                      <a:lnTo>
                        <a:pt x="51" y="15"/>
                      </a:lnTo>
                      <a:lnTo>
                        <a:pt x="64" y="15"/>
                      </a:lnTo>
                      <a:lnTo>
                        <a:pt x="86" y="23"/>
                      </a:lnTo>
                      <a:lnTo>
                        <a:pt x="99" y="23"/>
                      </a:lnTo>
                      <a:lnTo>
                        <a:pt x="116" y="27"/>
                      </a:lnTo>
                      <a:lnTo>
                        <a:pt x="129" y="30"/>
                      </a:lnTo>
                      <a:lnTo>
                        <a:pt x="142" y="30"/>
                      </a:lnTo>
                      <a:lnTo>
                        <a:pt x="159" y="38"/>
                      </a:lnTo>
                      <a:lnTo>
                        <a:pt x="163" y="49"/>
                      </a:lnTo>
                      <a:lnTo>
                        <a:pt x="163" y="61"/>
                      </a:lnTo>
                      <a:lnTo>
                        <a:pt x="163" y="72"/>
                      </a:lnTo>
                      <a:lnTo>
                        <a:pt x="176" y="80"/>
                      </a:lnTo>
                      <a:lnTo>
                        <a:pt x="184" y="91"/>
                      </a:lnTo>
                      <a:lnTo>
                        <a:pt x="197" y="102"/>
                      </a:lnTo>
                      <a:lnTo>
                        <a:pt x="202" y="114"/>
                      </a:lnTo>
                      <a:lnTo>
                        <a:pt x="202" y="125"/>
                      </a:lnTo>
                      <a:lnTo>
                        <a:pt x="202" y="136"/>
                      </a:lnTo>
                      <a:lnTo>
                        <a:pt x="202" y="148"/>
                      </a:lnTo>
                      <a:lnTo>
                        <a:pt x="193" y="159"/>
                      </a:lnTo>
                      <a:lnTo>
                        <a:pt x="210" y="168"/>
                      </a:lnTo>
                      <a:lnTo>
                        <a:pt x="223" y="168"/>
                      </a:lnTo>
                      <a:lnTo>
                        <a:pt x="210" y="168"/>
                      </a:lnTo>
                      <a:lnTo>
                        <a:pt x="193" y="168"/>
                      </a:lnTo>
                      <a:lnTo>
                        <a:pt x="176" y="168"/>
                      </a:lnTo>
                      <a:lnTo>
                        <a:pt x="159" y="168"/>
                      </a:lnTo>
                      <a:lnTo>
                        <a:pt x="142" y="167"/>
                      </a:lnTo>
                      <a:lnTo>
                        <a:pt x="129" y="163"/>
                      </a:lnTo>
                      <a:lnTo>
                        <a:pt x="116" y="163"/>
                      </a:lnTo>
                      <a:lnTo>
                        <a:pt x="103" y="167"/>
                      </a:lnTo>
                      <a:lnTo>
                        <a:pt x="90" y="167"/>
                      </a:lnTo>
                      <a:lnTo>
                        <a:pt x="73" y="168"/>
                      </a:lnTo>
                      <a:lnTo>
                        <a:pt x="56" y="168"/>
                      </a:lnTo>
                      <a:lnTo>
                        <a:pt x="39" y="167"/>
                      </a:lnTo>
                      <a:lnTo>
                        <a:pt x="26" y="167"/>
                      </a:lnTo>
                      <a:lnTo>
                        <a:pt x="13" y="167"/>
                      </a:lnTo>
                      <a:lnTo>
                        <a:pt x="0" y="167"/>
                      </a:lnTo>
                      <a:lnTo>
                        <a:pt x="0" y="155"/>
                      </a:lnTo>
                      <a:lnTo>
                        <a:pt x="0" y="144"/>
                      </a:lnTo>
                      <a:lnTo>
                        <a:pt x="0" y="129"/>
                      </a:lnTo>
                      <a:lnTo>
                        <a:pt x="4" y="117"/>
                      </a:lnTo>
                      <a:lnTo>
                        <a:pt x="0" y="106"/>
                      </a:lnTo>
                      <a:lnTo>
                        <a:pt x="0" y="95"/>
                      </a:lnTo>
                      <a:lnTo>
                        <a:pt x="0" y="83"/>
                      </a:lnTo>
                      <a:lnTo>
                        <a:pt x="0" y="72"/>
                      </a:lnTo>
                      <a:lnTo>
                        <a:pt x="0" y="61"/>
                      </a:lnTo>
                      <a:lnTo>
                        <a:pt x="0" y="45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0" y="11"/>
                      </a:lnTo>
                      <a:lnTo>
                        <a:pt x="13" y="4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4ecfd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248440" y="4009680"/>
                  <a:ext cx="300960" cy="304920"/>
                </a:xfrm>
                <a:custGeom>
                  <a:avLst/>
                  <a:gdLst>
                    <a:gd name="textAreaLeft" fmla="*/ 10800 w 300960"/>
                    <a:gd name="textAreaRight" fmla="*/ 290160 w 300960"/>
                    <a:gd name="textAreaTop" fmla="*/ 10800 h 304920"/>
                    <a:gd name="textAreaBottom" fmla="*/ 294120 h 304920"/>
                  </a:gdLst>
                  <a:ahLst/>
                  <a:rect l="textAreaLeft" t="textAreaTop" r="textAreaRight" b="textAreaBottom"/>
                  <a:pathLst>
                    <a:path w="21600" h="21884">
                      <a:moveTo>
                        <a:pt x="2699" y="0"/>
                      </a:moveTo>
                      <a:arcTo wR="2699" hR="2699" stAng="16200000" swAng="-5400000"/>
                      <a:lnTo>
                        <a:pt x="0" y="19185"/>
                      </a:lnTo>
                      <a:arcTo wR="2699" hR="2699" stAng="10800000" swAng="-5400000"/>
                      <a:lnTo>
                        <a:pt x="18901" y="21884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ae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99192" dir="3018055" blurRad="0" rotWithShape="0">
                    <a:srgbClr val="31650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292360" y="3854160"/>
                  <a:ext cx="284040" cy="3996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220720" y="3818880"/>
                  <a:ext cx="233640" cy="403920"/>
                </a:xfrm>
                <a:custGeom>
                  <a:avLst/>
                  <a:gdLst/>
                  <a:ahLst/>
                  <a:rect l="l" t="t" r="r" b="b"/>
                  <a:pathLst>
                    <a:path w="473" h="273">
                      <a:moveTo>
                        <a:pt x="47" y="71"/>
                      </a:moveTo>
                      <a:lnTo>
                        <a:pt x="31" y="76"/>
                      </a:lnTo>
                      <a:lnTo>
                        <a:pt x="18" y="85"/>
                      </a:lnTo>
                      <a:lnTo>
                        <a:pt x="8" y="97"/>
                      </a:lnTo>
                      <a:lnTo>
                        <a:pt x="2" y="111"/>
                      </a:lnTo>
                      <a:lnTo>
                        <a:pt x="0" y="125"/>
                      </a:lnTo>
                      <a:lnTo>
                        <a:pt x="0" y="132"/>
                      </a:lnTo>
                      <a:lnTo>
                        <a:pt x="2" y="140"/>
                      </a:lnTo>
                      <a:lnTo>
                        <a:pt x="8" y="154"/>
                      </a:lnTo>
                      <a:lnTo>
                        <a:pt x="18" y="167"/>
                      </a:lnTo>
                      <a:lnTo>
                        <a:pt x="13" y="186"/>
                      </a:lnTo>
                      <a:lnTo>
                        <a:pt x="13" y="195"/>
                      </a:lnTo>
                      <a:lnTo>
                        <a:pt x="15" y="204"/>
                      </a:lnTo>
                      <a:lnTo>
                        <a:pt x="23" y="219"/>
                      </a:lnTo>
                      <a:lnTo>
                        <a:pt x="37" y="232"/>
                      </a:lnTo>
                      <a:lnTo>
                        <a:pt x="53" y="240"/>
                      </a:lnTo>
                      <a:lnTo>
                        <a:pt x="71" y="243"/>
                      </a:lnTo>
                      <a:lnTo>
                        <a:pt x="90" y="239"/>
                      </a:lnTo>
                      <a:lnTo>
                        <a:pt x="108" y="229"/>
                      </a:lnTo>
                      <a:lnTo>
                        <a:pt x="135" y="245"/>
                      </a:lnTo>
                      <a:lnTo>
                        <a:pt x="165" y="254"/>
                      </a:lnTo>
                      <a:lnTo>
                        <a:pt x="181" y="255"/>
                      </a:lnTo>
                      <a:lnTo>
                        <a:pt x="189" y="255"/>
                      </a:lnTo>
                      <a:lnTo>
                        <a:pt x="197" y="254"/>
                      </a:lnTo>
                      <a:lnTo>
                        <a:pt x="228" y="245"/>
                      </a:lnTo>
                      <a:lnTo>
                        <a:pt x="247" y="258"/>
                      </a:lnTo>
                      <a:lnTo>
                        <a:pt x="269" y="266"/>
                      </a:lnTo>
                      <a:lnTo>
                        <a:pt x="291" y="271"/>
                      </a:lnTo>
                      <a:lnTo>
                        <a:pt x="303" y="272"/>
                      </a:lnTo>
                      <a:lnTo>
                        <a:pt x="308" y="272"/>
                      </a:lnTo>
                      <a:lnTo>
                        <a:pt x="314" y="272"/>
                      </a:lnTo>
                      <a:lnTo>
                        <a:pt x="359" y="262"/>
                      </a:lnTo>
                      <a:lnTo>
                        <a:pt x="379" y="251"/>
                      </a:lnTo>
                      <a:lnTo>
                        <a:pt x="398" y="235"/>
                      </a:lnTo>
                      <a:lnTo>
                        <a:pt x="410" y="237"/>
                      </a:lnTo>
                      <a:lnTo>
                        <a:pt x="415" y="237"/>
                      </a:lnTo>
                      <a:lnTo>
                        <a:pt x="421" y="236"/>
                      </a:lnTo>
                      <a:lnTo>
                        <a:pt x="440" y="230"/>
                      </a:lnTo>
                      <a:lnTo>
                        <a:pt x="456" y="218"/>
                      </a:lnTo>
                      <a:lnTo>
                        <a:pt x="467" y="202"/>
                      </a:lnTo>
                      <a:lnTo>
                        <a:pt x="472" y="184"/>
                      </a:lnTo>
                      <a:lnTo>
                        <a:pt x="472" y="175"/>
                      </a:lnTo>
                      <a:lnTo>
                        <a:pt x="470" y="165"/>
                      </a:lnTo>
                      <a:lnTo>
                        <a:pt x="462" y="147"/>
                      </a:lnTo>
                      <a:lnTo>
                        <a:pt x="445" y="132"/>
                      </a:lnTo>
                      <a:lnTo>
                        <a:pt x="455" y="121"/>
                      </a:lnTo>
                      <a:lnTo>
                        <a:pt x="459" y="109"/>
                      </a:lnTo>
                      <a:lnTo>
                        <a:pt x="460" y="104"/>
                      </a:lnTo>
                      <a:lnTo>
                        <a:pt x="459" y="98"/>
                      </a:lnTo>
                      <a:lnTo>
                        <a:pt x="454" y="86"/>
                      </a:lnTo>
                      <a:lnTo>
                        <a:pt x="446" y="78"/>
                      </a:lnTo>
                      <a:lnTo>
                        <a:pt x="435" y="71"/>
                      </a:lnTo>
                      <a:lnTo>
                        <a:pt x="422" y="69"/>
                      </a:lnTo>
                      <a:lnTo>
                        <a:pt x="419" y="69"/>
                      </a:lnTo>
                      <a:lnTo>
                        <a:pt x="415" y="69"/>
                      </a:lnTo>
                      <a:lnTo>
                        <a:pt x="408" y="71"/>
                      </a:lnTo>
                      <a:lnTo>
                        <a:pt x="385" y="52"/>
                      </a:lnTo>
                      <a:lnTo>
                        <a:pt x="357" y="40"/>
                      </a:lnTo>
                      <a:lnTo>
                        <a:pt x="343" y="38"/>
                      </a:lnTo>
                      <a:lnTo>
                        <a:pt x="335" y="37"/>
                      </a:lnTo>
                      <a:lnTo>
                        <a:pt x="331" y="37"/>
                      </a:lnTo>
                      <a:lnTo>
                        <a:pt x="327" y="37"/>
                      </a:lnTo>
                      <a:lnTo>
                        <a:pt x="297" y="43"/>
                      </a:lnTo>
                      <a:lnTo>
                        <a:pt x="283" y="25"/>
                      </a:lnTo>
                      <a:lnTo>
                        <a:pt x="265" y="11"/>
                      </a:lnTo>
                      <a:lnTo>
                        <a:pt x="245" y="3"/>
                      </a:lnTo>
                      <a:lnTo>
                        <a:pt x="223" y="0"/>
                      </a:lnTo>
                      <a:lnTo>
                        <a:pt x="217" y="0"/>
                      </a:lnTo>
                      <a:lnTo>
                        <a:pt x="212" y="0"/>
                      </a:lnTo>
                      <a:lnTo>
                        <a:pt x="200" y="3"/>
                      </a:lnTo>
                      <a:lnTo>
                        <a:pt x="180" y="11"/>
                      </a:lnTo>
                      <a:lnTo>
                        <a:pt x="162" y="24"/>
                      </a:lnTo>
                      <a:lnTo>
                        <a:pt x="148" y="43"/>
                      </a:lnTo>
                      <a:lnTo>
                        <a:pt x="135" y="32"/>
                      </a:lnTo>
                      <a:lnTo>
                        <a:pt x="120" y="25"/>
                      </a:lnTo>
                      <a:lnTo>
                        <a:pt x="104" y="23"/>
                      </a:lnTo>
                      <a:lnTo>
                        <a:pt x="100" y="23"/>
                      </a:lnTo>
                      <a:lnTo>
                        <a:pt x="96" y="23"/>
                      </a:lnTo>
                      <a:lnTo>
                        <a:pt x="88" y="25"/>
                      </a:lnTo>
                      <a:lnTo>
                        <a:pt x="73" y="31"/>
                      </a:lnTo>
                      <a:lnTo>
                        <a:pt x="61" y="41"/>
                      </a:lnTo>
                      <a:lnTo>
                        <a:pt x="52" y="54"/>
                      </a:lnTo>
                      <a:lnTo>
                        <a:pt x="47" y="71"/>
                      </a:lnTo>
                      <a:lnTo>
                        <a:pt x="47" y="71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263200" y="3519720"/>
                  <a:ext cx="181440" cy="589320"/>
                </a:xfrm>
                <a:custGeom>
                  <a:avLst/>
                  <a:gdLst/>
                  <a:ahLst/>
                  <a:rect l="l" t="t" r="r" b="b"/>
                  <a:pathLst>
                    <a:path w="368" h="398">
                      <a:moveTo>
                        <a:pt x="95" y="358"/>
                      </a:moveTo>
                      <a:lnTo>
                        <a:pt x="103" y="371"/>
                      </a:lnTo>
                      <a:lnTo>
                        <a:pt x="115" y="382"/>
                      </a:lnTo>
                      <a:lnTo>
                        <a:pt x="131" y="390"/>
                      </a:lnTo>
                      <a:lnTo>
                        <a:pt x="149" y="395"/>
                      </a:lnTo>
                      <a:lnTo>
                        <a:pt x="169" y="397"/>
                      </a:lnTo>
                      <a:lnTo>
                        <a:pt x="178" y="397"/>
                      </a:lnTo>
                      <a:lnTo>
                        <a:pt x="189" y="395"/>
                      </a:lnTo>
                      <a:lnTo>
                        <a:pt x="208" y="390"/>
                      </a:lnTo>
                      <a:lnTo>
                        <a:pt x="225" y="382"/>
                      </a:lnTo>
                      <a:lnTo>
                        <a:pt x="251" y="386"/>
                      </a:lnTo>
                      <a:lnTo>
                        <a:pt x="263" y="386"/>
                      </a:lnTo>
                      <a:lnTo>
                        <a:pt x="275" y="384"/>
                      </a:lnTo>
                      <a:lnTo>
                        <a:pt x="296" y="377"/>
                      </a:lnTo>
                      <a:lnTo>
                        <a:pt x="313" y="366"/>
                      </a:lnTo>
                      <a:lnTo>
                        <a:pt x="324" y="352"/>
                      </a:lnTo>
                      <a:lnTo>
                        <a:pt x="327" y="337"/>
                      </a:lnTo>
                      <a:lnTo>
                        <a:pt x="323" y="321"/>
                      </a:lnTo>
                      <a:lnTo>
                        <a:pt x="308" y="306"/>
                      </a:lnTo>
                      <a:lnTo>
                        <a:pt x="331" y="284"/>
                      </a:lnTo>
                      <a:lnTo>
                        <a:pt x="343" y="258"/>
                      </a:lnTo>
                      <a:lnTo>
                        <a:pt x="344" y="245"/>
                      </a:lnTo>
                      <a:lnTo>
                        <a:pt x="344" y="238"/>
                      </a:lnTo>
                      <a:lnTo>
                        <a:pt x="343" y="231"/>
                      </a:lnTo>
                      <a:lnTo>
                        <a:pt x="331" y="205"/>
                      </a:lnTo>
                      <a:lnTo>
                        <a:pt x="348" y="189"/>
                      </a:lnTo>
                      <a:lnTo>
                        <a:pt x="359" y="171"/>
                      </a:lnTo>
                      <a:lnTo>
                        <a:pt x="365" y="152"/>
                      </a:lnTo>
                      <a:lnTo>
                        <a:pt x="367" y="143"/>
                      </a:lnTo>
                      <a:lnTo>
                        <a:pt x="367" y="138"/>
                      </a:lnTo>
                      <a:lnTo>
                        <a:pt x="367" y="133"/>
                      </a:lnTo>
                      <a:lnTo>
                        <a:pt x="353" y="95"/>
                      </a:lnTo>
                      <a:lnTo>
                        <a:pt x="338" y="78"/>
                      </a:lnTo>
                      <a:lnTo>
                        <a:pt x="318" y="62"/>
                      </a:lnTo>
                      <a:lnTo>
                        <a:pt x="319" y="53"/>
                      </a:lnTo>
                      <a:lnTo>
                        <a:pt x="319" y="48"/>
                      </a:lnTo>
                      <a:lnTo>
                        <a:pt x="319" y="43"/>
                      </a:lnTo>
                      <a:lnTo>
                        <a:pt x="310" y="27"/>
                      </a:lnTo>
                      <a:lnTo>
                        <a:pt x="294" y="14"/>
                      </a:lnTo>
                      <a:lnTo>
                        <a:pt x="273" y="5"/>
                      </a:lnTo>
                      <a:lnTo>
                        <a:pt x="249" y="0"/>
                      </a:lnTo>
                      <a:lnTo>
                        <a:pt x="236" y="0"/>
                      </a:lnTo>
                      <a:lnTo>
                        <a:pt x="223" y="1"/>
                      </a:lnTo>
                      <a:lnTo>
                        <a:pt x="199" y="9"/>
                      </a:lnTo>
                      <a:lnTo>
                        <a:pt x="178" y="22"/>
                      </a:lnTo>
                      <a:lnTo>
                        <a:pt x="164" y="14"/>
                      </a:lnTo>
                      <a:lnTo>
                        <a:pt x="148" y="11"/>
                      </a:lnTo>
                      <a:lnTo>
                        <a:pt x="140" y="10"/>
                      </a:lnTo>
                      <a:lnTo>
                        <a:pt x="132" y="11"/>
                      </a:lnTo>
                      <a:lnTo>
                        <a:pt x="117" y="15"/>
                      </a:lnTo>
                      <a:lnTo>
                        <a:pt x="105" y="22"/>
                      </a:lnTo>
                      <a:lnTo>
                        <a:pt x="96" y="31"/>
                      </a:lnTo>
                      <a:lnTo>
                        <a:pt x="93" y="42"/>
                      </a:lnTo>
                      <a:lnTo>
                        <a:pt x="93" y="45"/>
                      </a:lnTo>
                      <a:lnTo>
                        <a:pt x="93" y="48"/>
                      </a:lnTo>
                      <a:lnTo>
                        <a:pt x="96" y="54"/>
                      </a:lnTo>
                      <a:lnTo>
                        <a:pt x="70" y="73"/>
                      </a:lnTo>
                      <a:lnTo>
                        <a:pt x="54" y="96"/>
                      </a:lnTo>
                      <a:lnTo>
                        <a:pt x="51" y="109"/>
                      </a:lnTo>
                      <a:lnTo>
                        <a:pt x="50" y="115"/>
                      </a:lnTo>
                      <a:lnTo>
                        <a:pt x="50" y="118"/>
                      </a:lnTo>
                      <a:lnTo>
                        <a:pt x="50" y="122"/>
                      </a:lnTo>
                      <a:lnTo>
                        <a:pt x="59" y="147"/>
                      </a:lnTo>
                      <a:lnTo>
                        <a:pt x="33" y="159"/>
                      </a:lnTo>
                      <a:lnTo>
                        <a:pt x="15" y="174"/>
                      </a:lnTo>
                      <a:lnTo>
                        <a:pt x="4" y="191"/>
                      </a:lnTo>
                      <a:lnTo>
                        <a:pt x="0" y="210"/>
                      </a:lnTo>
                      <a:lnTo>
                        <a:pt x="0" y="214"/>
                      </a:lnTo>
                      <a:lnTo>
                        <a:pt x="1" y="219"/>
                      </a:lnTo>
                      <a:lnTo>
                        <a:pt x="4" y="228"/>
                      </a:lnTo>
                      <a:lnTo>
                        <a:pt x="14" y="246"/>
                      </a:lnTo>
                      <a:lnTo>
                        <a:pt x="33" y="261"/>
                      </a:lnTo>
                      <a:lnTo>
                        <a:pt x="59" y="273"/>
                      </a:lnTo>
                      <a:lnTo>
                        <a:pt x="43" y="283"/>
                      </a:lnTo>
                      <a:lnTo>
                        <a:pt x="34" y="296"/>
                      </a:lnTo>
                      <a:lnTo>
                        <a:pt x="31" y="309"/>
                      </a:lnTo>
                      <a:lnTo>
                        <a:pt x="31" y="313"/>
                      </a:lnTo>
                      <a:lnTo>
                        <a:pt x="31" y="316"/>
                      </a:lnTo>
                      <a:lnTo>
                        <a:pt x="34" y="323"/>
                      </a:lnTo>
                      <a:lnTo>
                        <a:pt x="42" y="335"/>
                      </a:lnTo>
                      <a:lnTo>
                        <a:pt x="55" y="346"/>
                      </a:lnTo>
                      <a:lnTo>
                        <a:pt x="73" y="354"/>
                      </a:lnTo>
                      <a:lnTo>
                        <a:pt x="95" y="357"/>
                      </a:lnTo>
                      <a:lnTo>
                        <a:pt x="95" y="358"/>
                      </a:lnTo>
                    </a:path>
                  </a:pathLst>
                </a:custGeom>
                <a:gradFill rotWithShape="0">
                  <a:gsLst>
                    <a:gs pos="0">
                      <a:srgbClr val="e4e4e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308920" y="3738600"/>
                  <a:ext cx="364680" cy="484200"/>
                </a:xfrm>
                <a:custGeom>
                  <a:avLst/>
                  <a:gdLst/>
                  <a:ahLst/>
                  <a:rect l="l" t="t" r="r" b="b"/>
                  <a:pathLst>
                    <a:path w="738" h="327">
                      <a:moveTo>
                        <a:pt x="73" y="85"/>
                      </a:moveTo>
                      <a:lnTo>
                        <a:pt x="48" y="91"/>
                      </a:lnTo>
                      <a:lnTo>
                        <a:pt x="28" y="102"/>
                      </a:lnTo>
                      <a:lnTo>
                        <a:pt x="13" y="116"/>
                      </a:lnTo>
                      <a:lnTo>
                        <a:pt x="3" y="133"/>
                      </a:lnTo>
                      <a:lnTo>
                        <a:pt x="0" y="150"/>
                      </a:lnTo>
                      <a:lnTo>
                        <a:pt x="1" y="158"/>
                      </a:lnTo>
                      <a:lnTo>
                        <a:pt x="3" y="168"/>
                      </a:lnTo>
                      <a:lnTo>
                        <a:pt x="12" y="185"/>
                      </a:lnTo>
                      <a:lnTo>
                        <a:pt x="29" y="200"/>
                      </a:lnTo>
                      <a:lnTo>
                        <a:pt x="20" y="223"/>
                      </a:lnTo>
                      <a:lnTo>
                        <a:pt x="21" y="234"/>
                      </a:lnTo>
                      <a:lnTo>
                        <a:pt x="24" y="244"/>
                      </a:lnTo>
                      <a:lnTo>
                        <a:pt x="37" y="263"/>
                      </a:lnTo>
                      <a:lnTo>
                        <a:pt x="57" y="278"/>
                      </a:lnTo>
                      <a:lnTo>
                        <a:pt x="83" y="287"/>
                      </a:lnTo>
                      <a:lnTo>
                        <a:pt x="111" y="291"/>
                      </a:lnTo>
                      <a:lnTo>
                        <a:pt x="141" y="287"/>
                      </a:lnTo>
                      <a:lnTo>
                        <a:pt x="169" y="274"/>
                      </a:lnTo>
                      <a:lnTo>
                        <a:pt x="211" y="294"/>
                      </a:lnTo>
                      <a:lnTo>
                        <a:pt x="258" y="305"/>
                      </a:lnTo>
                      <a:lnTo>
                        <a:pt x="282" y="306"/>
                      </a:lnTo>
                      <a:lnTo>
                        <a:pt x="295" y="306"/>
                      </a:lnTo>
                      <a:lnTo>
                        <a:pt x="307" y="305"/>
                      </a:lnTo>
                      <a:lnTo>
                        <a:pt x="356" y="294"/>
                      </a:lnTo>
                      <a:lnTo>
                        <a:pt x="386" y="309"/>
                      </a:lnTo>
                      <a:lnTo>
                        <a:pt x="420" y="319"/>
                      </a:lnTo>
                      <a:lnTo>
                        <a:pt x="455" y="325"/>
                      </a:lnTo>
                      <a:lnTo>
                        <a:pt x="472" y="326"/>
                      </a:lnTo>
                      <a:lnTo>
                        <a:pt x="481" y="326"/>
                      </a:lnTo>
                      <a:lnTo>
                        <a:pt x="491" y="326"/>
                      </a:lnTo>
                      <a:lnTo>
                        <a:pt x="560" y="314"/>
                      </a:lnTo>
                      <a:lnTo>
                        <a:pt x="592" y="300"/>
                      </a:lnTo>
                      <a:lnTo>
                        <a:pt x="621" y="282"/>
                      </a:lnTo>
                      <a:lnTo>
                        <a:pt x="639" y="284"/>
                      </a:lnTo>
                      <a:lnTo>
                        <a:pt x="648" y="284"/>
                      </a:lnTo>
                      <a:lnTo>
                        <a:pt x="657" y="283"/>
                      </a:lnTo>
                      <a:lnTo>
                        <a:pt x="688" y="276"/>
                      </a:lnTo>
                      <a:lnTo>
                        <a:pt x="712" y="262"/>
                      </a:lnTo>
                      <a:lnTo>
                        <a:pt x="729" y="242"/>
                      </a:lnTo>
                      <a:lnTo>
                        <a:pt x="736" y="221"/>
                      </a:lnTo>
                      <a:lnTo>
                        <a:pt x="737" y="210"/>
                      </a:lnTo>
                      <a:lnTo>
                        <a:pt x="735" y="198"/>
                      </a:lnTo>
                      <a:lnTo>
                        <a:pt x="721" y="177"/>
                      </a:lnTo>
                      <a:lnTo>
                        <a:pt x="695" y="158"/>
                      </a:lnTo>
                      <a:lnTo>
                        <a:pt x="710" y="145"/>
                      </a:lnTo>
                      <a:lnTo>
                        <a:pt x="717" y="131"/>
                      </a:lnTo>
                      <a:lnTo>
                        <a:pt x="718" y="124"/>
                      </a:lnTo>
                      <a:lnTo>
                        <a:pt x="717" y="117"/>
                      </a:lnTo>
                      <a:lnTo>
                        <a:pt x="709" y="104"/>
                      </a:lnTo>
                      <a:lnTo>
                        <a:pt x="697" y="93"/>
                      </a:lnTo>
                      <a:lnTo>
                        <a:pt x="680" y="85"/>
                      </a:lnTo>
                      <a:lnTo>
                        <a:pt x="659" y="82"/>
                      </a:lnTo>
                      <a:lnTo>
                        <a:pt x="654" y="82"/>
                      </a:lnTo>
                      <a:lnTo>
                        <a:pt x="648" y="83"/>
                      </a:lnTo>
                      <a:lnTo>
                        <a:pt x="636" y="85"/>
                      </a:lnTo>
                      <a:lnTo>
                        <a:pt x="601" y="62"/>
                      </a:lnTo>
                      <a:lnTo>
                        <a:pt x="558" y="48"/>
                      </a:lnTo>
                      <a:lnTo>
                        <a:pt x="535" y="45"/>
                      </a:lnTo>
                      <a:lnTo>
                        <a:pt x="523" y="45"/>
                      </a:lnTo>
                      <a:lnTo>
                        <a:pt x="517" y="45"/>
                      </a:lnTo>
                      <a:lnTo>
                        <a:pt x="511" y="44"/>
                      </a:lnTo>
                      <a:lnTo>
                        <a:pt x="464" y="52"/>
                      </a:lnTo>
                      <a:lnTo>
                        <a:pt x="443" y="30"/>
                      </a:lnTo>
                      <a:lnTo>
                        <a:pt x="414" y="13"/>
                      </a:lnTo>
                      <a:lnTo>
                        <a:pt x="382" y="4"/>
                      </a:lnTo>
                      <a:lnTo>
                        <a:pt x="348" y="0"/>
                      </a:lnTo>
                      <a:lnTo>
                        <a:pt x="339" y="0"/>
                      </a:lnTo>
                      <a:lnTo>
                        <a:pt x="330" y="1"/>
                      </a:lnTo>
                      <a:lnTo>
                        <a:pt x="313" y="3"/>
                      </a:lnTo>
                      <a:lnTo>
                        <a:pt x="281" y="13"/>
                      </a:lnTo>
                      <a:lnTo>
                        <a:pt x="253" y="29"/>
                      </a:lnTo>
                      <a:lnTo>
                        <a:pt x="231" y="52"/>
                      </a:lnTo>
                      <a:lnTo>
                        <a:pt x="211" y="38"/>
                      </a:lnTo>
                      <a:lnTo>
                        <a:pt x="188" y="30"/>
                      </a:lnTo>
                      <a:lnTo>
                        <a:pt x="163" y="27"/>
                      </a:lnTo>
                      <a:lnTo>
                        <a:pt x="157" y="27"/>
                      </a:lnTo>
                      <a:lnTo>
                        <a:pt x="150" y="28"/>
                      </a:lnTo>
                      <a:lnTo>
                        <a:pt x="137" y="30"/>
                      </a:lnTo>
                      <a:lnTo>
                        <a:pt x="115" y="37"/>
                      </a:lnTo>
                      <a:lnTo>
                        <a:pt x="95" y="49"/>
                      </a:lnTo>
                      <a:lnTo>
                        <a:pt x="81" y="65"/>
                      </a:lnTo>
                      <a:lnTo>
                        <a:pt x="74" y="85"/>
                      </a:lnTo>
                      <a:lnTo>
                        <a:pt x="73" y="85"/>
                      </a:lnTo>
                    </a:path>
                  </a:pathLst>
                </a:custGeom>
                <a:gradFill rotWithShape="0">
                  <a:gsLst>
                    <a:gs pos="0">
                      <a:srgbClr val="e4e4e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95600" y="3593520"/>
                  <a:ext cx="151200" cy="456120"/>
                </a:xfrm>
                <a:custGeom>
                  <a:avLst/>
                  <a:gdLst/>
                  <a:ahLst/>
                  <a:rect l="l" t="t" r="r" b="b"/>
                  <a:pathLst>
                    <a:path w="306" h="308">
                      <a:moveTo>
                        <a:pt x="79" y="277"/>
                      </a:moveTo>
                      <a:lnTo>
                        <a:pt x="85" y="287"/>
                      </a:lnTo>
                      <a:lnTo>
                        <a:pt x="96" y="295"/>
                      </a:lnTo>
                      <a:lnTo>
                        <a:pt x="108" y="302"/>
                      </a:lnTo>
                      <a:lnTo>
                        <a:pt x="124" y="306"/>
                      </a:lnTo>
                      <a:lnTo>
                        <a:pt x="140" y="307"/>
                      </a:lnTo>
                      <a:lnTo>
                        <a:pt x="148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7" y="295"/>
                      </a:lnTo>
                      <a:lnTo>
                        <a:pt x="208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6" y="292"/>
                      </a:lnTo>
                      <a:lnTo>
                        <a:pt x="260" y="283"/>
                      </a:lnTo>
                      <a:lnTo>
                        <a:pt x="269" y="273"/>
                      </a:lnTo>
                      <a:lnTo>
                        <a:pt x="272" y="261"/>
                      </a:lnTo>
                      <a:lnTo>
                        <a:pt x="269" y="248"/>
                      </a:lnTo>
                      <a:lnTo>
                        <a:pt x="256" y="236"/>
                      </a:lnTo>
                      <a:lnTo>
                        <a:pt x="275" y="219"/>
                      </a:lnTo>
                      <a:lnTo>
                        <a:pt x="285" y="199"/>
                      </a:lnTo>
                      <a:lnTo>
                        <a:pt x="286" y="189"/>
                      </a:lnTo>
                      <a:lnTo>
                        <a:pt x="286" y="184"/>
                      </a:lnTo>
                      <a:lnTo>
                        <a:pt x="285" y="179"/>
                      </a:lnTo>
                      <a:lnTo>
                        <a:pt x="275" y="159"/>
                      </a:lnTo>
                      <a:lnTo>
                        <a:pt x="289" y="146"/>
                      </a:lnTo>
                      <a:lnTo>
                        <a:pt x="299" y="132"/>
                      </a:lnTo>
                      <a:lnTo>
                        <a:pt x="304" y="118"/>
                      </a:lnTo>
                      <a:lnTo>
                        <a:pt x="305" y="110"/>
                      </a:lnTo>
                      <a:lnTo>
                        <a:pt x="305" y="106"/>
                      </a:lnTo>
                      <a:lnTo>
                        <a:pt x="305" y="103"/>
                      </a:lnTo>
                      <a:lnTo>
                        <a:pt x="293" y="74"/>
                      </a:lnTo>
                      <a:lnTo>
                        <a:pt x="281" y="60"/>
                      </a:lnTo>
                      <a:lnTo>
                        <a:pt x="264" y="48"/>
                      </a:lnTo>
                      <a:lnTo>
                        <a:pt x="265" y="41"/>
                      </a:lnTo>
                      <a:lnTo>
                        <a:pt x="265" y="37"/>
                      </a:lnTo>
                      <a:lnTo>
                        <a:pt x="265" y="33"/>
                      </a:lnTo>
                      <a:lnTo>
                        <a:pt x="258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6" y="0"/>
                      </a:lnTo>
                      <a:lnTo>
                        <a:pt x="185" y="1"/>
                      </a:lnTo>
                      <a:lnTo>
                        <a:pt x="165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6" y="8"/>
                      </a:lnTo>
                      <a:lnTo>
                        <a:pt x="109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7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79" y="276"/>
                      </a:lnTo>
                      <a:lnTo>
                        <a:pt x="79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299920" y="3784680"/>
                  <a:ext cx="151560" cy="456120"/>
                </a:xfrm>
                <a:custGeom>
                  <a:avLst/>
                  <a:gdLst/>
                  <a:ahLst/>
                  <a:rect l="l" t="t" r="r" b="b"/>
                  <a:pathLst>
                    <a:path w="307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4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8" y="295"/>
                      </a:lnTo>
                      <a:lnTo>
                        <a:pt x="209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0" y="273"/>
                      </a:lnTo>
                      <a:lnTo>
                        <a:pt x="273" y="261"/>
                      </a:lnTo>
                      <a:lnTo>
                        <a:pt x="269" y="248"/>
                      </a:lnTo>
                      <a:lnTo>
                        <a:pt x="257" y="236"/>
                      </a:lnTo>
                      <a:lnTo>
                        <a:pt x="276" y="219"/>
                      </a:lnTo>
                      <a:lnTo>
                        <a:pt x="286" y="199"/>
                      </a:lnTo>
                      <a:lnTo>
                        <a:pt x="287" y="189"/>
                      </a:lnTo>
                      <a:lnTo>
                        <a:pt x="287" y="184"/>
                      </a:lnTo>
                      <a:lnTo>
                        <a:pt x="286" y="179"/>
                      </a:lnTo>
                      <a:lnTo>
                        <a:pt x="276" y="159"/>
                      </a:lnTo>
                      <a:lnTo>
                        <a:pt x="290" y="146"/>
                      </a:lnTo>
                      <a:lnTo>
                        <a:pt x="300" y="132"/>
                      </a:lnTo>
                      <a:lnTo>
                        <a:pt x="305" y="118"/>
                      </a:lnTo>
                      <a:lnTo>
                        <a:pt x="306" y="110"/>
                      </a:lnTo>
                      <a:lnTo>
                        <a:pt x="306" y="106"/>
                      </a:lnTo>
                      <a:lnTo>
                        <a:pt x="306" y="103"/>
                      </a:lnTo>
                      <a:lnTo>
                        <a:pt x="294" y="74"/>
                      </a:lnTo>
                      <a:lnTo>
                        <a:pt x="282" y="60"/>
                      </a:lnTo>
                      <a:lnTo>
                        <a:pt x="265" y="48"/>
                      </a:lnTo>
                      <a:lnTo>
                        <a:pt x="266" y="41"/>
                      </a:lnTo>
                      <a:lnTo>
                        <a:pt x="266" y="37"/>
                      </a:lnTo>
                      <a:lnTo>
                        <a:pt x="266" y="33"/>
                      </a:lnTo>
                      <a:lnTo>
                        <a:pt x="259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7" y="0"/>
                      </a:lnTo>
                      <a:lnTo>
                        <a:pt x="186" y="1"/>
                      </a:lnTo>
                      <a:lnTo>
                        <a:pt x="166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459040" y="3898440"/>
                  <a:ext cx="151920" cy="45612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5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8" y="306"/>
                      </a:lnTo>
                      <a:lnTo>
                        <a:pt x="174" y="302"/>
                      </a:lnTo>
                      <a:lnTo>
                        <a:pt x="188" y="295"/>
                      </a:lnTo>
                      <a:lnTo>
                        <a:pt x="210" y="298"/>
                      </a:lnTo>
                      <a:lnTo>
                        <a:pt x="220" y="298"/>
                      </a:lnTo>
                      <a:lnTo>
                        <a:pt x="230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1" y="273"/>
                      </a:lnTo>
                      <a:lnTo>
                        <a:pt x="274" y="261"/>
                      </a:lnTo>
                      <a:lnTo>
                        <a:pt x="270" y="248"/>
                      </a:lnTo>
                      <a:lnTo>
                        <a:pt x="258" y="236"/>
                      </a:lnTo>
                      <a:lnTo>
                        <a:pt x="277" y="219"/>
                      </a:lnTo>
                      <a:lnTo>
                        <a:pt x="287" y="199"/>
                      </a:lnTo>
                      <a:lnTo>
                        <a:pt x="288" y="189"/>
                      </a:lnTo>
                      <a:lnTo>
                        <a:pt x="288" y="184"/>
                      </a:lnTo>
                      <a:lnTo>
                        <a:pt x="287" y="179"/>
                      </a:lnTo>
                      <a:lnTo>
                        <a:pt x="277" y="159"/>
                      </a:lnTo>
                      <a:lnTo>
                        <a:pt x="291" y="146"/>
                      </a:lnTo>
                      <a:lnTo>
                        <a:pt x="301" y="132"/>
                      </a:lnTo>
                      <a:lnTo>
                        <a:pt x="306" y="118"/>
                      </a:lnTo>
                      <a:lnTo>
                        <a:pt x="307" y="110"/>
                      </a:lnTo>
                      <a:lnTo>
                        <a:pt x="307" y="106"/>
                      </a:lnTo>
                      <a:lnTo>
                        <a:pt x="307" y="103"/>
                      </a:lnTo>
                      <a:lnTo>
                        <a:pt x="295" y="74"/>
                      </a:lnTo>
                      <a:lnTo>
                        <a:pt x="283" y="60"/>
                      </a:lnTo>
                      <a:lnTo>
                        <a:pt x="266" y="48"/>
                      </a:lnTo>
                      <a:lnTo>
                        <a:pt x="267" y="41"/>
                      </a:lnTo>
                      <a:lnTo>
                        <a:pt x="267" y="37"/>
                      </a:lnTo>
                      <a:lnTo>
                        <a:pt x="267" y="33"/>
                      </a:lnTo>
                      <a:lnTo>
                        <a:pt x="259" y="21"/>
                      </a:lnTo>
                      <a:lnTo>
                        <a:pt x="246" y="10"/>
                      </a:lnTo>
                      <a:lnTo>
                        <a:pt x="228" y="3"/>
                      </a:lnTo>
                      <a:lnTo>
                        <a:pt x="208" y="0"/>
                      </a:lnTo>
                      <a:lnTo>
                        <a:pt x="198" y="0"/>
                      </a:lnTo>
                      <a:lnTo>
                        <a:pt x="187" y="1"/>
                      </a:lnTo>
                      <a:lnTo>
                        <a:pt x="166" y="7"/>
                      </a:lnTo>
                      <a:lnTo>
                        <a:pt x="149" y="17"/>
                      </a:lnTo>
                      <a:lnTo>
                        <a:pt x="137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8" y="12"/>
                      </a:lnTo>
                      <a:lnTo>
                        <a:pt x="88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9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350320" y="3818880"/>
                  <a:ext cx="151560" cy="455760"/>
                </a:xfrm>
                <a:custGeom>
                  <a:avLst/>
                  <a:gdLst/>
                  <a:ahLst/>
                  <a:rect l="l" t="t" r="r" b="b"/>
                  <a:pathLst>
                    <a:path w="307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4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8" y="295"/>
                      </a:lnTo>
                      <a:lnTo>
                        <a:pt x="209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0" y="273"/>
                      </a:lnTo>
                      <a:lnTo>
                        <a:pt x="273" y="261"/>
                      </a:lnTo>
                      <a:lnTo>
                        <a:pt x="269" y="248"/>
                      </a:lnTo>
                      <a:lnTo>
                        <a:pt x="257" y="236"/>
                      </a:lnTo>
                      <a:lnTo>
                        <a:pt x="276" y="219"/>
                      </a:lnTo>
                      <a:lnTo>
                        <a:pt x="286" y="199"/>
                      </a:lnTo>
                      <a:lnTo>
                        <a:pt x="287" y="189"/>
                      </a:lnTo>
                      <a:lnTo>
                        <a:pt x="287" y="184"/>
                      </a:lnTo>
                      <a:lnTo>
                        <a:pt x="286" y="179"/>
                      </a:lnTo>
                      <a:lnTo>
                        <a:pt x="276" y="159"/>
                      </a:lnTo>
                      <a:lnTo>
                        <a:pt x="290" y="146"/>
                      </a:lnTo>
                      <a:lnTo>
                        <a:pt x="300" y="132"/>
                      </a:lnTo>
                      <a:lnTo>
                        <a:pt x="305" y="118"/>
                      </a:lnTo>
                      <a:lnTo>
                        <a:pt x="306" y="110"/>
                      </a:lnTo>
                      <a:lnTo>
                        <a:pt x="306" y="106"/>
                      </a:lnTo>
                      <a:lnTo>
                        <a:pt x="306" y="103"/>
                      </a:lnTo>
                      <a:lnTo>
                        <a:pt x="294" y="74"/>
                      </a:lnTo>
                      <a:lnTo>
                        <a:pt x="282" y="60"/>
                      </a:lnTo>
                      <a:lnTo>
                        <a:pt x="265" y="48"/>
                      </a:lnTo>
                      <a:lnTo>
                        <a:pt x="266" y="41"/>
                      </a:lnTo>
                      <a:lnTo>
                        <a:pt x="266" y="37"/>
                      </a:lnTo>
                      <a:lnTo>
                        <a:pt x="266" y="33"/>
                      </a:lnTo>
                      <a:lnTo>
                        <a:pt x="259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7" y="0"/>
                      </a:lnTo>
                      <a:lnTo>
                        <a:pt x="186" y="1"/>
                      </a:lnTo>
                      <a:lnTo>
                        <a:pt x="166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5202720" y="3630240"/>
                  <a:ext cx="136080" cy="192600"/>
                  <a:chOff x="5202720" y="3630240"/>
                  <a:chExt cx="136080" cy="1926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rot="20580000">
                    <a:off x="5235120" y="3637800"/>
                    <a:ext cx="79200" cy="177480"/>
                  </a:xfrm>
                  <a:prstGeom prst="star5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245920" y="3637800"/>
                    <a:ext cx="57600" cy="177480"/>
                  </a:xfrm>
                  <a:prstGeom prst="star5">
                    <a:avLst/>
                  </a:prstGeom>
                  <a:solidFill>
                    <a:srgbClr val="f8220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20160000">
                    <a:off x="5234400" y="3638520"/>
                    <a:ext cx="65160" cy="169920"/>
                  </a:xfrm>
                  <a:prstGeom prst="star5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297400" y="3851280"/>
                  <a:ext cx="203040" cy="268920"/>
                  <a:chOff x="5297400" y="3851280"/>
                  <a:chExt cx="203040" cy="2689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0580000">
                    <a:off x="5341680" y="3864240"/>
                    <a:ext cx="125640" cy="242640"/>
                  </a:xfrm>
                  <a:prstGeom prst="star5">
                    <a:avLst/>
                  </a:prstGeom>
                  <a:blipFill rotWithShape="0">
                    <a:blip r:embed="rId30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359320" y="3864240"/>
                    <a:ext cx="92520" cy="242640"/>
                  </a:xfrm>
                  <a:prstGeom prst="star5">
                    <a:avLst/>
                  </a:prstGeom>
                  <a:blipFill rotWithShape="0">
                    <a:blip r:embed="rId31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20160000">
                    <a:off x="5340240" y="3865320"/>
                    <a:ext cx="105120" cy="233280"/>
                  </a:xfrm>
                  <a:prstGeom prst="star5">
                    <a:avLst/>
                  </a:prstGeom>
                  <a:blipFill rotWithShape="0">
                    <a:blip r:embed="rId32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5464440" y="4117320"/>
                  <a:ext cx="135720" cy="192600"/>
                  <a:chOff x="5464440" y="4117320"/>
                  <a:chExt cx="135720" cy="1926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20580000">
                    <a:off x="5497200" y="4124880"/>
                    <a:ext cx="78480" cy="177480"/>
                  </a:xfrm>
                  <a:prstGeom prst="star5">
                    <a:avLst/>
                  </a:prstGeom>
                  <a:blipFill rotWithShape="0">
                    <a:blip r:embed="rId33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508360" y="4124880"/>
                    <a:ext cx="57240" cy="177480"/>
                  </a:xfrm>
                  <a:prstGeom prst="star5">
                    <a:avLst/>
                  </a:prstGeom>
                  <a:blipFill rotWithShape="0">
                    <a:blip r:embed="rId34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20160000">
                    <a:off x="5495760" y="4127400"/>
                    <a:ext cx="65520" cy="168120"/>
                  </a:xfrm>
                  <a:prstGeom prst="star5">
                    <a:avLst/>
                  </a:prstGeom>
                  <a:blipFill rotWithShape="0">
                    <a:blip r:embed="rId35"/>
                    <a:srcRect/>
                    <a:tile tx="0" ty="0" sx="100000" sy="100000" algn="ctr"/>
                  </a:blip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5585040" y="3891960"/>
                <a:ext cx="308880" cy="477720"/>
                <a:chOff x="5585040" y="3891960"/>
                <a:chExt cx="308880" cy="47772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5585040" y="3929760"/>
                  <a:ext cx="219960" cy="368280"/>
                  <a:chOff x="5585040" y="3929760"/>
                  <a:chExt cx="219960" cy="368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5589000" y="3929760"/>
                    <a:ext cx="216000" cy="126360"/>
                  </a:xfrm>
                  <a:custGeom>
                    <a:avLst/>
                    <a:gdLst>
                      <a:gd name="textAreaLeft" fmla="*/ 0 w 216000"/>
                      <a:gd name="textAreaRight" fmla="*/ 216360 w 216000"/>
                      <a:gd name="textAreaTop" fmla="*/ 16200 h 126360"/>
                      <a:gd name="textAreaBottom" fmla="*/ 110160 h 12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589000" y="4050360"/>
                    <a:ext cx="216000" cy="126360"/>
                  </a:xfrm>
                  <a:custGeom>
                    <a:avLst/>
                    <a:gdLst>
                      <a:gd name="textAreaLeft" fmla="*/ 0 w 216000"/>
                      <a:gd name="textAreaRight" fmla="*/ 216360 w 216000"/>
                      <a:gd name="textAreaTop" fmla="*/ 16200 h 126360"/>
                      <a:gd name="textAreaBottom" fmla="*/ 110160 h 12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585040" y="4171320"/>
                    <a:ext cx="216000" cy="126720"/>
                  </a:xfrm>
                  <a:custGeom>
                    <a:avLst/>
                    <a:gdLst>
                      <a:gd name="textAreaLeft" fmla="*/ 0 w 216000"/>
                      <a:gd name="textAreaRight" fmla="*/ 216360 w 216000"/>
                      <a:gd name="textAreaTop" fmla="*/ 16200 h 126720"/>
                      <a:gd name="textAreaBottom" fmla="*/ 110520 h 126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 flipH="1" flipV="1" rot="16200000">
                  <a:off x="5598720" y="4074480"/>
                  <a:ext cx="477720" cy="111960"/>
                </a:xfrm>
                <a:prstGeom prst="triangle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754600"/>
                    </a:gs>
                    <a:gs pos="5000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 flipV="1" rot="19365000">
                <a:off x="6878520" y="3674160"/>
                <a:ext cx="537840" cy="40644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-360 h 406440"/>
                  <a:gd name="textAreaBottom" fmla="*/ 40644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567350"/>
                    <a:lnTo>
                      <a:pt x="25" y="10070"/>
                    </a:lnTo>
                    <a:arcTo wR="10800" hR="10800" stAng="-10567350" swAng="1056735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>
                <a:off x="7236000" y="3800520"/>
                <a:ext cx="350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36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 </a:t>
                </a: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37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Act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3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904000" y="3494160"/>
                <a:ext cx="1285920" cy="137808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89808" dir="10316091" blurRad="0" rotWithShape="0">
                  <a:srgbClr val="00cc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54800" y="3492720"/>
                <a:ext cx="212760" cy="136044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12600" dir="5400000" blurRad="0" rotWithShape="0">
                  <a:srgbClr val="00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6465960" y="4098960"/>
                <a:ext cx="139680" cy="244440"/>
                <a:chOff x="6465960" y="4098960"/>
                <a:chExt cx="139680" cy="2444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465960" y="4098960"/>
                  <a:ext cx="139680" cy="244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6483240" y="4182120"/>
                  <a:ext cx="90720" cy="114120"/>
                  <a:chOff x="6483240" y="4182120"/>
                  <a:chExt cx="90720" cy="1141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483240" y="4259880"/>
                    <a:ext cx="212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491880" y="4249080"/>
                    <a:ext cx="57960" cy="41760"/>
                  </a:xfrm>
                  <a:prstGeom prst="roundRect">
                    <a:avLst>
                      <a:gd name="adj" fmla="val 12495"/>
                    </a:avLst>
                  </a:pr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500160" y="4227840"/>
                    <a:ext cx="54720" cy="5472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86480" y="4222800"/>
                    <a:ext cx="4500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494760" y="4182120"/>
                    <a:ext cx="349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503400" y="4212000"/>
                    <a:ext cx="70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500880" y="4192200"/>
                    <a:ext cx="291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501600" y="4218120"/>
                    <a:ext cx="291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532560" y="4233960"/>
                    <a:ext cx="291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511320" y="4222800"/>
                    <a:ext cx="291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6484680" y="4196520"/>
                    <a:ext cx="23040" cy="27720"/>
                    <a:chOff x="6484680" y="4196520"/>
                    <a:chExt cx="23040" cy="2772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20580000">
                      <a:off x="6488640" y="4198320"/>
                      <a:ext cx="15480" cy="2412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6491160" y="4198320"/>
                      <a:ext cx="11160" cy="2412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rot="20160000">
                      <a:off x="6488640" y="4198320"/>
                      <a:ext cx="12600" cy="2340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6504120" y="4226400"/>
                    <a:ext cx="34200" cy="38880"/>
                    <a:chOff x="6504120" y="4226400"/>
                    <a:chExt cx="34200" cy="3888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20580000">
                      <a:off x="6509520" y="4229280"/>
                      <a:ext cx="24120" cy="33120"/>
                    </a:xfrm>
                    <a:prstGeom prst="star5">
                      <a:avLst/>
                    </a:pr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6513120" y="4229280"/>
                      <a:ext cx="17640" cy="33120"/>
                    </a:xfrm>
                    <a:prstGeom prst="star5">
                      <a:avLst/>
                    </a:pr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20160000">
                      <a:off x="6509520" y="4228920"/>
                      <a:ext cx="20160" cy="32040"/>
                    </a:xfrm>
                    <a:prstGeom prst="star5">
                      <a:avLst/>
                    </a:pr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6535800" y="4263120"/>
                    <a:ext cx="22680" cy="27720"/>
                    <a:chOff x="6535800" y="4263120"/>
                    <a:chExt cx="22680" cy="2772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rot="20580000">
                      <a:off x="6539400" y="4264920"/>
                      <a:ext cx="15480" cy="24120"/>
                    </a:xfrm>
                    <a:prstGeom prst="star5">
                      <a:avLst/>
                    </a:pr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6542280" y="4264920"/>
                      <a:ext cx="11160" cy="24120"/>
                    </a:xfrm>
                    <a:prstGeom prst="star5">
                      <a:avLst/>
                    </a:pr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20160000">
                      <a:off x="6539760" y="4264920"/>
                      <a:ext cx="12960" cy="23040"/>
                    </a:xfrm>
                    <a:prstGeom prst="star5">
                      <a:avLst/>
                    </a:pr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95" name=""/>
              <p:cNvSpPr/>
              <p:nvPr/>
            </p:nvSpPr>
            <p:spPr>
              <a:xfrm>
                <a:off x="6761160" y="3646800"/>
                <a:ext cx="115920" cy="107604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12600" dir="5400000" blurRad="0" rotWithShape="0">
                  <a:srgbClr val="00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6772320" y="4106880"/>
                <a:ext cx="76320" cy="212760"/>
                <a:chOff x="6772320" y="4106880"/>
                <a:chExt cx="76320" cy="2127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772320" y="4106880"/>
                  <a:ext cx="76320" cy="21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6788520" y="4171320"/>
                  <a:ext cx="50040" cy="99000"/>
                  <a:chOff x="6788520" y="4171320"/>
                  <a:chExt cx="50040" cy="9900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6789240" y="423864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793920" y="4229280"/>
                    <a:ext cx="31680" cy="36000"/>
                  </a:xfrm>
                  <a:custGeom>
                    <a:avLst/>
                    <a:gdLst>
                      <a:gd name="textAreaLeft" fmla="*/ 1080 w 31680"/>
                      <a:gd name="textAreaRight" fmla="*/ 30600 w 31680"/>
                      <a:gd name="textAreaTop" fmla="*/ 1080 h 36000"/>
                      <a:gd name="textAreaBottom" fmla="*/ 34920 h 36000"/>
                    </a:gdLst>
                    <a:ahLst/>
                    <a:rect l="textAreaLeft" t="textAreaTop" r="textAreaRight" b="textAreaBottom"/>
                    <a:pathLst>
                      <a:path w="21600" h="24512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1813"/>
                        </a:lnTo>
                        <a:arcTo wR="2699" hR="2699" stAng="10800000" swAng="-5400000"/>
                        <a:lnTo>
                          <a:pt x="18901" y="24512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6798600" y="4210920"/>
                    <a:ext cx="29880" cy="4752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790680" y="4206600"/>
                    <a:ext cx="24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6795360" y="4171320"/>
                    <a:ext cx="190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800040" y="4197240"/>
                    <a:ext cx="385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798960" y="4179960"/>
                    <a:ext cx="158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799320" y="4202640"/>
                    <a:ext cx="158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6815880" y="4216320"/>
                    <a:ext cx="158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6804720" y="4206600"/>
                    <a:ext cx="158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6788520" y="4184280"/>
                    <a:ext cx="15120" cy="22320"/>
                    <a:chOff x="6788520" y="4184280"/>
                    <a:chExt cx="15120" cy="223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20580000">
                      <a:off x="6792120" y="4185000"/>
                      <a:ext cx="8280" cy="2088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6793560" y="4185360"/>
                      <a:ext cx="6120" cy="2088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0160000">
                      <a:off x="6792120" y="4185000"/>
                      <a:ext cx="6840" cy="2016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6798600" y="4210560"/>
                    <a:ext cx="22320" cy="31680"/>
                    <a:chOff x="6798600" y="4210560"/>
                    <a:chExt cx="22320" cy="3168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0580000">
                      <a:off x="6803280" y="4211640"/>
                      <a:ext cx="13320" cy="28800"/>
                    </a:xfrm>
                    <a:prstGeom prst="star5">
                      <a:avLst/>
                    </a:pr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6805440" y="4212000"/>
                      <a:ext cx="9720" cy="28800"/>
                    </a:xfrm>
                    <a:prstGeom prst="star5">
                      <a:avLst/>
                    </a:pr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20160000">
                      <a:off x="6803640" y="4211640"/>
                      <a:ext cx="11160" cy="27720"/>
                    </a:xfrm>
                    <a:prstGeom prst="star5">
                      <a:avLst/>
                    </a:pr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6816240" y="4242240"/>
                    <a:ext cx="14760" cy="22320"/>
                    <a:chOff x="6816240" y="4242240"/>
                    <a:chExt cx="14760" cy="223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20580000">
                      <a:off x="6819480" y="4242960"/>
                      <a:ext cx="8280" cy="20880"/>
                    </a:xfrm>
                    <a:prstGeom prst="star5">
                      <a:avLst/>
                    </a:pr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6820920" y="4243320"/>
                      <a:ext cx="6120" cy="20880"/>
                    </a:xfrm>
                    <a:prstGeom prst="star5">
                      <a:avLst/>
                    </a:pr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20160000">
                      <a:off x="6819840" y="4243320"/>
                      <a:ext cx="6840" cy="19800"/>
                    </a:xfrm>
                    <a:prstGeom prst="star5">
                      <a:avLst/>
                    </a:pr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21" name=""/>
              <p:cNvSpPr/>
              <p:nvPr/>
            </p:nvSpPr>
            <p:spPr>
              <a:xfrm>
                <a:off x="6951600" y="3789360"/>
                <a:ext cx="60480" cy="78120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12600" dir="5400000" blurRad="0" rotWithShape="0">
                  <a:srgbClr val="00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2" name=""/>
              <p:cNvGrpSpPr/>
              <p:nvPr/>
            </p:nvGrpSpPr>
            <p:grpSpPr>
              <a:xfrm>
                <a:off x="6973920" y="4133880"/>
                <a:ext cx="39600" cy="122400"/>
                <a:chOff x="6973920" y="4133880"/>
                <a:chExt cx="39600" cy="1224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973920" y="4133880"/>
                  <a:ext cx="39600" cy="122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4" name=""/>
                <p:cNvGrpSpPr/>
                <p:nvPr/>
              </p:nvGrpSpPr>
              <p:grpSpPr>
                <a:xfrm>
                  <a:off x="6981840" y="4170600"/>
                  <a:ext cx="26280" cy="57240"/>
                  <a:chOff x="6981840" y="4170600"/>
                  <a:chExt cx="26280" cy="5724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6982560" y="4209480"/>
                    <a:ext cx="5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6984720" y="4204080"/>
                    <a:ext cx="16560" cy="20880"/>
                  </a:xfrm>
                  <a:custGeom>
                    <a:avLst/>
                    <a:gdLst>
                      <a:gd name="textAreaLeft" fmla="*/ 360 w 16560"/>
                      <a:gd name="textAreaRight" fmla="*/ 16200 w 16560"/>
                      <a:gd name="textAreaTop" fmla="*/ 360 h 20880"/>
                      <a:gd name="textAreaBottom" fmla="*/ 20520 h 20880"/>
                    </a:gdLst>
                    <a:ahLst/>
                    <a:rect l="textAreaLeft" t="textAreaTop" r="textAreaRight" b="textAreaBottom"/>
                    <a:pathLst>
                      <a:path w="21600" h="27115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4416"/>
                        </a:lnTo>
                        <a:arcTo wR="2699" hR="2699" stAng="10800000" swAng="-5400000"/>
                        <a:lnTo>
                          <a:pt x="18901" y="27115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987240" y="4193640"/>
                    <a:ext cx="154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6983280" y="4191120"/>
                    <a:ext cx="126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985800" y="4170600"/>
                    <a:ext cx="97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6988320" y="4185360"/>
                    <a:ext cx="198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987600" y="4175640"/>
                    <a:ext cx="82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987600" y="4188600"/>
                    <a:ext cx="82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6996600" y="4196520"/>
                    <a:ext cx="82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990480" y="4191120"/>
                    <a:ext cx="82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6981840" y="4177800"/>
                    <a:ext cx="8280" cy="13320"/>
                    <a:chOff x="6981840" y="4177800"/>
                    <a:chExt cx="8280" cy="1332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rot="20580000">
                      <a:off x="6983640" y="4178160"/>
                      <a:ext cx="4320" cy="1224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984360" y="4178520"/>
                      <a:ext cx="3240" cy="1224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rot="20160000">
                      <a:off x="6984000" y="4178160"/>
                      <a:ext cx="3600" cy="1188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6986880" y="4193640"/>
                    <a:ext cx="12240" cy="18000"/>
                    <a:chOff x="6986880" y="4193640"/>
                    <a:chExt cx="12240" cy="1800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rot="20580000">
                      <a:off x="6989760" y="4194360"/>
                      <a:ext cx="6840" cy="16560"/>
                    </a:xfrm>
                    <a:prstGeom prst="star5">
                      <a:avLst/>
                    </a:pr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6990840" y="4194360"/>
                      <a:ext cx="5040" cy="16560"/>
                    </a:xfrm>
                    <a:prstGeom prst="star5">
                      <a:avLst/>
                    </a:pr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rot="20160000">
                      <a:off x="6989760" y="4194000"/>
                      <a:ext cx="5760" cy="16200"/>
                    </a:xfrm>
                    <a:prstGeom prst="star5">
                      <a:avLst/>
                    </a:pr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400" bIns="-41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6996240" y="4211280"/>
                    <a:ext cx="8280" cy="13320"/>
                    <a:chOff x="6996240" y="4211280"/>
                    <a:chExt cx="8280" cy="133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rot="20580000">
                      <a:off x="6998040" y="4211640"/>
                      <a:ext cx="4320" cy="12240"/>
                    </a:xfrm>
                    <a:prstGeom prst="star5">
                      <a:avLst/>
                    </a:pr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6999120" y="4212000"/>
                      <a:ext cx="3240" cy="12240"/>
                    </a:xfrm>
                    <a:prstGeom prst="star5">
                      <a:avLst/>
                    </a:pr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rot="20160000">
                      <a:off x="6998400" y="4211640"/>
                      <a:ext cx="3600" cy="11880"/>
                    </a:xfrm>
                    <a:prstGeom prst="star5">
                      <a:avLst/>
                    </a:pr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47" name=""/>
              <p:cNvSpPr txBox="1"/>
              <p:nvPr/>
            </p:nvSpPr>
            <p:spPr>
              <a:xfrm>
                <a:off x="7012080" y="4353120"/>
                <a:ext cx="48744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57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Monitor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5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876760" y="1643040"/>
              <a:ext cx="2928960" cy="1800360"/>
              <a:chOff x="2876760" y="1643040"/>
              <a:chExt cx="2928960" cy="1800360"/>
            </a:xfrm>
          </p:grpSpPr>
          <p:sp>
            <p:nvSpPr>
              <p:cNvPr id="549" name=""/>
              <p:cNvSpPr/>
              <p:nvPr/>
            </p:nvSpPr>
            <p:spPr>
              <a:xfrm>
                <a:off x="4602240" y="3302280"/>
                <a:ext cx="760320" cy="1411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2876760" y="1643040"/>
                <a:ext cx="577800" cy="1024200"/>
                <a:chOff x="2876760" y="1643040"/>
                <a:chExt cx="577800" cy="1024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2878200" y="2339280"/>
                  <a:ext cx="135720" cy="307080"/>
                </a:xfrm>
                <a:custGeom>
                  <a:avLst/>
                  <a:gdLst/>
                  <a:ahLst/>
                  <a:rect l="l" t="t" r="r" b="b"/>
                  <a:pathLst>
                    <a:path w="224" h="169">
                      <a:moveTo>
                        <a:pt x="21" y="0"/>
                      </a:moveTo>
                      <a:lnTo>
                        <a:pt x="39" y="11"/>
                      </a:lnTo>
                      <a:lnTo>
                        <a:pt x="51" y="15"/>
                      </a:lnTo>
                      <a:lnTo>
                        <a:pt x="64" y="15"/>
                      </a:lnTo>
                      <a:lnTo>
                        <a:pt x="86" y="23"/>
                      </a:lnTo>
                      <a:lnTo>
                        <a:pt x="99" y="23"/>
                      </a:lnTo>
                      <a:lnTo>
                        <a:pt x="116" y="27"/>
                      </a:lnTo>
                      <a:lnTo>
                        <a:pt x="129" y="30"/>
                      </a:lnTo>
                      <a:lnTo>
                        <a:pt x="142" y="30"/>
                      </a:lnTo>
                      <a:lnTo>
                        <a:pt x="159" y="38"/>
                      </a:lnTo>
                      <a:lnTo>
                        <a:pt x="163" y="49"/>
                      </a:lnTo>
                      <a:lnTo>
                        <a:pt x="163" y="61"/>
                      </a:lnTo>
                      <a:lnTo>
                        <a:pt x="163" y="72"/>
                      </a:lnTo>
                      <a:lnTo>
                        <a:pt x="176" y="80"/>
                      </a:lnTo>
                      <a:lnTo>
                        <a:pt x="184" y="91"/>
                      </a:lnTo>
                      <a:lnTo>
                        <a:pt x="197" y="102"/>
                      </a:lnTo>
                      <a:lnTo>
                        <a:pt x="202" y="114"/>
                      </a:lnTo>
                      <a:lnTo>
                        <a:pt x="202" y="125"/>
                      </a:lnTo>
                      <a:lnTo>
                        <a:pt x="202" y="136"/>
                      </a:lnTo>
                      <a:lnTo>
                        <a:pt x="202" y="148"/>
                      </a:lnTo>
                      <a:lnTo>
                        <a:pt x="193" y="159"/>
                      </a:lnTo>
                      <a:lnTo>
                        <a:pt x="210" y="168"/>
                      </a:lnTo>
                      <a:lnTo>
                        <a:pt x="223" y="168"/>
                      </a:lnTo>
                      <a:lnTo>
                        <a:pt x="210" y="168"/>
                      </a:lnTo>
                      <a:lnTo>
                        <a:pt x="193" y="168"/>
                      </a:lnTo>
                      <a:lnTo>
                        <a:pt x="176" y="168"/>
                      </a:lnTo>
                      <a:lnTo>
                        <a:pt x="159" y="168"/>
                      </a:lnTo>
                      <a:lnTo>
                        <a:pt x="142" y="167"/>
                      </a:lnTo>
                      <a:lnTo>
                        <a:pt x="129" y="163"/>
                      </a:lnTo>
                      <a:lnTo>
                        <a:pt x="116" y="163"/>
                      </a:lnTo>
                      <a:lnTo>
                        <a:pt x="103" y="167"/>
                      </a:lnTo>
                      <a:lnTo>
                        <a:pt x="90" y="167"/>
                      </a:lnTo>
                      <a:lnTo>
                        <a:pt x="73" y="168"/>
                      </a:lnTo>
                      <a:lnTo>
                        <a:pt x="56" y="168"/>
                      </a:lnTo>
                      <a:lnTo>
                        <a:pt x="39" y="167"/>
                      </a:lnTo>
                      <a:lnTo>
                        <a:pt x="26" y="167"/>
                      </a:lnTo>
                      <a:lnTo>
                        <a:pt x="13" y="167"/>
                      </a:lnTo>
                      <a:lnTo>
                        <a:pt x="0" y="167"/>
                      </a:lnTo>
                      <a:lnTo>
                        <a:pt x="0" y="155"/>
                      </a:lnTo>
                      <a:lnTo>
                        <a:pt x="0" y="144"/>
                      </a:lnTo>
                      <a:lnTo>
                        <a:pt x="0" y="129"/>
                      </a:lnTo>
                      <a:lnTo>
                        <a:pt x="4" y="117"/>
                      </a:lnTo>
                      <a:lnTo>
                        <a:pt x="0" y="106"/>
                      </a:lnTo>
                      <a:lnTo>
                        <a:pt x="0" y="95"/>
                      </a:lnTo>
                      <a:lnTo>
                        <a:pt x="0" y="83"/>
                      </a:lnTo>
                      <a:lnTo>
                        <a:pt x="0" y="72"/>
                      </a:lnTo>
                      <a:lnTo>
                        <a:pt x="0" y="61"/>
                      </a:lnTo>
                      <a:lnTo>
                        <a:pt x="0" y="45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0" y="11"/>
                      </a:lnTo>
                      <a:lnTo>
                        <a:pt x="13" y="4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4ecfd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932920" y="2244240"/>
                  <a:ext cx="369000" cy="374040"/>
                </a:xfrm>
                <a:custGeom>
                  <a:avLst/>
                  <a:gdLst>
                    <a:gd name="textAreaLeft" fmla="*/ 13320 w 369000"/>
                    <a:gd name="textAreaRight" fmla="*/ 355680 w 369000"/>
                    <a:gd name="textAreaTop" fmla="*/ 13320 h 374040"/>
                    <a:gd name="textAreaBottom" fmla="*/ 360720 h 374040"/>
                  </a:gdLst>
                  <a:ahLst/>
                  <a:rect l="textAreaLeft" t="textAreaTop" r="textAreaRight" b="textAreaBottom"/>
                  <a:pathLst>
                    <a:path w="21600" h="21895">
                      <a:moveTo>
                        <a:pt x="2699" y="0"/>
                      </a:moveTo>
                      <a:arcTo wR="2699" hR="2699" stAng="16200000" swAng="-5400000"/>
                      <a:lnTo>
                        <a:pt x="0" y="19196"/>
                      </a:lnTo>
                      <a:arcTo wR="2699" hR="2699" stAng="10800000" swAng="-5400000"/>
                      <a:lnTo>
                        <a:pt x="18901" y="21895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ae00"/>
                    </a:gs>
                    <a:gs pos="100000">
                      <a:srgbClr val="003300"/>
                    </a:gs>
                  </a:gsLst>
                  <a:lin ang="5400000"/>
                </a:gradFill>
                <a:ln w="12600">
                  <a:solidFill>
                    <a:srgbClr val="183400"/>
                  </a:solidFill>
                  <a:miter/>
                </a:ln>
                <a:effectLst>
                  <a:outerShdw dist="107932" dir="2700000" blurRad="0" rotWithShape="0">
                    <a:srgbClr val="31650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986920" y="2053440"/>
                  <a:ext cx="34812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898720" y="2009880"/>
                  <a:ext cx="286560" cy="495720"/>
                </a:xfrm>
                <a:custGeom>
                  <a:avLst/>
                  <a:gdLst/>
                  <a:ahLst/>
                  <a:rect l="l" t="t" r="r" b="b"/>
                  <a:pathLst>
                    <a:path w="473" h="273">
                      <a:moveTo>
                        <a:pt x="47" y="71"/>
                      </a:moveTo>
                      <a:lnTo>
                        <a:pt x="31" y="76"/>
                      </a:lnTo>
                      <a:lnTo>
                        <a:pt x="18" y="85"/>
                      </a:lnTo>
                      <a:lnTo>
                        <a:pt x="8" y="97"/>
                      </a:lnTo>
                      <a:lnTo>
                        <a:pt x="2" y="111"/>
                      </a:lnTo>
                      <a:lnTo>
                        <a:pt x="0" y="125"/>
                      </a:lnTo>
                      <a:lnTo>
                        <a:pt x="0" y="132"/>
                      </a:lnTo>
                      <a:lnTo>
                        <a:pt x="2" y="140"/>
                      </a:lnTo>
                      <a:lnTo>
                        <a:pt x="8" y="154"/>
                      </a:lnTo>
                      <a:lnTo>
                        <a:pt x="18" y="167"/>
                      </a:lnTo>
                      <a:lnTo>
                        <a:pt x="13" y="186"/>
                      </a:lnTo>
                      <a:lnTo>
                        <a:pt x="13" y="195"/>
                      </a:lnTo>
                      <a:lnTo>
                        <a:pt x="15" y="204"/>
                      </a:lnTo>
                      <a:lnTo>
                        <a:pt x="23" y="219"/>
                      </a:lnTo>
                      <a:lnTo>
                        <a:pt x="37" y="232"/>
                      </a:lnTo>
                      <a:lnTo>
                        <a:pt x="53" y="240"/>
                      </a:lnTo>
                      <a:lnTo>
                        <a:pt x="71" y="243"/>
                      </a:lnTo>
                      <a:lnTo>
                        <a:pt x="90" y="239"/>
                      </a:lnTo>
                      <a:lnTo>
                        <a:pt x="108" y="229"/>
                      </a:lnTo>
                      <a:lnTo>
                        <a:pt x="135" y="245"/>
                      </a:lnTo>
                      <a:lnTo>
                        <a:pt x="165" y="254"/>
                      </a:lnTo>
                      <a:lnTo>
                        <a:pt x="181" y="255"/>
                      </a:lnTo>
                      <a:lnTo>
                        <a:pt x="189" y="255"/>
                      </a:lnTo>
                      <a:lnTo>
                        <a:pt x="197" y="254"/>
                      </a:lnTo>
                      <a:lnTo>
                        <a:pt x="228" y="245"/>
                      </a:lnTo>
                      <a:lnTo>
                        <a:pt x="247" y="258"/>
                      </a:lnTo>
                      <a:lnTo>
                        <a:pt x="269" y="266"/>
                      </a:lnTo>
                      <a:lnTo>
                        <a:pt x="291" y="271"/>
                      </a:lnTo>
                      <a:lnTo>
                        <a:pt x="303" y="272"/>
                      </a:lnTo>
                      <a:lnTo>
                        <a:pt x="308" y="272"/>
                      </a:lnTo>
                      <a:lnTo>
                        <a:pt x="314" y="272"/>
                      </a:lnTo>
                      <a:lnTo>
                        <a:pt x="359" y="262"/>
                      </a:lnTo>
                      <a:lnTo>
                        <a:pt x="379" y="251"/>
                      </a:lnTo>
                      <a:lnTo>
                        <a:pt x="398" y="235"/>
                      </a:lnTo>
                      <a:lnTo>
                        <a:pt x="410" y="237"/>
                      </a:lnTo>
                      <a:lnTo>
                        <a:pt x="415" y="237"/>
                      </a:lnTo>
                      <a:lnTo>
                        <a:pt x="421" y="236"/>
                      </a:lnTo>
                      <a:lnTo>
                        <a:pt x="440" y="230"/>
                      </a:lnTo>
                      <a:lnTo>
                        <a:pt x="456" y="218"/>
                      </a:lnTo>
                      <a:lnTo>
                        <a:pt x="467" y="202"/>
                      </a:lnTo>
                      <a:lnTo>
                        <a:pt x="472" y="184"/>
                      </a:lnTo>
                      <a:lnTo>
                        <a:pt x="472" y="175"/>
                      </a:lnTo>
                      <a:lnTo>
                        <a:pt x="470" y="165"/>
                      </a:lnTo>
                      <a:lnTo>
                        <a:pt x="462" y="147"/>
                      </a:lnTo>
                      <a:lnTo>
                        <a:pt x="445" y="132"/>
                      </a:lnTo>
                      <a:lnTo>
                        <a:pt x="455" y="121"/>
                      </a:lnTo>
                      <a:lnTo>
                        <a:pt x="459" y="109"/>
                      </a:lnTo>
                      <a:lnTo>
                        <a:pt x="460" y="104"/>
                      </a:lnTo>
                      <a:lnTo>
                        <a:pt x="459" y="98"/>
                      </a:lnTo>
                      <a:lnTo>
                        <a:pt x="454" y="86"/>
                      </a:lnTo>
                      <a:lnTo>
                        <a:pt x="446" y="78"/>
                      </a:lnTo>
                      <a:lnTo>
                        <a:pt x="435" y="71"/>
                      </a:lnTo>
                      <a:lnTo>
                        <a:pt x="422" y="69"/>
                      </a:lnTo>
                      <a:lnTo>
                        <a:pt x="419" y="69"/>
                      </a:lnTo>
                      <a:lnTo>
                        <a:pt x="415" y="69"/>
                      </a:lnTo>
                      <a:lnTo>
                        <a:pt x="408" y="71"/>
                      </a:lnTo>
                      <a:lnTo>
                        <a:pt x="385" y="52"/>
                      </a:lnTo>
                      <a:lnTo>
                        <a:pt x="357" y="40"/>
                      </a:lnTo>
                      <a:lnTo>
                        <a:pt x="343" y="38"/>
                      </a:lnTo>
                      <a:lnTo>
                        <a:pt x="335" y="37"/>
                      </a:lnTo>
                      <a:lnTo>
                        <a:pt x="331" y="37"/>
                      </a:lnTo>
                      <a:lnTo>
                        <a:pt x="327" y="37"/>
                      </a:lnTo>
                      <a:lnTo>
                        <a:pt x="297" y="43"/>
                      </a:lnTo>
                      <a:lnTo>
                        <a:pt x="283" y="25"/>
                      </a:lnTo>
                      <a:lnTo>
                        <a:pt x="265" y="11"/>
                      </a:lnTo>
                      <a:lnTo>
                        <a:pt x="245" y="3"/>
                      </a:lnTo>
                      <a:lnTo>
                        <a:pt x="223" y="0"/>
                      </a:lnTo>
                      <a:lnTo>
                        <a:pt x="217" y="0"/>
                      </a:lnTo>
                      <a:lnTo>
                        <a:pt x="212" y="0"/>
                      </a:lnTo>
                      <a:lnTo>
                        <a:pt x="200" y="3"/>
                      </a:lnTo>
                      <a:lnTo>
                        <a:pt x="180" y="11"/>
                      </a:lnTo>
                      <a:lnTo>
                        <a:pt x="162" y="24"/>
                      </a:lnTo>
                      <a:lnTo>
                        <a:pt x="148" y="43"/>
                      </a:lnTo>
                      <a:lnTo>
                        <a:pt x="135" y="32"/>
                      </a:lnTo>
                      <a:lnTo>
                        <a:pt x="120" y="25"/>
                      </a:lnTo>
                      <a:lnTo>
                        <a:pt x="104" y="23"/>
                      </a:lnTo>
                      <a:lnTo>
                        <a:pt x="100" y="23"/>
                      </a:lnTo>
                      <a:lnTo>
                        <a:pt x="96" y="23"/>
                      </a:lnTo>
                      <a:lnTo>
                        <a:pt x="88" y="25"/>
                      </a:lnTo>
                      <a:lnTo>
                        <a:pt x="73" y="31"/>
                      </a:lnTo>
                      <a:lnTo>
                        <a:pt x="61" y="41"/>
                      </a:lnTo>
                      <a:lnTo>
                        <a:pt x="52" y="54"/>
                      </a:lnTo>
                      <a:lnTo>
                        <a:pt x="47" y="71"/>
                      </a:lnTo>
                      <a:lnTo>
                        <a:pt x="47" y="71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51280" y="1643040"/>
                  <a:ext cx="222480" cy="722880"/>
                </a:xfrm>
                <a:custGeom>
                  <a:avLst/>
                  <a:gdLst/>
                  <a:ahLst/>
                  <a:rect l="l" t="t" r="r" b="b"/>
                  <a:pathLst>
                    <a:path w="368" h="398">
                      <a:moveTo>
                        <a:pt x="95" y="358"/>
                      </a:moveTo>
                      <a:lnTo>
                        <a:pt x="103" y="371"/>
                      </a:lnTo>
                      <a:lnTo>
                        <a:pt x="115" y="382"/>
                      </a:lnTo>
                      <a:lnTo>
                        <a:pt x="131" y="390"/>
                      </a:lnTo>
                      <a:lnTo>
                        <a:pt x="149" y="395"/>
                      </a:lnTo>
                      <a:lnTo>
                        <a:pt x="169" y="397"/>
                      </a:lnTo>
                      <a:lnTo>
                        <a:pt x="178" y="397"/>
                      </a:lnTo>
                      <a:lnTo>
                        <a:pt x="189" y="395"/>
                      </a:lnTo>
                      <a:lnTo>
                        <a:pt x="208" y="390"/>
                      </a:lnTo>
                      <a:lnTo>
                        <a:pt x="225" y="382"/>
                      </a:lnTo>
                      <a:lnTo>
                        <a:pt x="251" y="386"/>
                      </a:lnTo>
                      <a:lnTo>
                        <a:pt x="263" y="386"/>
                      </a:lnTo>
                      <a:lnTo>
                        <a:pt x="275" y="384"/>
                      </a:lnTo>
                      <a:lnTo>
                        <a:pt x="296" y="377"/>
                      </a:lnTo>
                      <a:lnTo>
                        <a:pt x="313" y="366"/>
                      </a:lnTo>
                      <a:lnTo>
                        <a:pt x="324" y="352"/>
                      </a:lnTo>
                      <a:lnTo>
                        <a:pt x="327" y="337"/>
                      </a:lnTo>
                      <a:lnTo>
                        <a:pt x="323" y="321"/>
                      </a:lnTo>
                      <a:lnTo>
                        <a:pt x="308" y="306"/>
                      </a:lnTo>
                      <a:lnTo>
                        <a:pt x="331" y="284"/>
                      </a:lnTo>
                      <a:lnTo>
                        <a:pt x="343" y="258"/>
                      </a:lnTo>
                      <a:lnTo>
                        <a:pt x="344" y="245"/>
                      </a:lnTo>
                      <a:lnTo>
                        <a:pt x="344" y="238"/>
                      </a:lnTo>
                      <a:lnTo>
                        <a:pt x="343" y="231"/>
                      </a:lnTo>
                      <a:lnTo>
                        <a:pt x="331" y="205"/>
                      </a:lnTo>
                      <a:lnTo>
                        <a:pt x="348" y="189"/>
                      </a:lnTo>
                      <a:lnTo>
                        <a:pt x="359" y="171"/>
                      </a:lnTo>
                      <a:lnTo>
                        <a:pt x="365" y="152"/>
                      </a:lnTo>
                      <a:lnTo>
                        <a:pt x="367" y="143"/>
                      </a:lnTo>
                      <a:lnTo>
                        <a:pt x="367" y="138"/>
                      </a:lnTo>
                      <a:lnTo>
                        <a:pt x="367" y="133"/>
                      </a:lnTo>
                      <a:lnTo>
                        <a:pt x="353" y="95"/>
                      </a:lnTo>
                      <a:lnTo>
                        <a:pt x="338" y="78"/>
                      </a:lnTo>
                      <a:lnTo>
                        <a:pt x="318" y="62"/>
                      </a:lnTo>
                      <a:lnTo>
                        <a:pt x="319" y="53"/>
                      </a:lnTo>
                      <a:lnTo>
                        <a:pt x="319" y="48"/>
                      </a:lnTo>
                      <a:lnTo>
                        <a:pt x="319" y="43"/>
                      </a:lnTo>
                      <a:lnTo>
                        <a:pt x="310" y="27"/>
                      </a:lnTo>
                      <a:lnTo>
                        <a:pt x="294" y="14"/>
                      </a:lnTo>
                      <a:lnTo>
                        <a:pt x="273" y="5"/>
                      </a:lnTo>
                      <a:lnTo>
                        <a:pt x="249" y="0"/>
                      </a:lnTo>
                      <a:lnTo>
                        <a:pt x="236" y="0"/>
                      </a:lnTo>
                      <a:lnTo>
                        <a:pt x="223" y="1"/>
                      </a:lnTo>
                      <a:lnTo>
                        <a:pt x="199" y="9"/>
                      </a:lnTo>
                      <a:lnTo>
                        <a:pt x="178" y="22"/>
                      </a:lnTo>
                      <a:lnTo>
                        <a:pt x="164" y="14"/>
                      </a:lnTo>
                      <a:lnTo>
                        <a:pt x="148" y="11"/>
                      </a:lnTo>
                      <a:lnTo>
                        <a:pt x="140" y="10"/>
                      </a:lnTo>
                      <a:lnTo>
                        <a:pt x="132" y="11"/>
                      </a:lnTo>
                      <a:lnTo>
                        <a:pt x="117" y="15"/>
                      </a:lnTo>
                      <a:lnTo>
                        <a:pt x="105" y="22"/>
                      </a:lnTo>
                      <a:lnTo>
                        <a:pt x="96" y="31"/>
                      </a:lnTo>
                      <a:lnTo>
                        <a:pt x="93" y="42"/>
                      </a:lnTo>
                      <a:lnTo>
                        <a:pt x="93" y="45"/>
                      </a:lnTo>
                      <a:lnTo>
                        <a:pt x="93" y="48"/>
                      </a:lnTo>
                      <a:lnTo>
                        <a:pt x="96" y="54"/>
                      </a:lnTo>
                      <a:lnTo>
                        <a:pt x="70" y="73"/>
                      </a:lnTo>
                      <a:lnTo>
                        <a:pt x="54" y="96"/>
                      </a:lnTo>
                      <a:lnTo>
                        <a:pt x="51" y="109"/>
                      </a:lnTo>
                      <a:lnTo>
                        <a:pt x="50" y="115"/>
                      </a:lnTo>
                      <a:lnTo>
                        <a:pt x="50" y="118"/>
                      </a:lnTo>
                      <a:lnTo>
                        <a:pt x="50" y="122"/>
                      </a:lnTo>
                      <a:lnTo>
                        <a:pt x="59" y="147"/>
                      </a:lnTo>
                      <a:lnTo>
                        <a:pt x="33" y="159"/>
                      </a:lnTo>
                      <a:lnTo>
                        <a:pt x="15" y="174"/>
                      </a:lnTo>
                      <a:lnTo>
                        <a:pt x="4" y="191"/>
                      </a:lnTo>
                      <a:lnTo>
                        <a:pt x="0" y="210"/>
                      </a:lnTo>
                      <a:lnTo>
                        <a:pt x="0" y="214"/>
                      </a:lnTo>
                      <a:lnTo>
                        <a:pt x="1" y="219"/>
                      </a:lnTo>
                      <a:lnTo>
                        <a:pt x="4" y="228"/>
                      </a:lnTo>
                      <a:lnTo>
                        <a:pt x="14" y="246"/>
                      </a:lnTo>
                      <a:lnTo>
                        <a:pt x="33" y="261"/>
                      </a:lnTo>
                      <a:lnTo>
                        <a:pt x="59" y="273"/>
                      </a:lnTo>
                      <a:lnTo>
                        <a:pt x="43" y="283"/>
                      </a:lnTo>
                      <a:lnTo>
                        <a:pt x="34" y="296"/>
                      </a:lnTo>
                      <a:lnTo>
                        <a:pt x="31" y="309"/>
                      </a:lnTo>
                      <a:lnTo>
                        <a:pt x="31" y="313"/>
                      </a:lnTo>
                      <a:lnTo>
                        <a:pt x="31" y="316"/>
                      </a:lnTo>
                      <a:lnTo>
                        <a:pt x="34" y="323"/>
                      </a:lnTo>
                      <a:lnTo>
                        <a:pt x="42" y="335"/>
                      </a:lnTo>
                      <a:lnTo>
                        <a:pt x="55" y="346"/>
                      </a:lnTo>
                      <a:lnTo>
                        <a:pt x="73" y="354"/>
                      </a:lnTo>
                      <a:lnTo>
                        <a:pt x="95" y="357"/>
                      </a:lnTo>
                      <a:lnTo>
                        <a:pt x="95" y="358"/>
                      </a:lnTo>
                    </a:path>
                  </a:pathLst>
                </a:custGeom>
                <a:gradFill rotWithShape="0">
                  <a:gsLst>
                    <a:gs pos="0">
                      <a:srgbClr val="e4e4e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07440" y="1911600"/>
                  <a:ext cx="447120" cy="594000"/>
                </a:xfrm>
                <a:custGeom>
                  <a:avLst/>
                  <a:gdLst/>
                  <a:ahLst/>
                  <a:rect l="l" t="t" r="r" b="b"/>
                  <a:pathLst>
                    <a:path w="738" h="327">
                      <a:moveTo>
                        <a:pt x="73" y="85"/>
                      </a:moveTo>
                      <a:lnTo>
                        <a:pt x="48" y="91"/>
                      </a:lnTo>
                      <a:lnTo>
                        <a:pt x="28" y="102"/>
                      </a:lnTo>
                      <a:lnTo>
                        <a:pt x="13" y="116"/>
                      </a:lnTo>
                      <a:lnTo>
                        <a:pt x="3" y="133"/>
                      </a:lnTo>
                      <a:lnTo>
                        <a:pt x="0" y="150"/>
                      </a:lnTo>
                      <a:lnTo>
                        <a:pt x="1" y="158"/>
                      </a:lnTo>
                      <a:lnTo>
                        <a:pt x="3" y="168"/>
                      </a:lnTo>
                      <a:lnTo>
                        <a:pt x="12" y="185"/>
                      </a:lnTo>
                      <a:lnTo>
                        <a:pt x="29" y="200"/>
                      </a:lnTo>
                      <a:lnTo>
                        <a:pt x="20" y="223"/>
                      </a:lnTo>
                      <a:lnTo>
                        <a:pt x="21" y="234"/>
                      </a:lnTo>
                      <a:lnTo>
                        <a:pt x="24" y="244"/>
                      </a:lnTo>
                      <a:lnTo>
                        <a:pt x="37" y="263"/>
                      </a:lnTo>
                      <a:lnTo>
                        <a:pt x="57" y="278"/>
                      </a:lnTo>
                      <a:lnTo>
                        <a:pt x="83" y="287"/>
                      </a:lnTo>
                      <a:lnTo>
                        <a:pt x="111" y="291"/>
                      </a:lnTo>
                      <a:lnTo>
                        <a:pt x="141" y="287"/>
                      </a:lnTo>
                      <a:lnTo>
                        <a:pt x="169" y="274"/>
                      </a:lnTo>
                      <a:lnTo>
                        <a:pt x="211" y="294"/>
                      </a:lnTo>
                      <a:lnTo>
                        <a:pt x="258" y="305"/>
                      </a:lnTo>
                      <a:lnTo>
                        <a:pt x="282" y="306"/>
                      </a:lnTo>
                      <a:lnTo>
                        <a:pt x="295" y="306"/>
                      </a:lnTo>
                      <a:lnTo>
                        <a:pt x="307" y="305"/>
                      </a:lnTo>
                      <a:lnTo>
                        <a:pt x="356" y="294"/>
                      </a:lnTo>
                      <a:lnTo>
                        <a:pt x="386" y="309"/>
                      </a:lnTo>
                      <a:lnTo>
                        <a:pt x="420" y="319"/>
                      </a:lnTo>
                      <a:lnTo>
                        <a:pt x="455" y="325"/>
                      </a:lnTo>
                      <a:lnTo>
                        <a:pt x="472" y="326"/>
                      </a:lnTo>
                      <a:lnTo>
                        <a:pt x="481" y="326"/>
                      </a:lnTo>
                      <a:lnTo>
                        <a:pt x="491" y="326"/>
                      </a:lnTo>
                      <a:lnTo>
                        <a:pt x="560" y="314"/>
                      </a:lnTo>
                      <a:lnTo>
                        <a:pt x="592" y="300"/>
                      </a:lnTo>
                      <a:lnTo>
                        <a:pt x="621" y="282"/>
                      </a:lnTo>
                      <a:lnTo>
                        <a:pt x="639" y="284"/>
                      </a:lnTo>
                      <a:lnTo>
                        <a:pt x="648" y="284"/>
                      </a:lnTo>
                      <a:lnTo>
                        <a:pt x="657" y="283"/>
                      </a:lnTo>
                      <a:lnTo>
                        <a:pt x="688" y="276"/>
                      </a:lnTo>
                      <a:lnTo>
                        <a:pt x="712" y="262"/>
                      </a:lnTo>
                      <a:lnTo>
                        <a:pt x="729" y="242"/>
                      </a:lnTo>
                      <a:lnTo>
                        <a:pt x="736" y="221"/>
                      </a:lnTo>
                      <a:lnTo>
                        <a:pt x="737" y="210"/>
                      </a:lnTo>
                      <a:lnTo>
                        <a:pt x="735" y="198"/>
                      </a:lnTo>
                      <a:lnTo>
                        <a:pt x="721" y="177"/>
                      </a:lnTo>
                      <a:lnTo>
                        <a:pt x="695" y="158"/>
                      </a:lnTo>
                      <a:lnTo>
                        <a:pt x="710" y="145"/>
                      </a:lnTo>
                      <a:lnTo>
                        <a:pt x="717" y="131"/>
                      </a:lnTo>
                      <a:lnTo>
                        <a:pt x="718" y="124"/>
                      </a:lnTo>
                      <a:lnTo>
                        <a:pt x="717" y="117"/>
                      </a:lnTo>
                      <a:lnTo>
                        <a:pt x="709" y="104"/>
                      </a:lnTo>
                      <a:lnTo>
                        <a:pt x="697" y="93"/>
                      </a:lnTo>
                      <a:lnTo>
                        <a:pt x="680" y="85"/>
                      </a:lnTo>
                      <a:lnTo>
                        <a:pt x="659" y="82"/>
                      </a:lnTo>
                      <a:lnTo>
                        <a:pt x="654" y="82"/>
                      </a:lnTo>
                      <a:lnTo>
                        <a:pt x="648" y="83"/>
                      </a:lnTo>
                      <a:lnTo>
                        <a:pt x="636" y="85"/>
                      </a:lnTo>
                      <a:lnTo>
                        <a:pt x="601" y="62"/>
                      </a:lnTo>
                      <a:lnTo>
                        <a:pt x="558" y="48"/>
                      </a:lnTo>
                      <a:lnTo>
                        <a:pt x="535" y="45"/>
                      </a:lnTo>
                      <a:lnTo>
                        <a:pt x="523" y="45"/>
                      </a:lnTo>
                      <a:lnTo>
                        <a:pt x="517" y="45"/>
                      </a:lnTo>
                      <a:lnTo>
                        <a:pt x="511" y="44"/>
                      </a:lnTo>
                      <a:lnTo>
                        <a:pt x="464" y="52"/>
                      </a:lnTo>
                      <a:lnTo>
                        <a:pt x="443" y="30"/>
                      </a:lnTo>
                      <a:lnTo>
                        <a:pt x="414" y="13"/>
                      </a:lnTo>
                      <a:lnTo>
                        <a:pt x="382" y="4"/>
                      </a:lnTo>
                      <a:lnTo>
                        <a:pt x="348" y="0"/>
                      </a:lnTo>
                      <a:lnTo>
                        <a:pt x="339" y="0"/>
                      </a:lnTo>
                      <a:lnTo>
                        <a:pt x="330" y="1"/>
                      </a:lnTo>
                      <a:lnTo>
                        <a:pt x="313" y="3"/>
                      </a:lnTo>
                      <a:lnTo>
                        <a:pt x="281" y="13"/>
                      </a:lnTo>
                      <a:lnTo>
                        <a:pt x="253" y="29"/>
                      </a:lnTo>
                      <a:lnTo>
                        <a:pt x="231" y="52"/>
                      </a:lnTo>
                      <a:lnTo>
                        <a:pt x="211" y="38"/>
                      </a:lnTo>
                      <a:lnTo>
                        <a:pt x="188" y="30"/>
                      </a:lnTo>
                      <a:lnTo>
                        <a:pt x="163" y="27"/>
                      </a:lnTo>
                      <a:lnTo>
                        <a:pt x="157" y="27"/>
                      </a:lnTo>
                      <a:lnTo>
                        <a:pt x="150" y="28"/>
                      </a:lnTo>
                      <a:lnTo>
                        <a:pt x="137" y="30"/>
                      </a:lnTo>
                      <a:lnTo>
                        <a:pt x="115" y="37"/>
                      </a:lnTo>
                      <a:lnTo>
                        <a:pt x="95" y="49"/>
                      </a:lnTo>
                      <a:lnTo>
                        <a:pt x="81" y="65"/>
                      </a:lnTo>
                      <a:lnTo>
                        <a:pt x="74" y="85"/>
                      </a:lnTo>
                      <a:lnTo>
                        <a:pt x="73" y="85"/>
                      </a:lnTo>
                    </a:path>
                  </a:pathLst>
                </a:custGeom>
                <a:gradFill rotWithShape="0">
                  <a:gsLst>
                    <a:gs pos="0">
                      <a:srgbClr val="e4e4e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990880" y="1733760"/>
                  <a:ext cx="185400" cy="559440"/>
                </a:xfrm>
                <a:custGeom>
                  <a:avLst/>
                  <a:gdLst/>
                  <a:ahLst/>
                  <a:rect l="l" t="t" r="r" b="b"/>
                  <a:pathLst>
                    <a:path w="306" h="308">
                      <a:moveTo>
                        <a:pt x="79" y="277"/>
                      </a:moveTo>
                      <a:lnTo>
                        <a:pt x="85" y="287"/>
                      </a:lnTo>
                      <a:lnTo>
                        <a:pt x="96" y="295"/>
                      </a:lnTo>
                      <a:lnTo>
                        <a:pt x="108" y="302"/>
                      </a:lnTo>
                      <a:lnTo>
                        <a:pt x="124" y="306"/>
                      </a:lnTo>
                      <a:lnTo>
                        <a:pt x="140" y="307"/>
                      </a:lnTo>
                      <a:lnTo>
                        <a:pt x="148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7" y="295"/>
                      </a:lnTo>
                      <a:lnTo>
                        <a:pt x="208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6" y="292"/>
                      </a:lnTo>
                      <a:lnTo>
                        <a:pt x="260" y="283"/>
                      </a:lnTo>
                      <a:lnTo>
                        <a:pt x="269" y="273"/>
                      </a:lnTo>
                      <a:lnTo>
                        <a:pt x="272" y="261"/>
                      </a:lnTo>
                      <a:lnTo>
                        <a:pt x="269" y="248"/>
                      </a:lnTo>
                      <a:lnTo>
                        <a:pt x="256" y="236"/>
                      </a:lnTo>
                      <a:lnTo>
                        <a:pt x="275" y="219"/>
                      </a:lnTo>
                      <a:lnTo>
                        <a:pt x="285" y="199"/>
                      </a:lnTo>
                      <a:lnTo>
                        <a:pt x="286" y="189"/>
                      </a:lnTo>
                      <a:lnTo>
                        <a:pt x="286" y="184"/>
                      </a:lnTo>
                      <a:lnTo>
                        <a:pt x="285" y="179"/>
                      </a:lnTo>
                      <a:lnTo>
                        <a:pt x="275" y="159"/>
                      </a:lnTo>
                      <a:lnTo>
                        <a:pt x="289" y="146"/>
                      </a:lnTo>
                      <a:lnTo>
                        <a:pt x="299" y="132"/>
                      </a:lnTo>
                      <a:lnTo>
                        <a:pt x="304" y="118"/>
                      </a:lnTo>
                      <a:lnTo>
                        <a:pt x="305" y="110"/>
                      </a:lnTo>
                      <a:lnTo>
                        <a:pt x="305" y="106"/>
                      </a:lnTo>
                      <a:lnTo>
                        <a:pt x="305" y="103"/>
                      </a:lnTo>
                      <a:lnTo>
                        <a:pt x="293" y="74"/>
                      </a:lnTo>
                      <a:lnTo>
                        <a:pt x="281" y="60"/>
                      </a:lnTo>
                      <a:lnTo>
                        <a:pt x="264" y="48"/>
                      </a:lnTo>
                      <a:lnTo>
                        <a:pt x="265" y="41"/>
                      </a:lnTo>
                      <a:lnTo>
                        <a:pt x="265" y="37"/>
                      </a:lnTo>
                      <a:lnTo>
                        <a:pt x="265" y="33"/>
                      </a:lnTo>
                      <a:lnTo>
                        <a:pt x="258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6" y="0"/>
                      </a:lnTo>
                      <a:lnTo>
                        <a:pt x="185" y="1"/>
                      </a:lnTo>
                      <a:lnTo>
                        <a:pt x="165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6" y="8"/>
                      </a:lnTo>
                      <a:lnTo>
                        <a:pt x="109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7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79" y="276"/>
                      </a:lnTo>
                      <a:lnTo>
                        <a:pt x="79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95920" y="1968120"/>
                  <a:ext cx="185760" cy="559440"/>
                </a:xfrm>
                <a:custGeom>
                  <a:avLst/>
                  <a:gdLst/>
                  <a:ahLst/>
                  <a:rect l="l" t="t" r="r" b="b"/>
                  <a:pathLst>
                    <a:path w="307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4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8" y="295"/>
                      </a:lnTo>
                      <a:lnTo>
                        <a:pt x="209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0" y="273"/>
                      </a:lnTo>
                      <a:lnTo>
                        <a:pt x="273" y="261"/>
                      </a:lnTo>
                      <a:lnTo>
                        <a:pt x="269" y="248"/>
                      </a:lnTo>
                      <a:lnTo>
                        <a:pt x="257" y="236"/>
                      </a:lnTo>
                      <a:lnTo>
                        <a:pt x="276" y="219"/>
                      </a:lnTo>
                      <a:lnTo>
                        <a:pt x="286" y="199"/>
                      </a:lnTo>
                      <a:lnTo>
                        <a:pt x="287" y="189"/>
                      </a:lnTo>
                      <a:lnTo>
                        <a:pt x="287" y="184"/>
                      </a:lnTo>
                      <a:lnTo>
                        <a:pt x="286" y="179"/>
                      </a:lnTo>
                      <a:lnTo>
                        <a:pt x="276" y="159"/>
                      </a:lnTo>
                      <a:lnTo>
                        <a:pt x="290" y="146"/>
                      </a:lnTo>
                      <a:lnTo>
                        <a:pt x="300" y="132"/>
                      </a:lnTo>
                      <a:lnTo>
                        <a:pt x="305" y="118"/>
                      </a:lnTo>
                      <a:lnTo>
                        <a:pt x="306" y="110"/>
                      </a:lnTo>
                      <a:lnTo>
                        <a:pt x="306" y="106"/>
                      </a:lnTo>
                      <a:lnTo>
                        <a:pt x="306" y="103"/>
                      </a:lnTo>
                      <a:lnTo>
                        <a:pt x="294" y="74"/>
                      </a:lnTo>
                      <a:lnTo>
                        <a:pt x="282" y="60"/>
                      </a:lnTo>
                      <a:lnTo>
                        <a:pt x="265" y="48"/>
                      </a:lnTo>
                      <a:lnTo>
                        <a:pt x="266" y="41"/>
                      </a:lnTo>
                      <a:lnTo>
                        <a:pt x="266" y="37"/>
                      </a:lnTo>
                      <a:lnTo>
                        <a:pt x="266" y="33"/>
                      </a:lnTo>
                      <a:lnTo>
                        <a:pt x="259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7" y="0"/>
                      </a:lnTo>
                      <a:lnTo>
                        <a:pt x="186" y="1"/>
                      </a:lnTo>
                      <a:lnTo>
                        <a:pt x="166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191400" y="2107800"/>
                  <a:ext cx="186480" cy="55944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5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8" y="306"/>
                      </a:lnTo>
                      <a:lnTo>
                        <a:pt x="174" y="302"/>
                      </a:lnTo>
                      <a:lnTo>
                        <a:pt x="188" y="295"/>
                      </a:lnTo>
                      <a:lnTo>
                        <a:pt x="210" y="298"/>
                      </a:lnTo>
                      <a:lnTo>
                        <a:pt x="220" y="298"/>
                      </a:lnTo>
                      <a:lnTo>
                        <a:pt x="230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1" y="273"/>
                      </a:lnTo>
                      <a:lnTo>
                        <a:pt x="274" y="261"/>
                      </a:lnTo>
                      <a:lnTo>
                        <a:pt x="270" y="248"/>
                      </a:lnTo>
                      <a:lnTo>
                        <a:pt x="258" y="236"/>
                      </a:lnTo>
                      <a:lnTo>
                        <a:pt x="277" y="219"/>
                      </a:lnTo>
                      <a:lnTo>
                        <a:pt x="287" y="199"/>
                      </a:lnTo>
                      <a:lnTo>
                        <a:pt x="288" y="189"/>
                      </a:lnTo>
                      <a:lnTo>
                        <a:pt x="288" y="184"/>
                      </a:lnTo>
                      <a:lnTo>
                        <a:pt x="287" y="179"/>
                      </a:lnTo>
                      <a:lnTo>
                        <a:pt x="277" y="159"/>
                      </a:lnTo>
                      <a:lnTo>
                        <a:pt x="291" y="146"/>
                      </a:lnTo>
                      <a:lnTo>
                        <a:pt x="301" y="132"/>
                      </a:lnTo>
                      <a:lnTo>
                        <a:pt x="306" y="118"/>
                      </a:lnTo>
                      <a:lnTo>
                        <a:pt x="307" y="110"/>
                      </a:lnTo>
                      <a:lnTo>
                        <a:pt x="307" y="106"/>
                      </a:lnTo>
                      <a:lnTo>
                        <a:pt x="307" y="103"/>
                      </a:lnTo>
                      <a:lnTo>
                        <a:pt x="295" y="74"/>
                      </a:lnTo>
                      <a:lnTo>
                        <a:pt x="283" y="60"/>
                      </a:lnTo>
                      <a:lnTo>
                        <a:pt x="266" y="48"/>
                      </a:lnTo>
                      <a:lnTo>
                        <a:pt x="267" y="41"/>
                      </a:lnTo>
                      <a:lnTo>
                        <a:pt x="267" y="37"/>
                      </a:lnTo>
                      <a:lnTo>
                        <a:pt x="267" y="33"/>
                      </a:lnTo>
                      <a:lnTo>
                        <a:pt x="259" y="21"/>
                      </a:lnTo>
                      <a:lnTo>
                        <a:pt x="246" y="10"/>
                      </a:lnTo>
                      <a:lnTo>
                        <a:pt x="228" y="3"/>
                      </a:lnTo>
                      <a:lnTo>
                        <a:pt x="208" y="0"/>
                      </a:lnTo>
                      <a:lnTo>
                        <a:pt x="198" y="0"/>
                      </a:lnTo>
                      <a:lnTo>
                        <a:pt x="187" y="1"/>
                      </a:lnTo>
                      <a:lnTo>
                        <a:pt x="166" y="7"/>
                      </a:lnTo>
                      <a:lnTo>
                        <a:pt x="149" y="17"/>
                      </a:lnTo>
                      <a:lnTo>
                        <a:pt x="137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8" y="12"/>
                      </a:lnTo>
                      <a:lnTo>
                        <a:pt x="88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9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57840" y="2009880"/>
                  <a:ext cx="185760" cy="559440"/>
                </a:xfrm>
                <a:custGeom>
                  <a:avLst/>
                  <a:gdLst/>
                  <a:ahLst/>
                  <a:rect l="l" t="t" r="r" b="b"/>
                  <a:pathLst>
                    <a:path w="307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4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8" y="295"/>
                      </a:lnTo>
                      <a:lnTo>
                        <a:pt x="209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0" y="273"/>
                      </a:lnTo>
                      <a:lnTo>
                        <a:pt x="273" y="261"/>
                      </a:lnTo>
                      <a:lnTo>
                        <a:pt x="269" y="248"/>
                      </a:lnTo>
                      <a:lnTo>
                        <a:pt x="257" y="236"/>
                      </a:lnTo>
                      <a:lnTo>
                        <a:pt x="276" y="219"/>
                      </a:lnTo>
                      <a:lnTo>
                        <a:pt x="286" y="199"/>
                      </a:lnTo>
                      <a:lnTo>
                        <a:pt x="287" y="189"/>
                      </a:lnTo>
                      <a:lnTo>
                        <a:pt x="287" y="184"/>
                      </a:lnTo>
                      <a:lnTo>
                        <a:pt x="286" y="179"/>
                      </a:lnTo>
                      <a:lnTo>
                        <a:pt x="276" y="159"/>
                      </a:lnTo>
                      <a:lnTo>
                        <a:pt x="290" y="146"/>
                      </a:lnTo>
                      <a:lnTo>
                        <a:pt x="300" y="132"/>
                      </a:lnTo>
                      <a:lnTo>
                        <a:pt x="305" y="118"/>
                      </a:lnTo>
                      <a:lnTo>
                        <a:pt x="306" y="110"/>
                      </a:lnTo>
                      <a:lnTo>
                        <a:pt x="306" y="106"/>
                      </a:lnTo>
                      <a:lnTo>
                        <a:pt x="306" y="103"/>
                      </a:lnTo>
                      <a:lnTo>
                        <a:pt x="294" y="74"/>
                      </a:lnTo>
                      <a:lnTo>
                        <a:pt x="282" y="60"/>
                      </a:lnTo>
                      <a:lnTo>
                        <a:pt x="265" y="48"/>
                      </a:lnTo>
                      <a:lnTo>
                        <a:pt x="266" y="41"/>
                      </a:lnTo>
                      <a:lnTo>
                        <a:pt x="266" y="37"/>
                      </a:lnTo>
                      <a:lnTo>
                        <a:pt x="266" y="33"/>
                      </a:lnTo>
                      <a:lnTo>
                        <a:pt x="259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7" y="0"/>
                      </a:lnTo>
                      <a:lnTo>
                        <a:pt x="186" y="1"/>
                      </a:lnTo>
                      <a:lnTo>
                        <a:pt x="166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1" name=""/>
                <p:cNvGrpSpPr/>
                <p:nvPr/>
              </p:nvGrpSpPr>
              <p:grpSpPr>
                <a:xfrm>
                  <a:off x="2876760" y="1778400"/>
                  <a:ext cx="166680" cy="236520"/>
                  <a:chOff x="2876760" y="1778400"/>
                  <a:chExt cx="166680" cy="23652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20580000">
                    <a:off x="2916720" y="1787760"/>
                    <a:ext cx="96840" cy="217440"/>
                  </a:xfrm>
                  <a:prstGeom prst="star5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930040" y="1788120"/>
                    <a:ext cx="70920" cy="217440"/>
                  </a:xfrm>
                  <a:prstGeom prst="star5">
                    <a:avLst/>
                  </a:prstGeom>
                  <a:solidFill>
                    <a:srgbClr val="f8220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20160000">
                    <a:off x="2915640" y="1789200"/>
                    <a:ext cx="79920" cy="208440"/>
                  </a:xfrm>
                  <a:prstGeom prst="star5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2992680" y="2049840"/>
                  <a:ext cx="248760" cy="329400"/>
                  <a:chOff x="2992680" y="2049840"/>
                  <a:chExt cx="248760" cy="32940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 rot="20580000">
                    <a:off x="3047400" y="2065680"/>
                    <a:ext cx="153720" cy="297360"/>
                  </a:xfrm>
                  <a:prstGeom prst="star5">
                    <a:avLst/>
                  </a:prstGeom>
                  <a:blipFill rotWithShape="0">
                    <a:blip r:embed="rId59"/>
                    <a:srcRect/>
                    <a:tile tx="0" ty="0" sx="100000" sy="100000" algn="ctr"/>
                  </a:blip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068640" y="2066040"/>
                    <a:ext cx="113400" cy="297360"/>
                  </a:xfrm>
                  <a:prstGeom prst="star5">
                    <a:avLst/>
                  </a:prstGeom>
                  <a:blipFill rotWithShape="0">
                    <a:blip r:embed="rId60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rot="20160000">
                    <a:off x="3044880" y="2067480"/>
                    <a:ext cx="128880" cy="285840"/>
                  </a:xfrm>
                  <a:prstGeom prst="star5">
                    <a:avLst/>
                  </a:prstGeom>
                  <a:blipFill rotWithShape="0">
                    <a:blip r:embed="rId61"/>
                    <a:srcRect/>
                    <a:tile tx="0" ty="0" sx="100000" sy="100000" algn="ctr"/>
                  </a:blip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3197520" y="2376360"/>
                  <a:ext cx="165960" cy="236160"/>
                  <a:chOff x="3197520" y="2376360"/>
                  <a:chExt cx="165960" cy="2361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rot="20580000">
                    <a:off x="3237480" y="2385360"/>
                    <a:ext cx="96120" cy="217440"/>
                  </a:xfrm>
                  <a:prstGeom prst="star5">
                    <a:avLst/>
                  </a:prstGeom>
                  <a:blipFill rotWithShape="0">
                    <a:blip r:embed="rId62"/>
                    <a:srcRect/>
                    <a:tile tx="0" ty="0" sx="100000" sy="100000" algn="ctr"/>
                  </a:blip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251520" y="2385720"/>
                    <a:ext cx="70200" cy="217440"/>
                  </a:xfrm>
                  <a:prstGeom prst="star5">
                    <a:avLst/>
                  </a:prstGeom>
                  <a:blipFill rotWithShape="0">
                    <a:blip r:embed="rId63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20160000">
                    <a:off x="3236040" y="2388960"/>
                    <a:ext cx="80280" cy="206640"/>
                  </a:xfrm>
                  <a:prstGeom prst="star5">
                    <a:avLst/>
                  </a:prstGeom>
                  <a:blipFill rotWithShape="0">
                    <a:blip r:embed="rId64"/>
                    <a:srcRect/>
                    <a:tile tx="0" ty="0" sx="100000" sy="100000" algn="ctr"/>
                  </a:blip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3" name=""/>
              <p:cNvGrpSpPr/>
              <p:nvPr/>
            </p:nvGrpSpPr>
            <p:grpSpPr>
              <a:xfrm>
                <a:off x="3346560" y="2171160"/>
                <a:ext cx="379440" cy="584280"/>
                <a:chOff x="3346560" y="2171160"/>
                <a:chExt cx="379440" cy="58428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3346560" y="2217600"/>
                  <a:ext cx="270000" cy="450360"/>
                  <a:chOff x="3346560" y="2217600"/>
                  <a:chExt cx="270000" cy="4503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3351600" y="2217600"/>
                    <a:ext cx="264960" cy="154800"/>
                  </a:xfrm>
                  <a:custGeom>
                    <a:avLst/>
                    <a:gdLst>
                      <a:gd name="textAreaLeft" fmla="*/ 0 w 264960"/>
                      <a:gd name="textAreaRight" fmla="*/ 265320 w 264960"/>
                      <a:gd name="textAreaTop" fmla="*/ 19800 h 154800"/>
                      <a:gd name="textAreaBottom" fmla="*/ 135000 h 154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351600" y="2365200"/>
                    <a:ext cx="264960" cy="154800"/>
                  </a:xfrm>
                  <a:custGeom>
                    <a:avLst/>
                    <a:gdLst>
                      <a:gd name="textAreaLeft" fmla="*/ 0 w 264960"/>
                      <a:gd name="textAreaRight" fmla="*/ 265320 w 264960"/>
                      <a:gd name="textAreaTop" fmla="*/ 19800 h 154800"/>
                      <a:gd name="textAreaBottom" fmla="*/ 135000 h 154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346560" y="2513160"/>
                    <a:ext cx="264960" cy="154800"/>
                  </a:xfrm>
                  <a:custGeom>
                    <a:avLst/>
                    <a:gdLst>
                      <a:gd name="textAreaLeft" fmla="*/ 0 w 264960"/>
                      <a:gd name="textAreaRight" fmla="*/ 265320 w 264960"/>
                      <a:gd name="textAreaTop" fmla="*/ 19800 h 154800"/>
                      <a:gd name="textAreaBottom" fmla="*/ 135000 h 154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8" name=""/>
                <p:cNvSpPr/>
                <p:nvPr/>
              </p:nvSpPr>
              <p:spPr>
                <a:xfrm flipH="1" flipV="1" rot="16200000">
                  <a:off x="3364920" y="2394000"/>
                  <a:ext cx="584280" cy="137520"/>
                </a:xfrm>
                <a:prstGeom prst="triangle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754600"/>
                    </a:gs>
                    <a:gs pos="5000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 flipV="1" rot="19365000">
                <a:off x="4936680" y="1902960"/>
                <a:ext cx="660600" cy="49824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360 h 498240"/>
                  <a:gd name="textAreaBottom" fmla="*/ 498960 h 49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567350"/>
                    <a:lnTo>
                      <a:pt x="25" y="10070"/>
                    </a:lnTo>
                    <a:arcTo wR="10800" hR="10800" stAng="-10567350" swAng="1056735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>
                <a:off x="5375160" y="2055960"/>
                <a:ext cx="430560" cy="168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65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 </a:t>
                </a: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66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Act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6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38600" y="1681200"/>
                <a:ext cx="1579680" cy="169236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89808" dir="10316091" blurRad="0" rotWithShape="0">
                  <a:srgbClr val="00cc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415040" y="1679760"/>
                <a:ext cx="260280" cy="167004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00989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4427640" y="2424240"/>
                <a:ext cx="171360" cy="299880"/>
                <a:chOff x="4427640" y="2424240"/>
                <a:chExt cx="171360" cy="2998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4427640" y="2424240"/>
                  <a:ext cx="171360" cy="29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76320">
                  <a:solidFill>
                    <a:srgbClr val="cc9900"/>
                  </a:solidFill>
                  <a:miter/>
                </a:ln>
                <a:effectLst>
                  <a:outerShdw dist="153753" dir="2700000" blurRad="0" rotWithShape="0">
                    <a:srgbClr val="795b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5" name=""/>
                <p:cNvGrpSpPr/>
                <p:nvPr/>
              </p:nvGrpSpPr>
              <p:grpSpPr>
                <a:xfrm>
                  <a:off x="4448880" y="2526120"/>
                  <a:ext cx="111240" cy="140040"/>
                  <a:chOff x="4448880" y="2526120"/>
                  <a:chExt cx="111240" cy="14004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4448880" y="2621520"/>
                    <a:ext cx="262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459320" y="2608200"/>
                    <a:ext cx="71280" cy="51120"/>
                  </a:xfrm>
                  <a:prstGeom prst="roundRect">
                    <a:avLst>
                      <a:gd name="adj" fmla="val 12495"/>
                    </a:avLst>
                  </a:pr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4469760" y="2582280"/>
                    <a:ext cx="67320" cy="669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4452840" y="2576160"/>
                    <a:ext cx="554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4462920" y="2526120"/>
                    <a:ext cx="4284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473720" y="2562840"/>
                    <a:ext cx="8640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470480" y="2538360"/>
                    <a:ext cx="3564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4471560" y="2570400"/>
                    <a:ext cx="3564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4509360" y="2589480"/>
                    <a:ext cx="360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4483440" y="2576160"/>
                    <a:ext cx="360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4451040" y="2543760"/>
                    <a:ext cx="27720" cy="33840"/>
                    <a:chOff x="4451040" y="2543760"/>
                    <a:chExt cx="27720" cy="3384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0580000">
                      <a:off x="4455720" y="2545560"/>
                      <a:ext cx="18720" cy="2988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4458600" y="2545920"/>
                      <a:ext cx="13680" cy="2988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rot="20160000">
                      <a:off x="4456080" y="2545560"/>
                      <a:ext cx="15480" cy="2880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4474080" y="2580480"/>
                    <a:ext cx="42120" cy="47520"/>
                    <a:chOff x="4474080" y="2580480"/>
                    <a:chExt cx="42120" cy="4752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rot="20580000">
                      <a:off x="4480920" y="2583720"/>
                      <a:ext cx="29880" cy="40680"/>
                    </a:xfrm>
                    <a:prstGeom prst="star5">
                      <a:avLst/>
                    </a:pr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4485240" y="2584080"/>
                      <a:ext cx="21960" cy="40680"/>
                    </a:xfrm>
                    <a:prstGeom prst="star5">
                      <a:avLst/>
                    </a:pr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20160000">
                      <a:off x="4480920" y="2584080"/>
                      <a:ext cx="25200" cy="39240"/>
                    </a:xfrm>
                    <a:prstGeom prst="star5">
                      <a:avLst/>
                    </a:pr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4512960" y="2625480"/>
                    <a:ext cx="27360" cy="33480"/>
                    <a:chOff x="4512960" y="2625480"/>
                    <a:chExt cx="27360" cy="3348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20580000">
                      <a:off x="4517640" y="2627280"/>
                      <a:ext cx="18360" cy="29520"/>
                    </a:xfrm>
                    <a:prstGeom prst="star5">
                      <a:avLst/>
                    </a:pr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4520880" y="2627640"/>
                      <a:ext cx="13320" cy="29520"/>
                    </a:xfrm>
                    <a:prstGeom prst="star5">
                      <a:avLst/>
                    </a:pr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20160000">
                      <a:off x="4518000" y="2627640"/>
                      <a:ext cx="15480" cy="28080"/>
                    </a:xfrm>
                    <a:prstGeom prst="star5">
                      <a:avLst/>
                    </a:pr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08" name=""/>
              <p:cNvSpPr/>
              <p:nvPr/>
            </p:nvSpPr>
            <p:spPr>
              <a:xfrm>
                <a:off x="4792680" y="1868760"/>
                <a:ext cx="141480" cy="132084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40186" dir="1096358" blurRad="0" rotWithShape="0">
                  <a:srgbClr val="00989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4805280" y="2433600"/>
                <a:ext cx="93960" cy="262080"/>
                <a:chOff x="4805280" y="2433600"/>
                <a:chExt cx="93960" cy="2620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805280" y="2433600"/>
                  <a:ext cx="93960" cy="26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76320">
                  <a:solidFill>
                    <a:srgbClr val="cc9900"/>
                  </a:solidFill>
                  <a:miter/>
                </a:ln>
                <a:effectLst>
                  <a:outerShdw dist="153753" dir="2700000" blurRad="0" rotWithShape="0">
                    <a:srgbClr val="795b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1" name=""/>
                <p:cNvGrpSpPr/>
                <p:nvPr/>
              </p:nvGrpSpPr>
              <p:grpSpPr>
                <a:xfrm>
                  <a:off x="4825440" y="2513160"/>
                  <a:ext cx="61200" cy="122040"/>
                  <a:chOff x="4825440" y="2513160"/>
                  <a:chExt cx="61200" cy="12204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4826160" y="2596320"/>
                    <a:ext cx="140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831920" y="2584800"/>
                    <a:ext cx="38880" cy="44640"/>
                  </a:xfrm>
                  <a:custGeom>
                    <a:avLst/>
                    <a:gdLst>
                      <a:gd name="textAreaLeft" fmla="*/ 1080 w 38880"/>
                      <a:gd name="textAreaRight" fmla="*/ 37800 w 38880"/>
                      <a:gd name="textAreaTop" fmla="*/ 1080 h 44640"/>
                      <a:gd name="textAreaBottom" fmla="*/ 43560 h 44640"/>
                    </a:gdLst>
                    <a:ahLst/>
                    <a:rect l="textAreaLeft" t="textAreaTop" r="textAreaRight" b="textAreaBottom"/>
                    <a:pathLst>
                      <a:path w="21600" h="24771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2072"/>
                        </a:lnTo>
                        <a:arcTo wR="2699" hR="2699" stAng="10800000" swAng="-5400000"/>
                        <a:lnTo>
                          <a:pt x="18901" y="24771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4837320" y="2562120"/>
                    <a:ext cx="36720" cy="5832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828320" y="2556720"/>
                    <a:ext cx="302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833720" y="2513160"/>
                    <a:ext cx="2340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839480" y="2545200"/>
                    <a:ext cx="4716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4838040" y="2523960"/>
                    <a:ext cx="19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838400" y="2551680"/>
                    <a:ext cx="19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858920" y="2568600"/>
                    <a:ext cx="19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844880" y="2556720"/>
                    <a:ext cx="19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4825440" y="2529720"/>
                    <a:ext cx="18360" cy="27720"/>
                    <a:chOff x="4825440" y="2529720"/>
                    <a:chExt cx="18360" cy="2772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 rot="20580000">
                      <a:off x="4829760" y="2530440"/>
                      <a:ext cx="10080" cy="2592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4831560" y="2530440"/>
                      <a:ext cx="7200" cy="2592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rot="20160000">
                      <a:off x="4830120" y="2530080"/>
                      <a:ext cx="8280" cy="2484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160" bIns="-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837320" y="2562120"/>
                    <a:ext cx="27720" cy="38520"/>
                    <a:chOff x="4837320" y="2562120"/>
                    <a:chExt cx="27720" cy="385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rot="20580000">
                      <a:off x="4843800" y="2563560"/>
                      <a:ext cx="16200" cy="35280"/>
                    </a:xfrm>
                    <a:prstGeom prst="star5">
                      <a:avLst/>
                    </a:pr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4845960" y="2563560"/>
                      <a:ext cx="11880" cy="35280"/>
                    </a:xfrm>
                    <a:prstGeom prst="star5">
                      <a:avLst/>
                    </a:prstGeom>
                    <a:blipFill rotWithShape="0">
                      <a:blip r:embed="rId75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rot="20160000">
                      <a:off x="4843440" y="2563200"/>
                      <a:ext cx="13320" cy="34200"/>
                    </a:xfrm>
                    <a:prstGeom prst="star5">
                      <a:avLst/>
                    </a:prstGeom>
                    <a:blipFill rotWithShape="0">
                      <a:blip r:embed="rId76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4858920" y="2601000"/>
                    <a:ext cx="18360" cy="27720"/>
                    <a:chOff x="4858920" y="2601000"/>
                    <a:chExt cx="18360" cy="2772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 rot="20580000">
                      <a:off x="4863240" y="2601720"/>
                      <a:ext cx="10080" cy="25920"/>
                    </a:xfrm>
                    <a:prstGeom prst="star5">
                      <a:avLst/>
                    </a:prstGeom>
                    <a:blipFill rotWithShape="0">
                      <a:blip r:embed="rId77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4865040" y="2601720"/>
                      <a:ext cx="7200" cy="25920"/>
                    </a:xfrm>
                    <a:prstGeom prst="star5">
                      <a:avLst/>
                    </a:prstGeom>
                    <a:blipFill rotWithShape="0">
                      <a:blip r:embed="rId78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rot="20160000">
                      <a:off x="4863600" y="2601720"/>
                      <a:ext cx="8280" cy="24840"/>
                    </a:xfrm>
                    <a:prstGeom prst="star5">
                      <a:avLst/>
                    </a:prstGeom>
                    <a:blipFill rotWithShape="0">
                      <a:blip r:embed="rId79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160" bIns="-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34" name=""/>
              <p:cNvSpPr/>
              <p:nvPr/>
            </p:nvSpPr>
            <p:spPr>
              <a:xfrm>
                <a:off x="5025960" y="2043360"/>
                <a:ext cx="73080" cy="95868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00989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052960" y="2465640"/>
                <a:ext cx="49320" cy="150840"/>
                <a:chOff x="5052960" y="2465640"/>
                <a:chExt cx="49320" cy="1508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052960" y="2465640"/>
                  <a:ext cx="49320" cy="150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76320">
                  <a:solidFill>
                    <a:srgbClr val="cc9900"/>
                  </a:solidFill>
                  <a:miter/>
                </a:ln>
                <a:effectLst>
                  <a:outerShdw dist="153753" dir="2700000" blurRad="0" rotWithShape="0">
                    <a:srgbClr val="795b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5062680" y="2511000"/>
                  <a:ext cx="32760" cy="70200"/>
                  <a:chOff x="5062680" y="2511000"/>
                  <a:chExt cx="32760" cy="702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5063760" y="2558880"/>
                    <a:ext cx="72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5066640" y="2552400"/>
                    <a:ext cx="20160" cy="25560"/>
                  </a:xfrm>
                  <a:custGeom>
                    <a:avLst/>
                    <a:gdLst>
                      <a:gd name="textAreaLeft" fmla="*/ 720 w 20160"/>
                      <a:gd name="textAreaRight" fmla="*/ 19440 w 20160"/>
                      <a:gd name="textAreaTop" fmla="*/ 720 h 25560"/>
                      <a:gd name="textAreaBottom" fmla="*/ 24840 h 25560"/>
                    </a:gdLst>
                    <a:ahLst/>
                    <a:rect l="textAreaLeft" t="textAreaTop" r="textAreaRight" b="textAreaBottom"/>
                    <a:pathLst>
                      <a:path w="21600" h="27284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4585"/>
                        </a:lnTo>
                        <a:arcTo wR="2699" hR="2699" stAng="10800000" swAng="-5400000"/>
                        <a:lnTo>
                          <a:pt x="18901" y="27284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069520" y="2539080"/>
                    <a:ext cx="19080" cy="3348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064840" y="2536200"/>
                    <a:ext cx="1584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067720" y="2511000"/>
                    <a:ext cx="122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070600" y="2529360"/>
                    <a:ext cx="248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5069880" y="2517120"/>
                    <a:ext cx="10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5070240" y="2533320"/>
                    <a:ext cx="10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5081040" y="2542680"/>
                    <a:ext cx="10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5073480" y="2536200"/>
                    <a:ext cx="10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062680" y="2520360"/>
                    <a:ext cx="10080" cy="15480"/>
                    <a:chOff x="5062680" y="2520360"/>
                    <a:chExt cx="10080" cy="1548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20580000">
                      <a:off x="5065200" y="2520360"/>
                      <a:ext cx="5400" cy="1476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5066280" y="2520720"/>
                      <a:ext cx="3960" cy="1476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rot="20160000">
                      <a:off x="5065200" y="2520360"/>
                      <a:ext cx="4680" cy="1440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069160" y="2539080"/>
                    <a:ext cx="14760" cy="21960"/>
                    <a:chOff x="5069160" y="2539080"/>
                    <a:chExt cx="14760" cy="2196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20580000">
                      <a:off x="5072400" y="2539800"/>
                      <a:ext cx="8640" cy="20160"/>
                    </a:xfrm>
                    <a:prstGeom prst="star5">
                      <a:avLst/>
                    </a:prstGeom>
                    <a:blipFill rotWithShape="0">
                      <a:blip r:embed="rId80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5073840" y="2539800"/>
                      <a:ext cx="6480" cy="20160"/>
                    </a:xfrm>
                    <a:prstGeom prst="star5">
                      <a:avLst/>
                    </a:prstGeom>
                    <a:blipFill rotWithShape="0">
                      <a:blip r:embed="rId81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20160000">
                      <a:off x="5072760" y="2539440"/>
                      <a:ext cx="7200" cy="19440"/>
                    </a:xfrm>
                    <a:prstGeom prst="star5">
                      <a:avLst/>
                    </a:prstGeom>
                    <a:blipFill rotWithShape="0">
                      <a:blip r:embed="rId82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5081040" y="2561760"/>
                    <a:ext cx="10080" cy="15480"/>
                    <a:chOff x="5081040" y="2561760"/>
                    <a:chExt cx="10080" cy="1548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rot="20580000">
                      <a:off x="5083200" y="2561760"/>
                      <a:ext cx="5400" cy="14760"/>
                    </a:xfrm>
                    <a:prstGeom prst="star5">
                      <a:avLst/>
                    </a:prstGeom>
                    <a:blipFill rotWithShape="0">
                      <a:blip r:embed="rId83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5084280" y="2562120"/>
                      <a:ext cx="3960" cy="14760"/>
                    </a:xfrm>
                    <a:prstGeom prst="star5">
                      <a:avLst/>
                    </a:prstGeom>
                    <a:blipFill rotWithShape="0">
                      <a:blip r:embed="rId84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rot="20160000">
                      <a:off x="5083560" y="2561760"/>
                      <a:ext cx="4680" cy="14040"/>
                    </a:xfrm>
                    <a:prstGeom prst="star5">
                      <a:avLst/>
                    </a:prstGeom>
                    <a:blipFill rotWithShape="0">
                      <a:blip r:embed="rId85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60" name=""/>
              <p:cNvSpPr txBox="1"/>
              <p:nvPr/>
            </p:nvSpPr>
            <p:spPr>
              <a:xfrm>
                <a:off x="5099040" y="2735280"/>
                <a:ext cx="598680" cy="15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86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Monitor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8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3877560" y="23353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58600" y="37656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51160" y="38656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659120" y="3975120"/>
            <a:ext cx="4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660920" y="4508640"/>
            <a:ext cx="4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16520" y="3137040"/>
            <a:ext cx="4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06840" y="3427560"/>
            <a:ext cx="4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21240" y="2973240"/>
            <a:ext cx="42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6880" y="3365640"/>
            <a:ext cx="4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54280" y="927000"/>
            <a:ext cx="6019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Quality Decision Loop Speed 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for Nested Command Centers Sharing COP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82160" y="5226120"/>
            <a:ext cx="6022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) )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6.0) Nested Command Center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59840" y="2662200"/>
            <a:ext cx="235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hared Awar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61640" y="2952720"/>
            <a:ext cx="183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Share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304920" y="1066680"/>
            <a:ext cx="8705880" cy="4876920"/>
            <a:chOff x="304920" y="1066680"/>
            <a:chExt cx="8705880" cy="4876920"/>
          </a:xfrm>
        </p:grpSpPr>
        <p:grpSp>
          <p:nvGrpSpPr>
            <p:cNvPr id="675" name=""/>
            <p:cNvGrpSpPr/>
            <p:nvPr/>
          </p:nvGrpSpPr>
          <p:grpSpPr>
            <a:xfrm>
              <a:off x="307800" y="1069200"/>
              <a:ext cx="8699040" cy="4871160"/>
              <a:chOff x="307800" y="1069200"/>
              <a:chExt cx="8699040" cy="48711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307800" y="1069200"/>
                <a:ext cx="1881720" cy="897120"/>
                <a:chOff x="307800" y="1069200"/>
                <a:chExt cx="1881720" cy="89712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72600" y="1069200"/>
                  <a:ext cx="175140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860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enari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07800" y="1069200"/>
                  <a:ext cx="188172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2189520" y="1069200"/>
                <a:ext cx="2184480" cy="897120"/>
                <a:chOff x="2189520" y="1069200"/>
                <a:chExt cx="2184480" cy="8971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2253960" y="1069200"/>
                  <a:ext cx="20548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xp Treat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189520" y="1069200"/>
                  <a:ext cx="218448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374000" y="1069200"/>
                <a:ext cx="2023200" cy="897120"/>
                <a:chOff x="4374000" y="1069200"/>
                <a:chExt cx="2023200" cy="89712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438800" y="1069200"/>
                  <a:ext cx="189324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arison Grou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374000" y="1069200"/>
                  <a:ext cx="202320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6397560" y="1069200"/>
                <a:ext cx="2609280" cy="897120"/>
                <a:chOff x="6397560" y="1069200"/>
                <a:chExt cx="2609280" cy="897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462360" y="1069200"/>
                  <a:ext cx="247932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nding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97560" y="1069200"/>
                  <a:ext cx="260928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07800" y="1966320"/>
                <a:ext cx="1881720" cy="1153440"/>
                <a:chOff x="307800" y="1966320"/>
                <a:chExt cx="1881720" cy="115344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372600" y="1966320"/>
                  <a:ext cx="175140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97 Air Force Exerci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07800" y="1966320"/>
                  <a:ext cx="188172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2189520" y="1966320"/>
                <a:ext cx="2184480" cy="1153440"/>
                <a:chOff x="2189520" y="1966320"/>
                <a:chExt cx="2184480" cy="115344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2253960" y="1966320"/>
                  <a:ext cx="205488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TIDS Equipped Aircraf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189520" y="1966320"/>
                  <a:ext cx="218448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4374000" y="1966320"/>
                <a:ext cx="2023200" cy="1153440"/>
                <a:chOff x="4374000" y="1966320"/>
                <a:chExt cx="2023200" cy="115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4438800" y="1966320"/>
                  <a:ext cx="189324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JTIDS on Aircraf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374000" y="1966320"/>
                  <a:ext cx="202320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397560" y="1966320"/>
                <a:ext cx="2609280" cy="1153440"/>
                <a:chOff x="6397560" y="1966320"/>
                <a:chExt cx="2609280" cy="11534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462360" y="1966320"/>
                  <a:ext cx="247932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% improvement in kill ratios for 12,000 sort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397560" y="1966320"/>
                  <a:ext cx="260928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307800" y="3120120"/>
                <a:ext cx="1881720" cy="1666440"/>
                <a:chOff x="307800" y="3120120"/>
                <a:chExt cx="1881720" cy="16664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372600" y="3120120"/>
                  <a:ext cx="1751400" cy="16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98 Navy Fleet Battle Experi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07800" y="3120120"/>
                  <a:ext cx="1881720" cy="166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189520" y="3120120"/>
                <a:ext cx="2184480" cy="1666440"/>
                <a:chOff x="2189520" y="3120120"/>
                <a:chExt cx="2184480" cy="166644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2253960" y="3120120"/>
                  <a:ext cx="2054880" cy="16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hared COP between Army Helicopters, Air Force AC 130s, and Navy Uni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189520" y="3120120"/>
                  <a:ext cx="2184480" cy="166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374000" y="3120120"/>
                <a:ext cx="2023200" cy="1666440"/>
                <a:chOff x="4374000" y="3120120"/>
                <a:chExt cx="2023200" cy="16664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438800" y="3120120"/>
                  <a:ext cx="1893240" cy="16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hared C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374000" y="3120120"/>
                  <a:ext cx="2023200" cy="166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6397560" y="3120120"/>
                <a:ext cx="2609280" cy="1666440"/>
                <a:chOff x="6397560" y="3120120"/>
                <a:chExt cx="2609280" cy="166644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462360" y="3120120"/>
                  <a:ext cx="2479320" cy="16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roved combat power and faster mission accomplishment, T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improved 50%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397560" y="3120120"/>
                  <a:ext cx="2609280" cy="166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307800" y="4786920"/>
                <a:ext cx="1881720" cy="1153440"/>
                <a:chOff x="307800" y="4786920"/>
                <a:chExt cx="1881720" cy="11534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372600" y="4786920"/>
                  <a:ext cx="175140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98 Army Task Force XXI Exerci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07800" y="4786920"/>
                  <a:ext cx="188172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189520" y="4786920"/>
                <a:ext cx="2184480" cy="1153440"/>
                <a:chOff x="2189520" y="4786920"/>
                <a:chExt cx="2184480" cy="11534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253960" y="4786920"/>
                  <a:ext cx="205488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hared tactical Interne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189520" y="4786920"/>
                  <a:ext cx="218448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374000" y="4786920"/>
                <a:ext cx="2023200" cy="1153440"/>
                <a:chOff x="4374000" y="4786920"/>
                <a:chExt cx="2023200" cy="115344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4438800" y="4786920"/>
                  <a:ext cx="189324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tactical Interne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374000" y="4786920"/>
                  <a:ext cx="202320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6397560" y="4786920"/>
                <a:ext cx="2609280" cy="1153440"/>
                <a:chOff x="6397560" y="4786920"/>
                <a:chExt cx="2609280" cy="115344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462360" y="4786920"/>
                  <a:ext cx="2479320" cy="115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roved combat power and 10 fold increase in lethal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397560" y="4786920"/>
                  <a:ext cx="2609280" cy="115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4" name=""/>
            <p:cNvSpPr/>
            <p:nvPr/>
          </p:nvSpPr>
          <p:spPr>
            <a:xfrm>
              <a:off x="304920" y="1066680"/>
              <a:ext cx="8705880" cy="48769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0" y="16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from Three Military Exercises with Shared “COP” Schema, 1997-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880" y="6126120"/>
            <a:ext cx="856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en with similar weaponry, sharing a more complete picture of the battlespace is positively correlated with improved combat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57200" y="380880"/>
            <a:ext cx="8381880" cy="61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Results from Controlled Experiment with Shared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ontrolled experimentation affords the only method for unequivocal testing of causal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: Air/Sea battle set in Persian Gulf with CJTF on carrier and two ship cap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 Treatment: CJTF and both ship captains comprise a CAS sharing COP schema fed by organic sensors and overhead surveillance and reconnaissance and with shared CAP white board for collaborative plan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reatment: Big picture from national sensors at CJTF. Little picture from organic sensors at ship captains. Phone commun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weaponry with experimentals and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Results:  Higher 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higher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experimental condition; much higher 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self organization upon withdrawing CJTF from operation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58560" y="761760"/>
            <a:ext cx="839124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What are the causal effects of C4ISR on combat outcomes? (PBD 070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:  C2 decision-ma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:  JWARS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221440" y="4782960"/>
            <a:ext cx="2931840" cy="132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4797360"/>
            <a:ext cx="28195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33240" y="382104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76320"/>
            <a:ext cx="8534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of C4ISR on Combat Outcome: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plex Adaptive System/Lanchester Model (Dr. Hini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nikerp@ncr.disa.military, 7/31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962520" cy="2268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1480" y="3941640"/>
            <a:ext cx="3179880" cy="2687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157720" y="1528920"/>
            <a:ext cx="3000600" cy="1850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876920" y="3941640"/>
            <a:ext cx="35636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685800" y="907920"/>
            <a:ext cx="7772400" cy="5416560"/>
            <a:chOff x="685800" y="907920"/>
            <a:chExt cx="7772400" cy="5416560"/>
          </a:xfrm>
        </p:grpSpPr>
        <p:sp>
          <p:nvSpPr>
            <p:cNvPr id="91" name="PlaceHolder 1"/>
            <p:cNvSpPr>
              <a:spLocks noGrp="1"/>
            </p:cNvSpPr>
            <p:nvPr>
              <p:ph type="title"/>
            </p:nvPr>
          </p:nvSpPr>
          <p:spPr>
            <a:xfrm>
              <a:off x="990720" y="907920"/>
              <a:ext cx="7238880" cy="84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pproach: Command Center as Complex Adaptive System (CAS) with Schem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685800" y="1892160"/>
              <a:ext cx="7772400" cy="4432320"/>
              <a:chOff x="685800" y="1892160"/>
              <a:chExt cx="7772400" cy="4432320"/>
            </a:xfrm>
          </p:grpSpPr>
          <p:sp>
            <p:nvSpPr>
              <p:cNvPr id="93" name=""/>
              <p:cNvSpPr/>
              <p:nvPr/>
            </p:nvSpPr>
            <p:spPr>
              <a:xfrm>
                <a:off x="711360" y="1892160"/>
                <a:ext cx="7746840" cy="443232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d3d3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07040" y="5857920"/>
                <a:ext cx="1996920" cy="28404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685800" y="2543040"/>
                <a:ext cx="1515600" cy="2049120"/>
                <a:chOff x="685800" y="2543040"/>
                <a:chExt cx="1515600" cy="20491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85800" y="3936600"/>
                  <a:ext cx="356760" cy="614520"/>
                </a:xfrm>
                <a:custGeom>
                  <a:avLst/>
                  <a:gdLst/>
                  <a:ahLst/>
                  <a:rect l="l" t="t" r="r" b="b"/>
                  <a:pathLst>
                    <a:path w="224" h="169">
                      <a:moveTo>
                        <a:pt x="21" y="0"/>
                      </a:moveTo>
                      <a:lnTo>
                        <a:pt x="39" y="11"/>
                      </a:lnTo>
                      <a:lnTo>
                        <a:pt x="51" y="15"/>
                      </a:lnTo>
                      <a:lnTo>
                        <a:pt x="64" y="15"/>
                      </a:lnTo>
                      <a:lnTo>
                        <a:pt x="86" y="23"/>
                      </a:lnTo>
                      <a:lnTo>
                        <a:pt x="99" y="23"/>
                      </a:lnTo>
                      <a:lnTo>
                        <a:pt x="116" y="27"/>
                      </a:lnTo>
                      <a:lnTo>
                        <a:pt x="129" y="30"/>
                      </a:lnTo>
                      <a:lnTo>
                        <a:pt x="142" y="30"/>
                      </a:lnTo>
                      <a:lnTo>
                        <a:pt x="159" y="38"/>
                      </a:lnTo>
                      <a:lnTo>
                        <a:pt x="163" y="49"/>
                      </a:lnTo>
                      <a:lnTo>
                        <a:pt x="163" y="61"/>
                      </a:lnTo>
                      <a:lnTo>
                        <a:pt x="163" y="72"/>
                      </a:lnTo>
                      <a:lnTo>
                        <a:pt x="176" y="80"/>
                      </a:lnTo>
                      <a:lnTo>
                        <a:pt x="184" y="91"/>
                      </a:lnTo>
                      <a:lnTo>
                        <a:pt x="197" y="102"/>
                      </a:lnTo>
                      <a:lnTo>
                        <a:pt x="202" y="114"/>
                      </a:lnTo>
                      <a:lnTo>
                        <a:pt x="202" y="125"/>
                      </a:lnTo>
                      <a:lnTo>
                        <a:pt x="202" y="136"/>
                      </a:lnTo>
                      <a:lnTo>
                        <a:pt x="202" y="148"/>
                      </a:lnTo>
                      <a:lnTo>
                        <a:pt x="193" y="159"/>
                      </a:lnTo>
                      <a:lnTo>
                        <a:pt x="210" y="168"/>
                      </a:lnTo>
                      <a:lnTo>
                        <a:pt x="223" y="168"/>
                      </a:lnTo>
                      <a:lnTo>
                        <a:pt x="210" y="168"/>
                      </a:lnTo>
                      <a:lnTo>
                        <a:pt x="193" y="168"/>
                      </a:lnTo>
                      <a:lnTo>
                        <a:pt x="176" y="168"/>
                      </a:lnTo>
                      <a:lnTo>
                        <a:pt x="159" y="168"/>
                      </a:lnTo>
                      <a:lnTo>
                        <a:pt x="142" y="167"/>
                      </a:lnTo>
                      <a:lnTo>
                        <a:pt x="129" y="163"/>
                      </a:lnTo>
                      <a:lnTo>
                        <a:pt x="116" y="163"/>
                      </a:lnTo>
                      <a:lnTo>
                        <a:pt x="103" y="167"/>
                      </a:lnTo>
                      <a:lnTo>
                        <a:pt x="90" y="167"/>
                      </a:lnTo>
                      <a:lnTo>
                        <a:pt x="73" y="168"/>
                      </a:lnTo>
                      <a:lnTo>
                        <a:pt x="56" y="168"/>
                      </a:lnTo>
                      <a:lnTo>
                        <a:pt x="39" y="167"/>
                      </a:lnTo>
                      <a:lnTo>
                        <a:pt x="26" y="167"/>
                      </a:lnTo>
                      <a:lnTo>
                        <a:pt x="13" y="167"/>
                      </a:lnTo>
                      <a:lnTo>
                        <a:pt x="0" y="167"/>
                      </a:lnTo>
                      <a:lnTo>
                        <a:pt x="0" y="155"/>
                      </a:lnTo>
                      <a:lnTo>
                        <a:pt x="0" y="144"/>
                      </a:lnTo>
                      <a:lnTo>
                        <a:pt x="0" y="129"/>
                      </a:lnTo>
                      <a:lnTo>
                        <a:pt x="4" y="117"/>
                      </a:lnTo>
                      <a:lnTo>
                        <a:pt x="0" y="106"/>
                      </a:lnTo>
                      <a:lnTo>
                        <a:pt x="0" y="95"/>
                      </a:lnTo>
                      <a:lnTo>
                        <a:pt x="0" y="83"/>
                      </a:lnTo>
                      <a:lnTo>
                        <a:pt x="0" y="72"/>
                      </a:lnTo>
                      <a:lnTo>
                        <a:pt x="0" y="61"/>
                      </a:lnTo>
                      <a:lnTo>
                        <a:pt x="0" y="45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0" y="11"/>
                      </a:lnTo>
                      <a:lnTo>
                        <a:pt x="13" y="4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4ecfd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30160" y="3746160"/>
                  <a:ext cx="970200" cy="748440"/>
                </a:xfrm>
                <a:prstGeom prst="roundRect">
                  <a:avLst>
                    <a:gd name="adj" fmla="val 12495"/>
                  </a:avLst>
                </a:prstGeom>
                <a:gradFill rotWithShape="0">
                  <a:gsLst>
                    <a:gs pos="0">
                      <a:srgbClr val="00ae00"/>
                    </a:gs>
                    <a:gs pos="100000">
                      <a:srgbClr val="003300"/>
                    </a:gs>
                  </a:gsLst>
                  <a:lin ang="5400000"/>
                </a:gradFill>
                <a:ln w="12600">
                  <a:solidFill>
                    <a:srgbClr val="183400"/>
                  </a:solidFill>
                  <a:miter/>
                </a:ln>
                <a:effectLst>
                  <a:outerShdw dist="107932" dir="2700000" blurRad="0" rotWithShape="0">
                    <a:srgbClr val="31650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971640" y="3364200"/>
                  <a:ext cx="9154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520" y="3277440"/>
                  <a:ext cx="753840" cy="991800"/>
                </a:xfrm>
                <a:custGeom>
                  <a:avLst/>
                  <a:gdLst/>
                  <a:ahLst/>
                  <a:rect l="l" t="t" r="r" b="b"/>
                  <a:pathLst>
                    <a:path w="473" h="273">
                      <a:moveTo>
                        <a:pt x="47" y="71"/>
                      </a:moveTo>
                      <a:lnTo>
                        <a:pt x="31" y="76"/>
                      </a:lnTo>
                      <a:lnTo>
                        <a:pt x="18" y="85"/>
                      </a:lnTo>
                      <a:lnTo>
                        <a:pt x="8" y="97"/>
                      </a:lnTo>
                      <a:lnTo>
                        <a:pt x="2" y="111"/>
                      </a:lnTo>
                      <a:lnTo>
                        <a:pt x="0" y="125"/>
                      </a:lnTo>
                      <a:lnTo>
                        <a:pt x="0" y="132"/>
                      </a:lnTo>
                      <a:lnTo>
                        <a:pt x="2" y="140"/>
                      </a:lnTo>
                      <a:lnTo>
                        <a:pt x="8" y="154"/>
                      </a:lnTo>
                      <a:lnTo>
                        <a:pt x="18" y="167"/>
                      </a:lnTo>
                      <a:lnTo>
                        <a:pt x="13" y="186"/>
                      </a:lnTo>
                      <a:lnTo>
                        <a:pt x="13" y="195"/>
                      </a:lnTo>
                      <a:lnTo>
                        <a:pt x="15" y="204"/>
                      </a:lnTo>
                      <a:lnTo>
                        <a:pt x="23" y="219"/>
                      </a:lnTo>
                      <a:lnTo>
                        <a:pt x="37" y="232"/>
                      </a:lnTo>
                      <a:lnTo>
                        <a:pt x="53" y="240"/>
                      </a:lnTo>
                      <a:lnTo>
                        <a:pt x="71" y="243"/>
                      </a:lnTo>
                      <a:lnTo>
                        <a:pt x="90" y="239"/>
                      </a:lnTo>
                      <a:lnTo>
                        <a:pt x="108" y="229"/>
                      </a:lnTo>
                      <a:lnTo>
                        <a:pt x="135" y="245"/>
                      </a:lnTo>
                      <a:lnTo>
                        <a:pt x="165" y="254"/>
                      </a:lnTo>
                      <a:lnTo>
                        <a:pt x="181" y="255"/>
                      </a:lnTo>
                      <a:lnTo>
                        <a:pt x="189" y="255"/>
                      </a:lnTo>
                      <a:lnTo>
                        <a:pt x="197" y="254"/>
                      </a:lnTo>
                      <a:lnTo>
                        <a:pt x="228" y="245"/>
                      </a:lnTo>
                      <a:lnTo>
                        <a:pt x="247" y="258"/>
                      </a:lnTo>
                      <a:lnTo>
                        <a:pt x="269" y="266"/>
                      </a:lnTo>
                      <a:lnTo>
                        <a:pt x="291" y="271"/>
                      </a:lnTo>
                      <a:lnTo>
                        <a:pt x="303" y="272"/>
                      </a:lnTo>
                      <a:lnTo>
                        <a:pt x="308" y="272"/>
                      </a:lnTo>
                      <a:lnTo>
                        <a:pt x="314" y="272"/>
                      </a:lnTo>
                      <a:lnTo>
                        <a:pt x="359" y="262"/>
                      </a:lnTo>
                      <a:lnTo>
                        <a:pt x="379" y="251"/>
                      </a:lnTo>
                      <a:lnTo>
                        <a:pt x="398" y="235"/>
                      </a:lnTo>
                      <a:lnTo>
                        <a:pt x="410" y="237"/>
                      </a:lnTo>
                      <a:lnTo>
                        <a:pt x="415" y="237"/>
                      </a:lnTo>
                      <a:lnTo>
                        <a:pt x="421" y="236"/>
                      </a:lnTo>
                      <a:lnTo>
                        <a:pt x="440" y="230"/>
                      </a:lnTo>
                      <a:lnTo>
                        <a:pt x="456" y="218"/>
                      </a:lnTo>
                      <a:lnTo>
                        <a:pt x="467" y="202"/>
                      </a:lnTo>
                      <a:lnTo>
                        <a:pt x="472" y="184"/>
                      </a:lnTo>
                      <a:lnTo>
                        <a:pt x="472" y="175"/>
                      </a:lnTo>
                      <a:lnTo>
                        <a:pt x="470" y="165"/>
                      </a:lnTo>
                      <a:lnTo>
                        <a:pt x="462" y="147"/>
                      </a:lnTo>
                      <a:lnTo>
                        <a:pt x="445" y="132"/>
                      </a:lnTo>
                      <a:lnTo>
                        <a:pt x="455" y="121"/>
                      </a:lnTo>
                      <a:lnTo>
                        <a:pt x="459" y="109"/>
                      </a:lnTo>
                      <a:lnTo>
                        <a:pt x="460" y="104"/>
                      </a:lnTo>
                      <a:lnTo>
                        <a:pt x="459" y="98"/>
                      </a:lnTo>
                      <a:lnTo>
                        <a:pt x="454" y="86"/>
                      </a:lnTo>
                      <a:lnTo>
                        <a:pt x="446" y="78"/>
                      </a:lnTo>
                      <a:lnTo>
                        <a:pt x="435" y="71"/>
                      </a:lnTo>
                      <a:lnTo>
                        <a:pt x="422" y="69"/>
                      </a:lnTo>
                      <a:lnTo>
                        <a:pt x="419" y="69"/>
                      </a:lnTo>
                      <a:lnTo>
                        <a:pt x="415" y="69"/>
                      </a:lnTo>
                      <a:lnTo>
                        <a:pt x="408" y="71"/>
                      </a:lnTo>
                      <a:lnTo>
                        <a:pt x="385" y="52"/>
                      </a:lnTo>
                      <a:lnTo>
                        <a:pt x="357" y="40"/>
                      </a:lnTo>
                      <a:lnTo>
                        <a:pt x="343" y="38"/>
                      </a:lnTo>
                      <a:lnTo>
                        <a:pt x="335" y="37"/>
                      </a:lnTo>
                      <a:lnTo>
                        <a:pt x="331" y="37"/>
                      </a:lnTo>
                      <a:lnTo>
                        <a:pt x="327" y="37"/>
                      </a:lnTo>
                      <a:lnTo>
                        <a:pt x="297" y="43"/>
                      </a:lnTo>
                      <a:lnTo>
                        <a:pt x="283" y="25"/>
                      </a:lnTo>
                      <a:lnTo>
                        <a:pt x="265" y="11"/>
                      </a:lnTo>
                      <a:lnTo>
                        <a:pt x="245" y="3"/>
                      </a:lnTo>
                      <a:lnTo>
                        <a:pt x="223" y="0"/>
                      </a:lnTo>
                      <a:lnTo>
                        <a:pt x="217" y="0"/>
                      </a:lnTo>
                      <a:lnTo>
                        <a:pt x="212" y="0"/>
                      </a:lnTo>
                      <a:lnTo>
                        <a:pt x="200" y="3"/>
                      </a:lnTo>
                      <a:lnTo>
                        <a:pt x="180" y="11"/>
                      </a:lnTo>
                      <a:lnTo>
                        <a:pt x="162" y="24"/>
                      </a:lnTo>
                      <a:lnTo>
                        <a:pt x="148" y="43"/>
                      </a:lnTo>
                      <a:lnTo>
                        <a:pt x="135" y="32"/>
                      </a:lnTo>
                      <a:lnTo>
                        <a:pt x="120" y="25"/>
                      </a:lnTo>
                      <a:lnTo>
                        <a:pt x="104" y="23"/>
                      </a:lnTo>
                      <a:lnTo>
                        <a:pt x="100" y="23"/>
                      </a:lnTo>
                      <a:lnTo>
                        <a:pt x="96" y="23"/>
                      </a:lnTo>
                      <a:lnTo>
                        <a:pt x="88" y="25"/>
                      </a:lnTo>
                      <a:lnTo>
                        <a:pt x="73" y="31"/>
                      </a:lnTo>
                      <a:lnTo>
                        <a:pt x="61" y="41"/>
                      </a:lnTo>
                      <a:lnTo>
                        <a:pt x="52" y="54"/>
                      </a:lnTo>
                      <a:lnTo>
                        <a:pt x="47" y="71"/>
                      </a:lnTo>
                      <a:lnTo>
                        <a:pt x="47" y="71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78040" y="2543040"/>
                  <a:ext cx="585360" cy="1446840"/>
                </a:xfrm>
                <a:custGeom>
                  <a:avLst/>
                  <a:gdLst/>
                  <a:ahLst/>
                  <a:rect l="l" t="t" r="r" b="b"/>
                  <a:pathLst>
                    <a:path w="368" h="398">
                      <a:moveTo>
                        <a:pt x="95" y="358"/>
                      </a:moveTo>
                      <a:lnTo>
                        <a:pt x="103" y="371"/>
                      </a:lnTo>
                      <a:lnTo>
                        <a:pt x="115" y="382"/>
                      </a:lnTo>
                      <a:lnTo>
                        <a:pt x="131" y="390"/>
                      </a:lnTo>
                      <a:lnTo>
                        <a:pt x="149" y="395"/>
                      </a:lnTo>
                      <a:lnTo>
                        <a:pt x="169" y="397"/>
                      </a:lnTo>
                      <a:lnTo>
                        <a:pt x="178" y="397"/>
                      </a:lnTo>
                      <a:lnTo>
                        <a:pt x="189" y="395"/>
                      </a:lnTo>
                      <a:lnTo>
                        <a:pt x="208" y="390"/>
                      </a:lnTo>
                      <a:lnTo>
                        <a:pt x="225" y="382"/>
                      </a:lnTo>
                      <a:lnTo>
                        <a:pt x="251" y="386"/>
                      </a:lnTo>
                      <a:lnTo>
                        <a:pt x="263" y="386"/>
                      </a:lnTo>
                      <a:lnTo>
                        <a:pt x="275" y="384"/>
                      </a:lnTo>
                      <a:lnTo>
                        <a:pt x="296" y="377"/>
                      </a:lnTo>
                      <a:lnTo>
                        <a:pt x="313" y="366"/>
                      </a:lnTo>
                      <a:lnTo>
                        <a:pt x="324" y="352"/>
                      </a:lnTo>
                      <a:lnTo>
                        <a:pt x="327" y="337"/>
                      </a:lnTo>
                      <a:lnTo>
                        <a:pt x="323" y="321"/>
                      </a:lnTo>
                      <a:lnTo>
                        <a:pt x="308" y="306"/>
                      </a:lnTo>
                      <a:lnTo>
                        <a:pt x="331" y="284"/>
                      </a:lnTo>
                      <a:lnTo>
                        <a:pt x="343" y="258"/>
                      </a:lnTo>
                      <a:lnTo>
                        <a:pt x="344" y="245"/>
                      </a:lnTo>
                      <a:lnTo>
                        <a:pt x="344" y="238"/>
                      </a:lnTo>
                      <a:lnTo>
                        <a:pt x="343" y="231"/>
                      </a:lnTo>
                      <a:lnTo>
                        <a:pt x="331" y="205"/>
                      </a:lnTo>
                      <a:lnTo>
                        <a:pt x="348" y="189"/>
                      </a:lnTo>
                      <a:lnTo>
                        <a:pt x="359" y="171"/>
                      </a:lnTo>
                      <a:lnTo>
                        <a:pt x="365" y="152"/>
                      </a:lnTo>
                      <a:lnTo>
                        <a:pt x="367" y="143"/>
                      </a:lnTo>
                      <a:lnTo>
                        <a:pt x="367" y="138"/>
                      </a:lnTo>
                      <a:lnTo>
                        <a:pt x="367" y="133"/>
                      </a:lnTo>
                      <a:lnTo>
                        <a:pt x="353" y="95"/>
                      </a:lnTo>
                      <a:lnTo>
                        <a:pt x="338" y="78"/>
                      </a:lnTo>
                      <a:lnTo>
                        <a:pt x="318" y="62"/>
                      </a:lnTo>
                      <a:lnTo>
                        <a:pt x="319" y="53"/>
                      </a:lnTo>
                      <a:lnTo>
                        <a:pt x="319" y="48"/>
                      </a:lnTo>
                      <a:lnTo>
                        <a:pt x="319" y="43"/>
                      </a:lnTo>
                      <a:lnTo>
                        <a:pt x="310" y="27"/>
                      </a:lnTo>
                      <a:lnTo>
                        <a:pt x="294" y="14"/>
                      </a:lnTo>
                      <a:lnTo>
                        <a:pt x="273" y="5"/>
                      </a:lnTo>
                      <a:lnTo>
                        <a:pt x="249" y="0"/>
                      </a:lnTo>
                      <a:lnTo>
                        <a:pt x="236" y="0"/>
                      </a:lnTo>
                      <a:lnTo>
                        <a:pt x="223" y="1"/>
                      </a:lnTo>
                      <a:lnTo>
                        <a:pt x="199" y="9"/>
                      </a:lnTo>
                      <a:lnTo>
                        <a:pt x="178" y="22"/>
                      </a:lnTo>
                      <a:lnTo>
                        <a:pt x="164" y="14"/>
                      </a:lnTo>
                      <a:lnTo>
                        <a:pt x="148" y="11"/>
                      </a:lnTo>
                      <a:lnTo>
                        <a:pt x="140" y="10"/>
                      </a:lnTo>
                      <a:lnTo>
                        <a:pt x="132" y="11"/>
                      </a:lnTo>
                      <a:lnTo>
                        <a:pt x="117" y="15"/>
                      </a:lnTo>
                      <a:lnTo>
                        <a:pt x="105" y="22"/>
                      </a:lnTo>
                      <a:lnTo>
                        <a:pt x="96" y="31"/>
                      </a:lnTo>
                      <a:lnTo>
                        <a:pt x="93" y="42"/>
                      </a:lnTo>
                      <a:lnTo>
                        <a:pt x="93" y="45"/>
                      </a:lnTo>
                      <a:lnTo>
                        <a:pt x="93" y="48"/>
                      </a:lnTo>
                      <a:lnTo>
                        <a:pt x="96" y="54"/>
                      </a:lnTo>
                      <a:lnTo>
                        <a:pt x="70" y="73"/>
                      </a:lnTo>
                      <a:lnTo>
                        <a:pt x="54" y="96"/>
                      </a:lnTo>
                      <a:lnTo>
                        <a:pt x="51" y="109"/>
                      </a:lnTo>
                      <a:lnTo>
                        <a:pt x="50" y="115"/>
                      </a:lnTo>
                      <a:lnTo>
                        <a:pt x="50" y="118"/>
                      </a:lnTo>
                      <a:lnTo>
                        <a:pt x="50" y="122"/>
                      </a:lnTo>
                      <a:lnTo>
                        <a:pt x="59" y="147"/>
                      </a:lnTo>
                      <a:lnTo>
                        <a:pt x="33" y="159"/>
                      </a:lnTo>
                      <a:lnTo>
                        <a:pt x="15" y="174"/>
                      </a:lnTo>
                      <a:lnTo>
                        <a:pt x="4" y="191"/>
                      </a:lnTo>
                      <a:lnTo>
                        <a:pt x="0" y="210"/>
                      </a:lnTo>
                      <a:lnTo>
                        <a:pt x="0" y="214"/>
                      </a:lnTo>
                      <a:lnTo>
                        <a:pt x="1" y="219"/>
                      </a:lnTo>
                      <a:lnTo>
                        <a:pt x="4" y="228"/>
                      </a:lnTo>
                      <a:lnTo>
                        <a:pt x="14" y="246"/>
                      </a:lnTo>
                      <a:lnTo>
                        <a:pt x="33" y="261"/>
                      </a:lnTo>
                      <a:lnTo>
                        <a:pt x="59" y="273"/>
                      </a:lnTo>
                      <a:lnTo>
                        <a:pt x="43" y="283"/>
                      </a:lnTo>
                      <a:lnTo>
                        <a:pt x="34" y="296"/>
                      </a:lnTo>
                      <a:lnTo>
                        <a:pt x="31" y="309"/>
                      </a:lnTo>
                      <a:lnTo>
                        <a:pt x="31" y="313"/>
                      </a:lnTo>
                      <a:lnTo>
                        <a:pt x="31" y="316"/>
                      </a:lnTo>
                      <a:lnTo>
                        <a:pt x="34" y="323"/>
                      </a:lnTo>
                      <a:lnTo>
                        <a:pt x="42" y="335"/>
                      </a:lnTo>
                      <a:lnTo>
                        <a:pt x="55" y="346"/>
                      </a:lnTo>
                      <a:lnTo>
                        <a:pt x="73" y="354"/>
                      </a:lnTo>
                      <a:lnTo>
                        <a:pt x="95" y="357"/>
                      </a:lnTo>
                      <a:lnTo>
                        <a:pt x="95" y="358"/>
                      </a:lnTo>
                    </a:path>
                  </a:pathLst>
                </a:custGeom>
                <a:gradFill rotWithShape="0">
                  <a:gsLst>
                    <a:gs pos="0">
                      <a:srgbClr val="e4e4e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025280" y="3080160"/>
                  <a:ext cx="1176120" cy="1189080"/>
                </a:xfrm>
                <a:custGeom>
                  <a:avLst/>
                  <a:gdLst/>
                  <a:ahLst/>
                  <a:rect l="l" t="t" r="r" b="b"/>
                  <a:pathLst>
                    <a:path w="738" h="327">
                      <a:moveTo>
                        <a:pt x="73" y="85"/>
                      </a:moveTo>
                      <a:lnTo>
                        <a:pt x="48" y="91"/>
                      </a:lnTo>
                      <a:lnTo>
                        <a:pt x="28" y="102"/>
                      </a:lnTo>
                      <a:lnTo>
                        <a:pt x="13" y="116"/>
                      </a:lnTo>
                      <a:lnTo>
                        <a:pt x="3" y="133"/>
                      </a:lnTo>
                      <a:lnTo>
                        <a:pt x="0" y="150"/>
                      </a:lnTo>
                      <a:lnTo>
                        <a:pt x="1" y="158"/>
                      </a:lnTo>
                      <a:lnTo>
                        <a:pt x="3" y="168"/>
                      </a:lnTo>
                      <a:lnTo>
                        <a:pt x="12" y="185"/>
                      </a:lnTo>
                      <a:lnTo>
                        <a:pt x="29" y="200"/>
                      </a:lnTo>
                      <a:lnTo>
                        <a:pt x="20" y="223"/>
                      </a:lnTo>
                      <a:lnTo>
                        <a:pt x="21" y="234"/>
                      </a:lnTo>
                      <a:lnTo>
                        <a:pt x="24" y="244"/>
                      </a:lnTo>
                      <a:lnTo>
                        <a:pt x="37" y="263"/>
                      </a:lnTo>
                      <a:lnTo>
                        <a:pt x="57" y="278"/>
                      </a:lnTo>
                      <a:lnTo>
                        <a:pt x="83" y="287"/>
                      </a:lnTo>
                      <a:lnTo>
                        <a:pt x="111" y="291"/>
                      </a:lnTo>
                      <a:lnTo>
                        <a:pt x="141" y="287"/>
                      </a:lnTo>
                      <a:lnTo>
                        <a:pt x="169" y="274"/>
                      </a:lnTo>
                      <a:lnTo>
                        <a:pt x="211" y="294"/>
                      </a:lnTo>
                      <a:lnTo>
                        <a:pt x="258" y="305"/>
                      </a:lnTo>
                      <a:lnTo>
                        <a:pt x="282" y="306"/>
                      </a:lnTo>
                      <a:lnTo>
                        <a:pt x="295" y="306"/>
                      </a:lnTo>
                      <a:lnTo>
                        <a:pt x="307" y="305"/>
                      </a:lnTo>
                      <a:lnTo>
                        <a:pt x="356" y="294"/>
                      </a:lnTo>
                      <a:lnTo>
                        <a:pt x="386" y="309"/>
                      </a:lnTo>
                      <a:lnTo>
                        <a:pt x="420" y="319"/>
                      </a:lnTo>
                      <a:lnTo>
                        <a:pt x="455" y="325"/>
                      </a:lnTo>
                      <a:lnTo>
                        <a:pt x="472" y="326"/>
                      </a:lnTo>
                      <a:lnTo>
                        <a:pt x="481" y="326"/>
                      </a:lnTo>
                      <a:lnTo>
                        <a:pt x="491" y="326"/>
                      </a:lnTo>
                      <a:lnTo>
                        <a:pt x="560" y="314"/>
                      </a:lnTo>
                      <a:lnTo>
                        <a:pt x="592" y="300"/>
                      </a:lnTo>
                      <a:lnTo>
                        <a:pt x="621" y="282"/>
                      </a:lnTo>
                      <a:lnTo>
                        <a:pt x="639" y="284"/>
                      </a:lnTo>
                      <a:lnTo>
                        <a:pt x="648" y="284"/>
                      </a:lnTo>
                      <a:lnTo>
                        <a:pt x="657" y="283"/>
                      </a:lnTo>
                      <a:lnTo>
                        <a:pt x="688" y="276"/>
                      </a:lnTo>
                      <a:lnTo>
                        <a:pt x="712" y="262"/>
                      </a:lnTo>
                      <a:lnTo>
                        <a:pt x="729" y="242"/>
                      </a:lnTo>
                      <a:lnTo>
                        <a:pt x="736" y="221"/>
                      </a:lnTo>
                      <a:lnTo>
                        <a:pt x="737" y="210"/>
                      </a:lnTo>
                      <a:lnTo>
                        <a:pt x="735" y="198"/>
                      </a:lnTo>
                      <a:lnTo>
                        <a:pt x="721" y="177"/>
                      </a:lnTo>
                      <a:lnTo>
                        <a:pt x="695" y="158"/>
                      </a:lnTo>
                      <a:lnTo>
                        <a:pt x="710" y="145"/>
                      </a:lnTo>
                      <a:lnTo>
                        <a:pt x="717" y="131"/>
                      </a:lnTo>
                      <a:lnTo>
                        <a:pt x="718" y="124"/>
                      </a:lnTo>
                      <a:lnTo>
                        <a:pt x="717" y="117"/>
                      </a:lnTo>
                      <a:lnTo>
                        <a:pt x="709" y="104"/>
                      </a:lnTo>
                      <a:lnTo>
                        <a:pt x="697" y="93"/>
                      </a:lnTo>
                      <a:lnTo>
                        <a:pt x="680" y="85"/>
                      </a:lnTo>
                      <a:lnTo>
                        <a:pt x="659" y="82"/>
                      </a:lnTo>
                      <a:lnTo>
                        <a:pt x="654" y="82"/>
                      </a:lnTo>
                      <a:lnTo>
                        <a:pt x="648" y="83"/>
                      </a:lnTo>
                      <a:lnTo>
                        <a:pt x="636" y="85"/>
                      </a:lnTo>
                      <a:lnTo>
                        <a:pt x="601" y="62"/>
                      </a:lnTo>
                      <a:lnTo>
                        <a:pt x="558" y="48"/>
                      </a:lnTo>
                      <a:lnTo>
                        <a:pt x="535" y="45"/>
                      </a:lnTo>
                      <a:lnTo>
                        <a:pt x="523" y="45"/>
                      </a:lnTo>
                      <a:lnTo>
                        <a:pt x="517" y="45"/>
                      </a:lnTo>
                      <a:lnTo>
                        <a:pt x="511" y="44"/>
                      </a:lnTo>
                      <a:lnTo>
                        <a:pt x="464" y="52"/>
                      </a:lnTo>
                      <a:lnTo>
                        <a:pt x="443" y="30"/>
                      </a:lnTo>
                      <a:lnTo>
                        <a:pt x="414" y="13"/>
                      </a:lnTo>
                      <a:lnTo>
                        <a:pt x="382" y="4"/>
                      </a:lnTo>
                      <a:lnTo>
                        <a:pt x="348" y="0"/>
                      </a:lnTo>
                      <a:lnTo>
                        <a:pt x="339" y="0"/>
                      </a:lnTo>
                      <a:lnTo>
                        <a:pt x="330" y="1"/>
                      </a:lnTo>
                      <a:lnTo>
                        <a:pt x="313" y="3"/>
                      </a:lnTo>
                      <a:lnTo>
                        <a:pt x="281" y="13"/>
                      </a:lnTo>
                      <a:lnTo>
                        <a:pt x="253" y="29"/>
                      </a:lnTo>
                      <a:lnTo>
                        <a:pt x="231" y="52"/>
                      </a:lnTo>
                      <a:lnTo>
                        <a:pt x="211" y="38"/>
                      </a:lnTo>
                      <a:lnTo>
                        <a:pt x="188" y="30"/>
                      </a:lnTo>
                      <a:lnTo>
                        <a:pt x="163" y="27"/>
                      </a:lnTo>
                      <a:lnTo>
                        <a:pt x="157" y="27"/>
                      </a:lnTo>
                      <a:lnTo>
                        <a:pt x="150" y="28"/>
                      </a:lnTo>
                      <a:lnTo>
                        <a:pt x="137" y="30"/>
                      </a:lnTo>
                      <a:lnTo>
                        <a:pt x="115" y="37"/>
                      </a:lnTo>
                      <a:lnTo>
                        <a:pt x="95" y="49"/>
                      </a:lnTo>
                      <a:lnTo>
                        <a:pt x="81" y="65"/>
                      </a:lnTo>
                      <a:lnTo>
                        <a:pt x="74" y="85"/>
                      </a:lnTo>
                      <a:lnTo>
                        <a:pt x="73" y="85"/>
                      </a:lnTo>
                    </a:path>
                  </a:pathLst>
                </a:custGeom>
                <a:gradFill rotWithShape="0">
                  <a:gsLst>
                    <a:gs pos="0">
                      <a:srgbClr val="e4e4e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982440" y="2724480"/>
                  <a:ext cx="487800" cy="1119240"/>
                </a:xfrm>
                <a:custGeom>
                  <a:avLst/>
                  <a:gdLst/>
                  <a:ahLst/>
                  <a:rect l="l" t="t" r="r" b="b"/>
                  <a:pathLst>
                    <a:path w="306" h="308">
                      <a:moveTo>
                        <a:pt x="79" y="277"/>
                      </a:moveTo>
                      <a:lnTo>
                        <a:pt x="85" y="287"/>
                      </a:lnTo>
                      <a:lnTo>
                        <a:pt x="96" y="295"/>
                      </a:lnTo>
                      <a:lnTo>
                        <a:pt x="108" y="302"/>
                      </a:lnTo>
                      <a:lnTo>
                        <a:pt x="124" y="306"/>
                      </a:lnTo>
                      <a:lnTo>
                        <a:pt x="140" y="307"/>
                      </a:lnTo>
                      <a:lnTo>
                        <a:pt x="148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7" y="295"/>
                      </a:lnTo>
                      <a:lnTo>
                        <a:pt x="208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6" y="292"/>
                      </a:lnTo>
                      <a:lnTo>
                        <a:pt x="260" y="283"/>
                      </a:lnTo>
                      <a:lnTo>
                        <a:pt x="269" y="273"/>
                      </a:lnTo>
                      <a:lnTo>
                        <a:pt x="272" y="261"/>
                      </a:lnTo>
                      <a:lnTo>
                        <a:pt x="269" y="248"/>
                      </a:lnTo>
                      <a:lnTo>
                        <a:pt x="256" y="236"/>
                      </a:lnTo>
                      <a:lnTo>
                        <a:pt x="275" y="219"/>
                      </a:lnTo>
                      <a:lnTo>
                        <a:pt x="285" y="199"/>
                      </a:lnTo>
                      <a:lnTo>
                        <a:pt x="286" y="189"/>
                      </a:lnTo>
                      <a:lnTo>
                        <a:pt x="286" y="184"/>
                      </a:lnTo>
                      <a:lnTo>
                        <a:pt x="285" y="179"/>
                      </a:lnTo>
                      <a:lnTo>
                        <a:pt x="275" y="159"/>
                      </a:lnTo>
                      <a:lnTo>
                        <a:pt x="289" y="146"/>
                      </a:lnTo>
                      <a:lnTo>
                        <a:pt x="299" y="132"/>
                      </a:lnTo>
                      <a:lnTo>
                        <a:pt x="304" y="118"/>
                      </a:lnTo>
                      <a:lnTo>
                        <a:pt x="305" y="110"/>
                      </a:lnTo>
                      <a:lnTo>
                        <a:pt x="305" y="106"/>
                      </a:lnTo>
                      <a:lnTo>
                        <a:pt x="305" y="103"/>
                      </a:lnTo>
                      <a:lnTo>
                        <a:pt x="293" y="74"/>
                      </a:lnTo>
                      <a:lnTo>
                        <a:pt x="281" y="60"/>
                      </a:lnTo>
                      <a:lnTo>
                        <a:pt x="264" y="48"/>
                      </a:lnTo>
                      <a:lnTo>
                        <a:pt x="265" y="41"/>
                      </a:lnTo>
                      <a:lnTo>
                        <a:pt x="265" y="37"/>
                      </a:lnTo>
                      <a:lnTo>
                        <a:pt x="265" y="33"/>
                      </a:lnTo>
                      <a:lnTo>
                        <a:pt x="258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6" y="0"/>
                      </a:lnTo>
                      <a:lnTo>
                        <a:pt x="185" y="1"/>
                      </a:lnTo>
                      <a:lnTo>
                        <a:pt x="165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6" y="8"/>
                      </a:lnTo>
                      <a:lnTo>
                        <a:pt x="109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7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79" y="276"/>
                      </a:lnTo>
                      <a:lnTo>
                        <a:pt x="79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996120" y="3193560"/>
                  <a:ext cx="488880" cy="1119240"/>
                </a:xfrm>
                <a:custGeom>
                  <a:avLst/>
                  <a:gdLst/>
                  <a:ahLst/>
                  <a:rect l="l" t="t" r="r" b="b"/>
                  <a:pathLst>
                    <a:path w="307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4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8" y="295"/>
                      </a:lnTo>
                      <a:lnTo>
                        <a:pt x="209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0" y="273"/>
                      </a:lnTo>
                      <a:lnTo>
                        <a:pt x="273" y="261"/>
                      </a:lnTo>
                      <a:lnTo>
                        <a:pt x="269" y="248"/>
                      </a:lnTo>
                      <a:lnTo>
                        <a:pt x="257" y="236"/>
                      </a:lnTo>
                      <a:lnTo>
                        <a:pt x="276" y="219"/>
                      </a:lnTo>
                      <a:lnTo>
                        <a:pt x="286" y="199"/>
                      </a:lnTo>
                      <a:lnTo>
                        <a:pt x="287" y="189"/>
                      </a:lnTo>
                      <a:lnTo>
                        <a:pt x="287" y="184"/>
                      </a:lnTo>
                      <a:lnTo>
                        <a:pt x="286" y="179"/>
                      </a:lnTo>
                      <a:lnTo>
                        <a:pt x="276" y="159"/>
                      </a:lnTo>
                      <a:lnTo>
                        <a:pt x="290" y="146"/>
                      </a:lnTo>
                      <a:lnTo>
                        <a:pt x="300" y="132"/>
                      </a:lnTo>
                      <a:lnTo>
                        <a:pt x="305" y="118"/>
                      </a:lnTo>
                      <a:lnTo>
                        <a:pt x="306" y="110"/>
                      </a:lnTo>
                      <a:lnTo>
                        <a:pt x="306" y="106"/>
                      </a:lnTo>
                      <a:lnTo>
                        <a:pt x="306" y="103"/>
                      </a:lnTo>
                      <a:lnTo>
                        <a:pt x="294" y="74"/>
                      </a:lnTo>
                      <a:lnTo>
                        <a:pt x="282" y="60"/>
                      </a:lnTo>
                      <a:lnTo>
                        <a:pt x="265" y="48"/>
                      </a:lnTo>
                      <a:lnTo>
                        <a:pt x="266" y="41"/>
                      </a:lnTo>
                      <a:lnTo>
                        <a:pt x="266" y="37"/>
                      </a:lnTo>
                      <a:lnTo>
                        <a:pt x="266" y="33"/>
                      </a:lnTo>
                      <a:lnTo>
                        <a:pt x="259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7" y="0"/>
                      </a:lnTo>
                      <a:lnTo>
                        <a:pt x="186" y="1"/>
                      </a:lnTo>
                      <a:lnTo>
                        <a:pt x="166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509120" y="3472920"/>
                  <a:ext cx="490320" cy="111924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5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8" y="306"/>
                      </a:lnTo>
                      <a:lnTo>
                        <a:pt x="174" y="302"/>
                      </a:lnTo>
                      <a:lnTo>
                        <a:pt x="188" y="295"/>
                      </a:lnTo>
                      <a:lnTo>
                        <a:pt x="210" y="298"/>
                      </a:lnTo>
                      <a:lnTo>
                        <a:pt x="220" y="298"/>
                      </a:lnTo>
                      <a:lnTo>
                        <a:pt x="230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1" y="273"/>
                      </a:lnTo>
                      <a:lnTo>
                        <a:pt x="274" y="261"/>
                      </a:lnTo>
                      <a:lnTo>
                        <a:pt x="270" y="248"/>
                      </a:lnTo>
                      <a:lnTo>
                        <a:pt x="258" y="236"/>
                      </a:lnTo>
                      <a:lnTo>
                        <a:pt x="277" y="219"/>
                      </a:lnTo>
                      <a:lnTo>
                        <a:pt x="287" y="199"/>
                      </a:lnTo>
                      <a:lnTo>
                        <a:pt x="288" y="189"/>
                      </a:lnTo>
                      <a:lnTo>
                        <a:pt x="288" y="184"/>
                      </a:lnTo>
                      <a:lnTo>
                        <a:pt x="287" y="179"/>
                      </a:lnTo>
                      <a:lnTo>
                        <a:pt x="277" y="159"/>
                      </a:lnTo>
                      <a:lnTo>
                        <a:pt x="291" y="146"/>
                      </a:lnTo>
                      <a:lnTo>
                        <a:pt x="301" y="132"/>
                      </a:lnTo>
                      <a:lnTo>
                        <a:pt x="306" y="118"/>
                      </a:lnTo>
                      <a:lnTo>
                        <a:pt x="307" y="110"/>
                      </a:lnTo>
                      <a:lnTo>
                        <a:pt x="307" y="106"/>
                      </a:lnTo>
                      <a:lnTo>
                        <a:pt x="307" y="103"/>
                      </a:lnTo>
                      <a:lnTo>
                        <a:pt x="295" y="74"/>
                      </a:lnTo>
                      <a:lnTo>
                        <a:pt x="283" y="60"/>
                      </a:lnTo>
                      <a:lnTo>
                        <a:pt x="266" y="48"/>
                      </a:lnTo>
                      <a:lnTo>
                        <a:pt x="267" y="41"/>
                      </a:lnTo>
                      <a:lnTo>
                        <a:pt x="267" y="37"/>
                      </a:lnTo>
                      <a:lnTo>
                        <a:pt x="267" y="33"/>
                      </a:lnTo>
                      <a:lnTo>
                        <a:pt x="259" y="21"/>
                      </a:lnTo>
                      <a:lnTo>
                        <a:pt x="246" y="10"/>
                      </a:lnTo>
                      <a:lnTo>
                        <a:pt x="228" y="3"/>
                      </a:lnTo>
                      <a:lnTo>
                        <a:pt x="208" y="0"/>
                      </a:lnTo>
                      <a:lnTo>
                        <a:pt x="198" y="0"/>
                      </a:lnTo>
                      <a:lnTo>
                        <a:pt x="187" y="1"/>
                      </a:lnTo>
                      <a:lnTo>
                        <a:pt x="166" y="7"/>
                      </a:lnTo>
                      <a:lnTo>
                        <a:pt x="149" y="17"/>
                      </a:lnTo>
                      <a:lnTo>
                        <a:pt x="137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8" y="12"/>
                      </a:lnTo>
                      <a:lnTo>
                        <a:pt x="88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9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158840" y="3277440"/>
                  <a:ext cx="489240" cy="1119240"/>
                </a:xfrm>
                <a:custGeom>
                  <a:avLst/>
                  <a:gdLst/>
                  <a:ahLst/>
                  <a:rect l="l" t="t" r="r" b="b"/>
                  <a:pathLst>
                    <a:path w="307" h="308">
                      <a:moveTo>
                        <a:pt x="80" y="277"/>
                      </a:moveTo>
                      <a:lnTo>
                        <a:pt x="86" y="287"/>
                      </a:lnTo>
                      <a:lnTo>
                        <a:pt x="96" y="295"/>
                      </a:lnTo>
                      <a:lnTo>
                        <a:pt x="109" y="302"/>
                      </a:lnTo>
                      <a:lnTo>
                        <a:pt x="124" y="306"/>
                      </a:lnTo>
                      <a:lnTo>
                        <a:pt x="141" y="307"/>
                      </a:lnTo>
                      <a:lnTo>
                        <a:pt x="149" y="307"/>
                      </a:lnTo>
                      <a:lnTo>
                        <a:pt x="157" y="306"/>
                      </a:lnTo>
                      <a:lnTo>
                        <a:pt x="173" y="302"/>
                      </a:lnTo>
                      <a:lnTo>
                        <a:pt x="188" y="295"/>
                      </a:lnTo>
                      <a:lnTo>
                        <a:pt x="209" y="298"/>
                      </a:lnTo>
                      <a:lnTo>
                        <a:pt x="219" y="298"/>
                      </a:lnTo>
                      <a:lnTo>
                        <a:pt x="229" y="297"/>
                      </a:lnTo>
                      <a:lnTo>
                        <a:pt x="247" y="292"/>
                      </a:lnTo>
                      <a:lnTo>
                        <a:pt x="261" y="283"/>
                      </a:lnTo>
                      <a:lnTo>
                        <a:pt x="270" y="273"/>
                      </a:lnTo>
                      <a:lnTo>
                        <a:pt x="273" y="261"/>
                      </a:lnTo>
                      <a:lnTo>
                        <a:pt x="269" y="248"/>
                      </a:lnTo>
                      <a:lnTo>
                        <a:pt x="257" y="236"/>
                      </a:lnTo>
                      <a:lnTo>
                        <a:pt x="276" y="219"/>
                      </a:lnTo>
                      <a:lnTo>
                        <a:pt x="286" y="199"/>
                      </a:lnTo>
                      <a:lnTo>
                        <a:pt x="287" y="189"/>
                      </a:lnTo>
                      <a:lnTo>
                        <a:pt x="287" y="184"/>
                      </a:lnTo>
                      <a:lnTo>
                        <a:pt x="286" y="179"/>
                      </a:lnTo>
                      <a:lnTo>
                        <a:pt x="276" y="159"/>
                      </a:lnTo>
                      <a:lnTo>
                        <a:pt x="290" y="146"/>
                      </a:lnTo>
                      <a:lnTo>
                        <a:pt x="300" y="132"/>
                      </a:lnTo>
                      <a:lnTo>
                        <a:pt x="305" y="118"/>
                      </a:lnTo>
                      <a:lnTo>
                        <a:pt x="306" y="110"/>
                      </a:lnTo>
                      <a:lnTo>
                        <a:pt x="306" y="106"/>
                      </a:lnTo>
                      <a:lnTo>
                        <a:pt x="306" y="103"/>
                      </a:lnTo>
                      <a:lnTo>
                        <a:pt x="294" y="74"/>
                      </a:lnTo>
                      <a:lnTo>
                        <a:pt x="282" y="60"/>
                      </a:lnTo>
                      <a:lnTo>
                        <a:pt x="265" y="48"/>
                      </a:lnTo>
                      <a:lnTo>
                        <a:pt x="266" y="41"/>
                      </a:lnTo>
                      <a:lnTo>
                        <a:pt x="266" y="37"/>
                      </a:lnTo>
                      <a:lnTo>
                        <a:pt x="266" y="33"/>
                      </a:lnTo>
                      <a:lnTo>
                        <a:pt x="259" y="21"/>
                      </a:lnTo>
                      <a:lnTo>
                        <a:pt x="245" y="10"/>
                      </a:lnTo>
                      <a:lnTo>
                        <a:pt x="227" y="3"/>
                      </a:lnTo>
                      <a:lnTo>
                        <a:pt x="207" y="0"/>
                      </a:lnTo>
                      <a:lnTo>
                        <a:pt x="197" y="0"/>
                      </a:lnTo>
                      <a:lnTo>
                        <a:pt x="186" y="1"/>
                      </a:lnTo>
                      <a:lnTo>
                        <a:pt x="166" y="7"/>
                      </a:lnTo>
                      <a:lnTo>
                        <a:pt x="148" y="17"/>
                      </a:lnTo>
                      <a:lnTo>
                        <a:pt x="136" y="11"/>
                      </a:lnTo>
                      <a:lnTo>
                        <a:pt x="123" y="8"/>
                      </a:lnTo>
                      <a:lnTo>
                        <a:pt x="117" y="8"/>
                      </a:lnTo>
                      <a:lnTo>
                        <a:pt x="110" y="9"/>
                      </a:lnTo>
                      <a:lnTo>
                        <a:pt x="97" y="12"/>
                      </a:lnTo>
                      <a:lnTo>
                        <a:pt x="87" y="17"/>
                      </a:lnTo>
                      <a:lnTo>
                        <a:pt x="80" y="24"/>
                      </a:lnTo>
                      <a:lnTo>
                        <a:pt x="77" y="32"/>
                      </a:lnTo>
                      <a:lnTo>
                        <a:pt x="77" y="35"/>
                      </a:lnTo>
                      <a:lnTo>
                        <a:pt x="78" y="37"/>
                      </a:lnTo>
                      <a:lnTo>
                        <a:pt x="80" y="42"/>
                      </a:lnTo>
                      <a:lnTo>
                        <a:pt x="58" y="57"/>
                      </a:lnTo>
                      <a:lnTo>
                        <a:pt x="45" y="75"/>
                      </a:lnTo>
                      <a:lnTo>
                        <a:pt x="42" y="84"/>
                      </a:lnTo>
                      <a:lnTo>
                        <a:pt x="42" y="89"/>
                      </a:lnTo>
                      <a:lnTo>
                        <a:pt x="42" y="91"/>
                      </a:lnTo>
                      <a:lnTo>
                        <a:pt x="42" y="94"/>
                      </a:lnTo>
                      <a:lnTo>
                        <a:pt x="49" y="114"/>
                      </a:lnTo>
                      <a:lnTo>
                        <a:pt x="28" y="123"/>
                      </a:lnTo>
                      <a:lnTo>
                        <a:pt x="12" y="134"/>
                      </a:lnTo>
                      <a:lnTo>
                        <a:pt x="3" y="148"/>
                      </a:lnTo>
                      <a:lnTo>
                        <a:pt x="0" y="162"/>
                      </a:lnTo>
                      <a:lnTo>
                        <a:pt x="0" y="166"/>
                      </a:lnTo>
                      <a:lnTo>
                        <a:pt x="1" y="169"/>
                      </a:lnTo>
                      <a:lnTo>
                        <a:pt x="3" y="177"/>
                      </a:lnTo>
                      <a:lnTo>
                        <a:pt x="12" y="190"/>
                      </a:lnTo>
                      <a:lnTo>
                        <a:pt x="27" y="202"/>
                      </a:lnTo>
                      <a:lnTo>
                        <a:pt x="49" y="211"/>
                      </a:lnTo>
                      <a:lnTo>
                        <a:pt x="36" y="219"/>
                      </a:lnTo>
                      <a:lnTo>
                        <a:pt x="28" y="229"/>
                      </a:lnTo>
                      <a:lnTo>
                        <a:pt x="26" y="239"/>
                      </a:lnTo>
                      <a:lnTo>
                        <a:pt x="26" y="242"/>
                      </a:lnTo>
                      <a:lnTo>
                        <a:pt x="26" y="245"/>
                      </a:lnTo>
                      <a:lnTo>
                        <a:pt x="28" y="250"/>
                      </a:lnTo>
                      <a:lnTo>
                        <a:pt x="35" y="259"/>
                      </a:lnTo>
                      <a:lnTo>
                        <a:pt x="46" y="268"/>
                      </a:lnTo>
                      <a:lnTo>
                        <a:pt x="61" y="273"/>
                      </a:lnTo>
                      <a:lnTo>
                        <a:pt x="80" y="276"/>
                      </a:lnTo>
                      <a:lnTo>
                        <a:pt x="80" y="27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bcbc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" name=""/>
                <p:cNvGrpSpPr/>
                <p:nvPr/>
              </p:nvGrpSpPr>
              <p:grpSpPr>
                <a:xfrm>
                  <a:off x="708840" y="2805480"/>
                  <a:ext cx="391680" cy="491040"/>
                  <a:chOff x="708840" y="2805480"/>
                  <a:chExt cx="391680" cy="4910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20580000">
                    <a:off x="787680" y="2833200"/>
                    <a:ext cx="254520" cy="435600"/>
                  </a:xfrm>
                  <a:prstGeom prst="star5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22600" y="2833200"/>
                    <a:ext cx="186120" cy="435600"/>
                  </a:xfrm>
                  <a:prstGeom prst="star5">
                    <a:avLst/>
                  </a:prstGeom>
                  <a:solidFill>
                    <a:srgbClr val="f8220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20160000">
                    <a:off x="784440" y="2836440"/>
                    <a:ext cx="209880" cy="417600"/>
                  </a:xfrm>
                  <a:prstGeom prst="star5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23840" y="3342960"/>
                  <a:ext cx="590760" cy="687600"/>
                  <a:chOff x="1023840" y="3342960"/>
                  <a:chExt cx="590760" cy="6876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20580000">
                    <a:off x="1131840" y="3389040"/>
                    <a:ext cx="404640" cy="595080"/>
                  </a:xfrm>
                  <a:prstGeom prst="star5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187280" y="3389400"/>
                    <a:ext cx="298080" cy="595080"/>
                  </a:xfrm>
                  <a:prstGeom prst="star5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20160000">
                    <a:off x="1125360" y="3393360"/>
                    <a:ext cx="339840" cy="572040"/>
                  </a:xfrm>
                  <a:prstGeom prst="star5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1551960" y="4001760"/>
                  <a:ext cx="390600" cy="489960"/>
                  <a:chOff x="1551960" y="4001760"/>
                  <a:chExt cx="390600" cy="4899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rot="20580000">
                    <a:off x="1631520" y="4028760"/>
                    <a:ext cx="252720" cy="435240"/>
                  </a:xfrm>
                  <a:prstGeom prst="star5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68240" y="4029120"/>
                    <a:ext cx="184320" cy="435240"/>
                  </a:xfrm>
                  <a:prstGeom prst="star5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160000">
                    <a:off x="1626840" y="4035960"/>
                    <a:ext cx="211320" cy="413280"/>
                  </a:xfrm>
                  <a:prstGeom prst="star5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12600">
                    <a:solidFill>
                      <a:srgbClr val="f8220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" name=""/>
              <p:cNvGrpSpPr/>
              <p:nvPr/>
            </p:nvGrpSpPr>
            <p:grpSpPr>
              <a:xfrm>
                <a:off x="1914480" y="3597120"/>
                <a:ext cx="996120" cy="1170000"/>
                <a:chOff x="1914480" y="3597120"/>
                <a:chExt cx="996120" cy="117000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1914480" y="3688560"/>
                  <a:ext cx="708840" cy="902160"/>
                  <a:chOff x="1914480" y="3688560"/>
                  <a:chExt cx="708840" cy="9021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1927800" y="3688560"/>
                    <a:ext cx="695520" cy="309960"/>
                  </a:xfrm>
                  <a:custGeom>
                    <a:avLst/>
                    <a:gdLst>
                      <a:gd name="textAreaLeft" fmla="*/ 0 w 695520"/>
                      <a:gd name="textAreaRight" fmla="*/ 695880 w 695520"/>
                      <a:gd name="textAreaTop" fmla="*/ 39960 h 309960"/>
                      <a:gd name="textAreaBottom" fmla="*/ 270000 h 309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27800" y="3984480"/>
                    <a:ext cx="695520" cy="309960"/>
                  </a:xfrm>
                  <a:custGeom>
                    <a:avLst/>
                    <a:gdLst>
                      <a:gd name="textAreaLeft" fmla="*/ 0 w 695520"/>
                      <a:gd name="textAreaRight" fmla="*/ 695880 w 695520"/>
                      <a:gd name="textAreaTop" fmla="*/ 39960 h 309960"/>
                      <a:gd name="textAreaBottom" fmla="*/ 270000 h 309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914480" y="4280400"/>
                    <a:ext cx="695520" cy="310320"/>
                  </a:xfrm>
                  <a:custGeom>
                    <a:avLst/>
                    <a:gdLst>
                      <a:gd name="textAreaLeft" fmla="*/ 0 w 695520"/>
                      <a:gd name="textAreaRight" fmla="*/ 695880 w 695520"/>
                      <a:gd name="textAreaTop" fmla="*/ 39960 h 310320"/>
                      <a:gd name="textAreaBottom" fmla="*/ 270360 h 31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400"/>
                        </a:moveTo>
                        <a:cubicBezTo>
                          <a:pt x="7200" y="-3560"/>
                          <a:pt x="14400" y="6360"/>
                          <a:pt x="21600" y="1400"/>
                        </a:cubicBezTo>
                        <a:lnTo>
                          <a:pt x="21600" y="20200"/>
                        </a:lnTo>
                        <a:cubicBezTo>
                          <a:pt x="14400" y="25160"/>
                          <a:pt x="7200" y="15240"/>
                          <a:pt x="0" y="2020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4600"/>
                      </a:gs>
                      <a:gs pos="50000">
                        <a:srgbClr val="ff9900"/>
                      </a:gs>
                      <a:gs pos="100000">
                        <a:srgbClr val="7546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 flipH="1" flipV="1" rot="16200000">
                  <a:off x="2144520" y="4001400"/>
                  <a:ext cx="1170000" cy="361080"/>
                </a:xfrm>
                <a:prstGeom prst="triangle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754600"/>
                    </a:gs>
                    <a:gs pos="50000">
                      <a:srgbClr val="ff9900"/>
                    </a:gs>
                    <a:gs pos="100000">
                      <a:srgbClr val="7546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711440" y="4094280"/>
                <a:ext cx="5705280" cy="2211120"/>
                <a:chOff x="1711440" y="4094280"/>
                <a:chExt cx="5705280" cy="2211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711440" y="4094280"/>
                  <a:ext cx="5705280" cy="2211120"/>
                </a:xfrm>
                <a:custGeom>
                  <a:avLst/>
                  <a:gdLst/>
                  <a:ahLst/>
                  <a:rect l="l" t="t" r="r" b="b"/>
                  <a:pathLst>
                    <a:path w="4146" h="1924">
                      <a:moveTo>
                        <a:pt x="526" y="408"/>
                      </a:moveTo>
                      <a:cubicBezTo>
                        <a:pt x="446" y="433"/>
                        <a:pt x="366" y="458"/>
                        <a:pt x="286" y="540"/>
                      </a:cubicBezTo>
                      <a:cubicBezTo>
                        <a:pt x="206" y="622"/>
                        <a:pt x="82" y="770"/>
                        <a:pt x="46" y="900"/>
                      </a:cubicBezTo>
                      <a:cubicBezTo>
                        <a:pt x="10" y="1030"/>
                        <a:pt x="0" y="1194"/>
                        <a:pt x="70" y="1320"/>
                      </a:cubicBezTo>
                      <a:cubicBezTo>
                        <a:pt x="140" y="1446"/>
                        <a:pt x="266" y="1570"/>
                        <a:pt x="466" y="1656"/>
                      </a:cubicBezTo>
                      <a:cubicBezTo>
                        <a:pt x="666" y="1742"/>
                        <a:pt x="860" y="1804"/>
                        <a:pt x="1270" y="1836"/>
                      </a:cubicBezTo>
                      <a:cubicBezTo>
                        <a:pt x="1680" y="1868"/>
                        <a:pt x="2498" y="1924"/>
                        <a:pt x="2926" y="1848"/>
                      </a:cubicBezTo>
                      <a:cubicBezTo>
                        <a:pt x="3354" y="1772"/>
                        <a:pt x="3642" y="1568"/>
                        <a:pt x="3838" y="1380"/>
                      </a:cubicBezTo>
                      <a:cubicBezTo>
                        <a:pt x="4034" y="1192"/>
                        <a:pt x="4058" y="900"/>
                        <a:pt x="4102" y="720"/>
                      </a:cubicBezTo>
                      <a:cubicBezTo>
                        <a:pt x="4146" y="540"/>
                        <a:pt x="4130" y="420"/>
                        <a:pt x="4102" y="300"/>
                      </a:cubicBezTo>
                      <a:cubicBezTo>
                        <a:pt x="4074" y="180"/>
                        <a:pt x="3966" y="50"/>
                        <a:pt x="3934" y="0"/>
                      </a:cubicBezTo>
                    </a:path>
                  </a:pathLst>
                </a:custGeom>
                <a:noFill/>
                <a:ln w="28440">
                  <a:solidFill>
                    <a:srgbClr val="cc9900"/>
                  </a:solidFill>
                  <a:prstDash val="dashDot"/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rot="16200000">
                  <a:off x="2207880" y="4280400"/>
                  <a:ext cx="500400" cy="61164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8100000"/>
                </a:gradFill>
                <a:ln w="2844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 flipV="1" rot="19365000">
                <a:off x="6087600" y="3061440"/>
                <a:ext cx="1731960" cy="1000080"/>
              </a:xfrm>
              <a:custGeom>
                <a:avLst/>
                <a:gdLst>
                  <a:gd name="textAreaLeft" fmla="*/ 0 w 1731960"/>
                  <a:gd name="textAreaRight" fmla="*/ 1732320 w 1731960"/>
                  <a:gd name="textAreaTop" fmla="*/ 360 h 1000080"/>
                  <a:gd name="textAreaBottom" fmla="*/ 1000800 h 100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567350"/>
                    <a:lnTo>
                      <a:pt x="25" y="10070"/>
                    </a:lnTo>
                    <a:arcTo wR="10800" hR="10800" stAng="-10567350" swAng="1056735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7238880" y="3368520"/>
                <a:ext cx="1125720" cy="335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7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 </a:t>
                </a: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8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Act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05200" y="2631960"/>
                <a:ext cx="4141800" cy="338616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89808" dir="10316091" blurRad="0" rotWithShape="0">
                  <a:srgbClr val="00cc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16360" y="2612880"/>
                <a:ext cx="682560" cy="334332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64600" dir="674838" blurRad="0" rotWithShape="0">
                  <a:srgbClr val="00989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751280" y="4105440"/>
                <a:ext cx="449280" cy="598320"/>
                <a:chOff x="4751280" y="4105440"/>
                <a:chExt cx="449280" cy="5983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751280" y="4105440"/>
                  <a:ext cx="449280" cy="598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76320">
                  <a:solidFill>
                    <a:srgbClr val="cc9900"/>
                  </a:solidFill>
                  <a:miter/>
                </a:ln>
                <a:effectLst>
                  <a:outerShdw dist="153753" dir="2700000" blurRad="0" rotWithShape="0">
                    <a:srgbClr val="795b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4807080" y="4308840"/>
                  <a:ext cx="291600" cy="279360"/>
                  <a:chOff x="4807080" y="4308840"/>
                  <a:chExt cx="291600" cy="2793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4807080" y="4498920"/>
                    <a:ext cx="6840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834800" y="4473000"/>
                    <a:ext cx="186480" cy="101880"/>
                  </a:xfrm>
                  <a:prstGeom prst="roundRect">
                    <a:avLst>
                      <a:gd name="adj" fmla="val 12495"/>
                    </a:avLst>
                  </a:pr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862160" y="4420800"/>
                    <a:ext cx="176040" cy="1335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817520" y="4408920"/>
                    <a:ext cx="14508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843800" y="4308840"/>
                    <a:ext cx="112680" cy="19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872240" y="4381920"/>
                    <a:ext cx="226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63960" y="4333320"/>
                    <a:ext cx="9396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66840" y="4397400"/>
                    <a:ext cx="9396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965480" y="4435560"/>
                    <a:ext cx="9432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898160" y="4408920"/>
                    <a:ext cx="9396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4816440" y="4342320"/>
                    <a:ext cx="66600" cy="71280"/>
                    <a:chOff x="4816440" y="4342320"/>
                    <a:chExt cx="66600" cy="712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20580000">
                      <a:off x="4826520" y="4348080"/>
                      <a:ext cx="48960" cy="5940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833360" y="4348440"/>
                      <a:ext cx="35640" cy="5940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rot="20160000">
                      <a:off x="4826160" y="4348800"/>
                      <a:ext cx="40320" cy="5688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4878720" y="4414320"/>
                    <a:ext cx="102240" cy="100080"/>
                    <a:chOff x="4878720" y="4414320"/>
                    <a:chExt cx="102240" cy="10008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 rot="20580000">
                      <a:off x="4892760" y="4423680"/>
                      <a:ext cx="78120" cy="81000"/>
                    </a:xfrm>
                    <a:prstGeom prst="star5">
                      <a:avLst/>
                    </a:pr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4903560" y="4424040"/>
                      <a:ext cx="57600" cy="81000"/>
                    </a:xfrm>
                    <a:prstGeom prst="star5">
                      <a:avLst/>
                    </a:pr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 rot="20160000">
                      <a:off x="4891680" y="4424040"/>
                      <a:ext cx="65520" cy="77760"/>
                    </a:xfrm>
                    <a:prstGeom prst="star5">
                      <a:avLst/>
                    </a:pr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520" bIns="-20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4978440" y="4505760"/>
                    <a:ext cx="66600" cy="70920"/>
                    <a:chOff x="4978440" y="4505760"/>
                    <a:chExt cx="66600" cy="7092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 rot="20580000">
                      <a:off x="4988880" y="4511160"/>
                      <a:ext cx="48600" cy="59400"/>
                    </a:xfrm>
                    <a:prstGeom prst="star5">
                      <a:avLst/>
                    </a:pr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996080" y="4511520"/>
                      <a:ext cx="35280" cy="59400"/>
                    </a:xfrm>
                    <a:prstGeom prst="star5">
                      <a:avLst/>
                    </a:pr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20160000">
                      <a:off x="4988160" y="4512240"/>
                      <a:ext cx="40680" cy="56520"/>
                    </a:xfrm>
                    <a:prstGeom prst="star5">
                      <a:avLst/>
                    </a:pr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56" name=""/>
              <p:cNvSpPr/>
              <p:nvPr/>
            </p:nvSpPr>
            <p:spPr>
              <a:xfrm>
                <a:off x="5707080" y="2990880"/>
                <a:ext cx="374760" cy="264492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64600" dir="674838" blurRad="0" rotWithShape="0">
                  <a:srgbClr val="00989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738760" y="4122720"/>
                <a:ext cx="244440" cy="520560"/>
                <a:chOff x="5738760" y="4122720"/>
                <a:chExt cx="244440" cy="520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738760" y="4122720"/>
                  <a:ext cx="244440" cy="520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76320">
                  <a:solidFill>
                    <a:srgbClr val="cc9900"/>
                  </a:solidFill>
                  <a:miter/>
                </a:ln>
                <a:effectLst>
                  <a:outerShdw dist="153753" dir="2700000" blurRad="0" rotWithShape="0">
                    <a:srgbClr val="795b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5793480" y="4280400"/>
                  <a:ext cx="157320" cy="242280"/>
                  <a:chOff x="5793480" y="4280400"/>
                  <a:chExt cx="157320" cy="242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5793480" y="4445280"/>
                    <a:ext cx="3708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808240" y="4422600"/>
                    <a:ext cx="100800" cy="88560"/>
                  </a:xfrm>
                  <a:prstGeom prst="roundRect">
                    <a:avLst>
                      <a:gd name="adj" fmla="val 12495"/>
                    </a:avLst>
                  </a:pr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823000" y="4377600"/>
                    <a:ext cx="95040" cy="11592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798880" y="4367160"/>
                    <a:ext cx="781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813280" y="4280400"/>
                    <a:ext cx="608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828760" y="4343760"/>
                    <a:ext cx="12204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824080" y="4301640"/>
                    <a:ext cx="5040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825520" y="4357080"/>
                    <a:ext cx="5076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878800" y="4390200"/>
                    <a:ext cx="5076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842440" y="4367160"/>
                    <a:ext cx="5076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5794560" y="4311720"/>
                    <a:ext cx="42840" cy="57240"/>
                    <a:chOff x="5794560" y="4311720"/>
                    <a:chExt cx="42840" cy="572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rot="20580000">
                      <a:off x="5803560" y="4314600"/>
                      <a:ext cx="26640" cy="5148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5807520" y="4314600"/>
                      <a:ext cx="19440" cy="5148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20160000">
                      <a:off x="5803560" y="4314600"/>
                      <a:ext cx="21960" cy="4932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826960" y="4375800"/>
                    <a:ext cx="64080" cy="79200"/>
                    <a:chOff x="5826960" y="4375800"/>
                    <a:chExt cx="64080" cy="792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rot="20580000">
                      <a:off x="5839200" y="4380120"/>
                      <a:ext cx="42120" cy="70200"/>
                    </a:xfrm>
                    <a:prstGeom prst="star5">
                      <a:avLst/>
                    </a:pr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5845320" y="4380480"/>
                      <a:ext cx="30960" cy="70200"/>
                    </a:xfrm>
                    <a:prstGeom prst="star5">
                      <a:avLst/>
                    </a:pr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rot="20160000">
                      <a:off x="5838840" y="4380480"/>
                      <a:ext cx="35280" cy="67680"/>
                    </a:xfrm>
                    <a:prstGeom prst="star5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5882040" y="4453560"/>
                    <a:ext cx="42840" cy="56880"/>
                    <a:chOff x="5882040" y="4453560"/>
                    <a:chExt cx="42840" cy="5688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 rot="20580000">
                      <a:off x="5891400" y="4456080"/>
                      <a:ext cx="26280" cy="51480"/>
                    </a:xfrm>
                    <a:prstGeom prst="star5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5895360" y="4456080"/>
                      <a:ext cx="19080" cy="51480"/>
                    </a:xfrm>
                    <a:prstGeom prst="star5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 rot="20160000">
                      <a:off x="5891040" y="4456440"/>
                      <a:ext cx="21960" cy="48960"/>
                    </a:xfrm>
                    <a:prstGeom prst="star5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82" name=""/>
              <p:cNvSpPr/>
              <p:nvPr/>
            </p:nvSpPr>
            <p:spPr>
              <a:xfrm flipH="1">
                <a:off x="3505320" y="2411280"/>
                <a:ext cx="1333440" cy="131760"/>
              </a:xfr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Predictions Le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49520" y="2843280"/>
                <a:ext cx="1403280" cy="218880"/>
              </a:xfr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Descriptions Le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3333600" y="3632040"/>
                <a:ext cx="619200" cy="114480"/>
              </a:xfr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Sche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57960" y="3160800"/>
                <a:ext cx="150840" cy="1914480"/>
              </a:xfrm>
              <a:prstGeom prst="ellipse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  <a:effectLst>
                <a:outerShdw dist="64600" dir="674838" blurRad="0" rotWithShape="0">
                  <a:srgbClr val="00989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6389640" y="4187880"/>
                <a:ext cx="128520" cy="299880"/>
                <a:chOff x="6389640" y="4187880"/>
                <a:chExt cx="128520" cy="2998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389640" y="4187880"/>
                  <a:ext cx="128520" cy="29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25252"/>
                    </a:gs>
                    <a:gs pos="100000">
                      <a:srgbClr val="b2b2b2"/>
                    </a:gs>
                  </a:gsLst>
                  <a:lin ang="8100000"/>
                </a:gradFill>
                <a:ln w="76320">
                  <a:solidFill>
                    <a:srgbClr val="cc9900"/>
                  </a:solidFill>
                  <a:miter/>
                </a:ln>
                <a:effectLst>
                  <a:outerShdw dist="153753" dir="2700000" blurRad="0" rotWithShape="0">
                    <a:srgbClr val="795b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417720" y="4277880"/>
                  <a:ext cx="82800" cy="140040"/>
                  <a:chOff x="6417720" y="4277880"/>
                  <a:chExt cx="82800" cy="1400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417720" y="4373280"/>
                    <a:ext cx="194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169">
                        <a:moveTo>
                          <a:pt x="21" y="0"/>
                        </a:moveTo>
                        <a:lnTo>
                          <a:pt x="39" y="11"/>
                        </a:lnTo>
                        <a:lnTo>
                          <a:pt x="51" y="15"/>
                        </a:lnTo>
                        <a:lnTo>
                          <a:pt x="64" y="15"/>
                        </a:lnTo>
                        <a:lnTo>
                          <a:pt x="86" y="23"/>
                        </a:lnTo>
                        <a:lnTo>
                          <a:pt x="99" y="23"/>
                        </a:lnTo>
                        <a:lnTo>
                          <a:pt x="116" y="27"/>
                        </a:lnTo>
                        <a:lnTo>
                          <a:pt x="129" y="30"/>
                        </a:lnTo>
                        <a:lnTo>
                          <a:pt x="142" y="30"/>
                        </a:lnTo>
                        <a:lnTo>
                          <a:pt x="159" y="38"/>
                        </a:lnTo>
                        <a:lnTo>
                          <a:pt x="163" y="49"/>
                        </a:lnTo>
                        <a:lnTo>
                          <a:pt x="163" y="61"/>
                        </a:lnTo>
                        <a:lnTo>
                          <a:pt x="163" y="72"/>
                        </a:lnTo>
                        <a:lnTo>
                          <a:pt x="176" y="80"/>
                        </a:lnTo>
                        <a:lnTo>
                          <a:pt x="184" y="91"/>
                        </a:lnTo>
                        <a:lnTo>
                          <a:pt x="197" y="102"/>
                        </a:lnTo>
                        <a:lnTo>
                          <a:pt x="202" y="114"/>
                        </a:lnTo>
                        <a:lnTo>
                          <a:pt x="202" y="125"/>
                        </a:lnTo>
                        <a:lnTo>
                          <a:pt x="202" y="136"/>
                        </a:lnTo>
                        <a:lnTo>
                          <a:pt x="202" y="148"/>
                        </a:lnTo>
                        <a:lnTo>
                          <a:pt x="193" y="159"/>
                        </a:lnTo>
                        <a:lnTo>
                          <a:pt x="210" y="168"/>
                        </a:lnTo>
                        <a:lnTo>
                          <a:pt x="223" y="168"/>
                        </a:lnTo>
                        <a:lnTo>
                          <a:pt x="210" y="168"/>
                        </a:lnTo>
                        <a:lnTo>
                          <a:pt x="193" y="168"/>
                        </a:lnTo>
                        <a:lnTo>
                          <a:pt x="176" y="168"/>
                        </a:lnTo>
                        <a:lnTo>
                          <a:pt x="159" y="168"/>
                        </a:lnTo>
                        <a:lnTo>
                          <a:pt x="142" y="167"/>
                        </a:lnTo>
                        <a:lnTo>
                          <a:pt x="129" y="163"/>
                        </a:lnTo>
                        <a:lnTo>
                          <a:pt x="116" y="163"/>
                        </a:lnTo>
                        <a:lnTo>
                          <a:pt x="103" y="167"/>
                        </a:lnTo>
                        <a:lnTo>
                          <a:pt x="90" y="167"/>
                        </a:lnTo>
                        <a:lnTo>
                          <a:pt x="73" y="168"/>
                        </a:lnTo>
                        <a:lnTo>
                          <a:pt x="56" y="168"/>
                        </a:lnTo>
                        <a:lnTo>
                          <a:pt x="39" y="167"/>
                        </a:lnTo>
                        <a:lnTo>
                          <a:pt x="26" y="167"/>
                        </a:lnTo>
                        <a:lnTo>
                          <a:pt x="13" y="167"/>
                        </a:lnTo>
                        <a:lnTo>
                          <a:pt x="0" y="167"/>
                        </a:lnTo>
                        <a:lnTo>
                          <a:pt x="0" y="155"/>
                        </a:lnTo>
                        <a:lnTo>
                          <a:pt x="0" y="144"/>
                        </a:lnTo>
                        <a:lnTo>
                          <a:pt x="0" y="129"/>
                        </a:lnTo>
                        <a:lnTo>
                          <a:pt x="4" y="117"/>
                        </a:lnTo>
                        <a:lnTo>
                          <a:pt x="0" y="106"/>
                        </a:lnTo>
                        <a:lnTo>
                          <a:pt x="0" y="95"/>
                        </a:lnTo>
                        <a:lnTo>
                          <a:pt x="0" y="83"/>
                        </a:lnTo>
                        <a:lnTo>
                          <a:pt x="0" y="72"/>
                        </a:lnTo>
                        <a:lnTo>
                          <a:pt x="0" y="61"/>
                        </a:lnTo>
                        <a:lnTo>
                          <a:pt x="0" y="45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0" y="11"/>
                        </a:lnTo>
                        <a:lnTo>
                          <a:pt x="13" y="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4ecfd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425640" y="4359960"/>
                    <a:ext cx="52920" cy="51120"/>
                  </a:xfrm>
                  <a:prstGeom prst="roundRect">
                    <a:avLst>
                      <a:gd name="adj" fmla="val 12495"/>
                    </a:avLst>
                  </a:prstGeom>
                  <a:gradFill rotWithShape="0">
                    <a:gsLst>
                      <a:gs pos="0">
                        <a:srgbClr val="00ae00"/>
                      </a:gs>
                      <a:gs pos="100000">
                        <a:srgbClr val="003300"/>
                      </a:gs>
                    </a:gsLst>
                    <a:lin ang="5400000"/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433200" y="4334040"/>
                    <a:ext cx="50040" cy="669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2600" dir="54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420600" y="4327920"/>
                    <a:ext cx="410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3">
                        <a:moveTo>
                          <a:pt x="47" y="71"/>
                        </a:moveTo>
                        <a:lnTo>
                          <a:pt x="31" y="76"/>
                        </a:lnTo>
                        <a:lnTo>
                          <a:pt x="18" y="85"/>
                        </a:lnTo>
                        <a:lnTo>
                          <a:pt x="8" y="97"/>
                        </a:lnTo>
                        <a:lnTo>
                          <a:pt x="2" y="111"/>
                        </a:lnTo>
                        <a:lnTo>
                          <a:pt x="0" y="125"/>
                        </a:lnTo>
                        <a:lnTo>
                          <a:pt x="0" y="132"/>
                        </a:lnTo>
                        <a:lnTo>
                          <a:pt x="2" y="140"/>
                        </a:lnTo>
                        <a:lnTo>
                          <a:pt x="8" y="154"/>
                        </a:lnTo>
                        <a:lnTo>
                          <a:pt x="18" y="167"/>
                        </a:lnTo>
                        <a:lnTo>
                          <a:pt x="13" y="186"/>
                        </a:lnTo>
                        <a:lnTo>
                          <a:pt x="13" y="195"/>
                        </a:lnTo>
                        <a:lnTo>
                          <a:pt x="15" y="204"/>
                        </a:lnTo>
                        <a:lnTo>
                          <a:pt x="23" y="219"/>
                        </a:lnTo>
                        <a:lnTo>
                          <a:pt x="37" y="232"/>
                        </a:lnTo>
                        <a:lnTo>
                          <a:pt x="53" y="240"/>
                        </a:lnTo>
                        <a:lnTo>
                          <a:pt x="71" y="243"/>
                        </a:lnTo>
                        <a:lnTo>
                          <a:pt x="90" y="239"/>
                        </a:lnTo>
                        <a:lnTo>
                          <a:pt x="108" y="229"/>
                        </a:lnTo>
                        <a:lnTo>
                          <a:pt x="135" y="245"/>
                        </a:lnTo>
                        <a:lnTo>
                          <a:pt x="165" y="254"/>
                        </a:lnTo>
                        <a:lnTo>
                          <a:pt x="181" y="255"/>
                        </a:lnTo>
                        <a:lnTo>
                          <a:pt x="189" y="255"/>
                        </a:lnTo>
                        <a:lnTo>
                          <a:pt x="197" y="254"/>
                        </a:lnTo>
                        <a:lnTo>
                          <a:pt x="228" y="245"/>
                        </a:lnTo>
                        <a:lnTo>
                          <a:pt x="247" y="258"/>
                        </a:lnTo>
                        <a:lnTo>
                          <a:pt x="269" y="266"/>
                        </a:lnTo>
                        <a:lnTo>
                          <a:pt x="291" y="271"/>
                        </a:lnTo>
                        <a:lnTo>
                          <a:pt x="303" y="272"/>
                        </a:lnTo>
                        <a:lnTo>
                          <a:pt x="308" y="272"/>
                        </a:lnTo>
                        <a:lnTo>
                          <a:pt x="314" y="272"/>
                        </a:lnTo>
                        <a:lnTo>
                          <a:pt x="359" y="262"/>
                        </a:lnTo>
                        <a:lnTo>
                          <a:pt x="379" y="251"/>
                        </a:lnTo>
                        <a:lnTo>
                          <a:pt x="398" y="235"/>
                        </a:lnTo>
                        <a:lnTo>
                          <a:pt x="410" y="237"/>
                        </a:lnTo>
                        <a:lnTo>
                          <a:pt x="415" y="237"/>
                        </a:lnTo>
                        <a:lnTo>
                          <a:pt x="421" y="236"/>
                        </a:lnTo>
                        <a:lnTo>
                          <a:pt x="440" y="230"/>
                        </a:lnTo>
                        <a:lnTo>
                          <a:pt x="456" y="218"/>
                        </a:lnTo>
                        <a:lnTo>
                          <a:pt x="467" y="202"/>
                        </a:lnTo>
                        <a:lnTo>
                          <a:pt x="472" y="184"/>
                        </a:lnTo>
                        <a:lnTo>
                          <a:pt x="472" y="175"/>
                        </a:lnTo>
                        <a:lnTo>
                          <a:pt x="470" y="165"/>
                        </a:lnTo>
                        <a:lnTo>
                          <a:pt x="462" y="147"/>
                        </a:lnTo>
                        <a:lnTo>
                          <a:pt x="445" y="132"/>
                        </a:lnTo>
                        <a:lnTo>
                          <a:pt x="455" y="121"/>
                        </a:lnTo>
                        <a:lnTo>
                          <a:pt x="459" y="109"/>
                        </a:lnTo>
                        <a:lnTo>
                          <a:pt x="460" y="104"/>
                        </a:lnTo>
                        <a:lnTo>
                          <a:pt x="459" y="98"/>
                        </a:lnTo>
                        <a:lnTo>
                          <a:pt x="454" y="86"/>
                        </a:lnTo>
                        <a:lnTo>
                          <a:pt x="446" y="78"/>
                        </a:lnTo>
                        <a:lnTo>
                          <a:pt x="435" y="71"/>
                        </a:lnTo>
                        <a:lnTo>
                          <a:pt x="422" y="69"/>
                        </a:lnTo>
                        <a:lnTo>
                          <a:pt x="419" y="69"/>
                        </a:lnTo>
                        <a:lnTo>
                          <a:pt x="415" y="69"/>
                        </a:lnTo>
                        <a:lnTo>
                          <a:pt x="408" y="71"/>
                        </a:lnTo>
                        <a:lnTo>
                          <a:pt x="385" y="52"/>
                        </a:lnTo>
                        <a:lnTo>
                          <a:pt x="357" y="40"/>
                        </a:lnTo>
                        <a:lnTo>
                          <a:pt x="343" y="38"/>
                        </a:lnTo>
                        <a:lnTo>
                          <a:pt x="335" y="37"/>
                        </a:lnTo>
                        <a:lnTo>
                          <a:pt x="331" y="37"/>
                        </a:lnTo>
                        <a:lnTo>
                          <a:pt x="327" y="37"/>
                        </a:lnTo>
                        <a:lnTo>
                          <a:pt x="297" y="43"/>
                        </a:lnTo>
                        <a:lnTo>
                          <a:pt x="283" y="25"/>
                        </a:lnTo>
                        <a:lnTo>
                          <a:pt x="265" y="11"/>
                        </a:lnTo>
                        <a:lnTo>
                          <a:pt x="245" y="3"/>
                        </a:lnTo>
                        <a:lnTo>
                          <a:pt x="223" y="0"/>
                        </a:lnTo>
                        <a:lnTo>
                          <a:pt x="217" y="0"/>
                        </a:lnTo>
                        <a:lnTo>
                          <a:pt x="212" y="0"/>
                        </a:lnTo>
                        <a:lnTo>
                          <a:pt x="200" y="3"/>
                        </a:lnTo>
                        <a:lnTo>
                          <a:pt x="180" y="11"/>
                        </a:lnTo>
                        <a:lnTo>
                          <a:pt x="162" y="24"/>
                        </a:lnTo>
                        <a:lnTo>
                          <a:pt x="148" y="43"/>
                        </a:lnTo>
                        <a:lnTo>
                          <a:pt x="135" y="32"/>
                        </a:lnTo>
                        <a:lnTo>
                          <a:pt x="120" y="25"/>
                        </a:lnTo>
                        <a:lnTo>
                          <a:pt x="104" y="23"/>
                        </a:lnTo>
                        <a:lnTo>
                          <a:pt x="100" y="23"/>
                        </a:lnTo>
                        <a:lnTo>
                          <a:pt x="96" y="23"/>
                        </a:lnTo>
                        <a:lnTo>
                          <a:pt x="88" y="25"/>
                        </a:lnTo>
                        <a:lnTo>
                          <a:pt x="73" y="31"/>
                        </a:lnTo>
                        <a:lnTo>
                          <a:pt x="61" y="41"/>
                        </a:lnTo>
                        <a:lnTo>
                          <a:pt x="52" y="54"/>
                        </a:lnTo>
                        <a:lnTo>
                          <a:pt x="47" y="71"/>
                        </a:lnTo>
                        <a:lnTo>
                          <a:pt x="47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428160" y="4277880"/>
                    <a:ext cx="3204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98">
                        <a:moveTo>
                          <a:pt x="95" y="358"/>
                        </a:moveTo>
                        <a:lnTo>
                          <a:pt x="103" y="371"/>
                        </a:lnTo>
                        <a:lnTo>
                          <a:pt x="115" y="382"/>
                        </a:lnTo>
                        <a:lnTo>
                          <a:pt x="131" y="390"/>
                        </a:lnTo>
                        <a:lnTo>
                          <a:pt x="149" y="395"/>
                        </a:lnTo>
                        <a:lnTo>
                          <a:pt x="169" y="397"/>
                        </a:lnTo>
                        <a:lnTo>
                          <a:pt x="178" y="397"/>
                        </a:lnTo>
                        <a:lnTo>
                          <a:pt x="189" y="395"/>
                        </a:lnTo>
                        <a:lnTo>
                          <a:pt x="208" y="390"/>
                        </a:lnTo>
                        <a:lnTo>
                          <a:pt x="225" y="382"/>
                        </a:lnTo>
                        <a:lnTo>
                          <a:pt x="251" y="386"/>
                        </a:lnTo>
                        <a:lnTo>
                          <a:pt x="263" y="386"/>
                        </a:lnTo>
                        <a:lnTo>
                          <a:pt x="275" y="384"/>
                        </a:lnTo>
                        <a:lnTo>
                          <a:pt x="296" y="377"/>
                        </a:lnTo>
                        <a:lnTo>
                          <a:pt x="313" y="366"/>
                        </a:lnTo>
                        <a:lnTo>
                          <a:pt x="324" y="352"/>
                        </a:lnTo>
                        <a:lnTo>
                          <a:pt x="327" y="337"/>
                        </a:lnTo>
                        <a:lnTo>
                          <a:pt x="323" y="321"/>
                        </a:lnTo>
                        <a:lnTo>
                          <a:pt x="308" y="306"/>
                        </a:lnTo>
                        <a:lnTo>
                          <a:pt x="331" y="284"/>
                        </a:lnTo>
                        <a:lnTo>
                          <a:pt x="343" y="258"/>
                        </a:lnTo>
                        <a:lnTo>
                          <a:pt x="344" y="245"/>
                        </a:lnTo>
                        <a:lnTo>
                          <a:pt x="344" y="238"/>
                        </a:lnTo>
                        <a:lnTo>
                          <a:pt x="343" y="231"/>
                        </a:lnTo>
                        <a:lnTo>
                          <a:pt x="331" y="205"/>
                        </a:lnTo>
                        <a:lnTo>
                          <a:pt x="348" y="189"/>
                        </a:lnTo>
                        <a:lnTo>
                          <a:pt x="359" y="171"/>
                        </a:lnTo>
                        <a:lnTo>
                          <a:pt x="365" y="152"/>
                        </a:lnTo>
                        <a:lnTo>
                          <a:pt x="367" y="143"/>
                        </a:lnTo>
                        <a:lnTo>
                          <a:pt x="367" y="138"/>
                        </a:lnTo>
                        <a:lnTo>
                          <a:pt x="367" y="133"/>
                        </a:lnTo>
                        <a:lnTo>
                          <a:pt x="353" y="95"/>
                        </a:lnTo>
                        <a:lnTo>
                          <a:pt x="338" y="78"/>
                        </a:lnTo>
                        <a:lnTo>
                          <a:pt x="318" y="62"/>
                        </a:lnTo>
                        <a:lnTo>
                          <a:pt x="319" y="53"/>
                        </a:lnTo>
                        <a:lnTo>
                          <a:pt x="319" y="48"/>
                        </a:lnTo>
                        <a:lnTo>
                          <a:pt x="319" y="43"/>
                        </a:lnTo>
                        <a:lnTo>
                          <a:pt x="310" y="27"/>
                        </a:lnTo>
                        <a:lnTo>
                          <a:pt x="294" y="14"/>
                        </a:lnTo>
                        <a:lnTo>
                          <a:pt x="273" y="5"/>
                        </a:lnTo>
                        <a:lnTo>
                          <a:pt x="249" y="0"/>
                        </a:lnTo>
                        <a:lnTo>
                          <a:pt x="236" y="0"/>
                        </a:lnTo>
                        <a:lnTo>
                          <a:pt x="223" y="1"/>
                        </a:lnTo>
                        <a:lnTo>
                          <a:pt x="199" y="9"/>
                        </a:lnTo>
                        <a:lnTo>
                          <a:pt x="178" y="22"/>
                        </a:lnTo>
                        <a:lnTo>
                          <a:pt x="164" y="14"/>
                        </a:lnTo>
                        <a:lnTo>
                          <a:pt x="148" y="11"/>
                        </a:lnTo>
                        <a:lnTo>
                          <a:pt x="140" y="10"/>
                        </a:lnTo>
                        <a:lnTo>
                          <a:pt x="132" y="11"/>
                        </a:lnTo>
                        <a:lnTo>
                          <a:pt x="117" y="15"/>
                        </a:lnTo>
                        <a:lnTo>
                          <a:pt x="105" y="22"/>
                        </a:lnTo>
                        <a:lnTo>
                          <a:pt x="96" y="31"/>
                        </a:lnTo>
                        <a:lnTo>
                          <a:pt x="93" y="42"/>
                        </a:lnTo>
                        <a:lnTo>
                          <a:pt x="93" y="45"/>
                        </a:lnTo>
                        <a:lnTo>
                          <a:pt x="93" y="48"/>
                        </a:lnTo>
                        <a:lnTo>
                          <a:pt x="96" y="54"/>
                        </a:lnTo>
                        <a:lnTo>
                          <a:pt x="70" y="73"/>
                        </a:lnTo>
                        <a:lnTo>
                          <a:pt x="54" y="96"/>
                        </a:lnTo>
                        <a:lnTo>
                          <a:pt x="51" y="109"/>
                        </a:lnTo>
                        <a:lnTo>
                          <a:pt x="50" y="115"/>
                        </a:lnTo>
                        <a:lnTo>
                          <a:pt x="50" y="118"/>
                        </a:lnTo>
                        <a:lnTo>
                          <a:pt x="50" y="122"/>
                        </a:lnTo>
                        <a:lnTo>
                          <a:pt x="59" y="147"/>
                        </a:lnTo>
                        <a:lnTo>
                          <a:pt x="33" y="159"/>
                        </a:lnTo>
                        <a:lnTo>
                          <a:pt x="15" y="174"/>
                        </a:lnTo>
                        <a:lnTo>
                          <a:pt x="4" y="191"/>
                        </a:lnTo>
                        <a:lnTo>
                          <a:pt x="0" y="210"/>
                        </a:lnTo>
                        <a:lnTo>
                          <a:pt x="0" y="214"/>
                        </a:lnTo>
                        <a:lnTo>
                          <a:pt x="1" y="219"/>
                        </a:lnTo>
                        <a:lnTo>
                          <a:pt x="4" y="228"/>
                        </a:lnTo>
                        <a:lnTo>
                          <a:pt x="14" y="246"/>
                        </a:lnTo>
                        <a:lnTo>
                          <a:pt x="33" y="261"/>
                        </a:lnTo>
                        <a:lnTo>
                          <a:pt x="59" y="273"/>
                        </a:lnTo>
                        <a:lnTo>
                          <a:pt x="43" y="283"/>
                        </a:lnTo>
                        <a:lnTo>
                          <a:pt x="34" y="296"/>
                        </a:lnTo>
                        <a:lnTo>
                          <a:pt x="31" y="309"/>
                        </a:lnTo>
                        <a:lnTo>
                          <a:pt x="31" y="313"/>
                        </a:lnTo>
                        <a:lnTo>
                          <a:pt x="31" y="316"/>
                        </a:lnTo>
                        <a:lnTo>
                          <a:pt x="34" y="323"/>
                        </a:lnTo>
                        <a:lnTo>
                          <a:pt x="42" y="335"/>
                        </a:lnTo>
                        <a:lnTo>
                          <a:pt x="55" y="346"/>
                        </a:lnTo>
                        <a:lnTo>
                          <a:pt x="73" y="354"/>
                        </a:lnTo>
                        <a:lnTo>
                          <a:pt x="95" y="357"/>
                        </a:lnTo>
                        <a:lnTo>
                          <a:pt x="95" y="35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436080" y="4314600"/>
                    <a:ext cx="6444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327">
                        <a:moveTo>
                          <a:pt x="73" y="85"/>
                        </a:moveTo>
                        <a:lnTo>
                          <a:pt x="48" y="91"/>
                        </a:lnTo>
                        <a:lnTo>
                          <a:pt x="28" y="102"/>
                        </a:lnTo>
                        <a:lnTo>
                          <a:pt x="13" y="116"/>
                        </a:lnTo>
                        <a:lnTo>
                          <a:pt x="3" y="133"/>
                        </a:lnTo>
                        <a:lnTo>
                          <a:pt x="0" y="150"/>
                        </a:lnTo>
                        <a:lnTo>
                          <a:pt x="1" y="158"/>
                        </a:lnTo>
                        <a:lnTo>
                          <a:pt x="3" y="168"/>
                        </a:lnTo>
                        <a:lnTo>
                          <a:pt x="12" y="185"/>
                        </a:lnTo>
                        <a:lnTo>
                          <a:pt x="29" y="200"/>
                        </a:lnTo>
                        <a:lnTo>
                          <a:pt x="20" y="223"/>
                        </a:lnTo>
                        <a:lnTo>
                          <a:pt x="21" y="234"/>
                        </a:lnTo>
                        <a:lnTo>
                          <a:pt x="24" y="244"/>
                        </a:lnTo>
                        <a:lnTo>
                          <a:pt x="37" y="263"/>
                        </a:lnTo>
                        <a:lnTo>
                          <a:pt x="57" y="278"/>
                        </a:lnTo>
                        <a:lnTo>
                          <a:pt x="83" y="287"/>
                        </a:lnTo>
                        <a:lnTo>
                          <a:pt x="111" y="291"/>
                        </a:lnTo>
                        <a:lnTo>
                          <a:pt x="141" y="287"/>
                        </a:lnTo>
                        <a:lnTo>
                          <a:pt x="169" y="274"/>
                        </a:lnTo>
                        <a:lnTo>
                          <a:pt x="211" y="294"/>
                        </a:lnTo>
                        <a:lnTo>
                          <a:pt x="258" y="305"/>
                        </a:lnTo>
                        <a:lnTo>
                          <a:pt x="282" y="306"/>
                        </a:lnTo>
                        <a:lnTo>
                          <a:pt x="295" y="306"/>
                        </a:lnTo>
                        <a:lnTo>
                          <a:pt x="307" y="305"/>
                        </a:lnTo>
                        <a:lnTo>
                          <a:pt x="356" y="294"/>
                        </a:lnTo>
                        <a:lnTo>
                          <a:pt x="386" y="309"/>
                        </a:lnTo>
                        <a:lnTo>
                          <a:pt x="420" y="319"/>
                        </a:lnTo>
                        <a:lnTo>
                          <a:pt x="455" y="325"/>
                        </a:lnTo>
                        <a:lnTo>
                          <a:pt x="472" y="326"/>
                        </a:lnTo>
                        <a:lnTo>
                          <a:pt x="481" y="326"/>
                        </a:lnTo>
                        <a:lnTo>
                          <a:pt x="491" y="326"/>
                        </a:lnTo>
                        <a:lnTo>
                          <a:pt x="560" y="314"/>
                        </a:lnTo>
                        <a:lnTo>
                          <a:pt x="592" y="300"/>
                        </a:lnTo>
                        <a:lnTo>
                          <a:pt x="621" y="282"/>
                        </a:lnTo>
                        <a:lnTo>
                          <a:pt x="639" y="284"/>
                        </a:lnTo>
                        <a:lnTo>
                          <a:pt x="648" y="284"/>
                        </a:lnTo>
                        <a:lnTo>
                          <a:pt x="657" y="283"/>
                        </a:lnTo>
                        <a:lnTo>
                          <a:pt x="688" y="276"/>
                        </a:lnTo>
                        <a:lnTo>
                          <a:pt x="712" y="262"/>
                        </a:lnTo>
                        <a:lnTo>
                          <a:pt x="729" y="242"/>
                        </a:lnTo>
                        <a:lnTo>
                          <a:pt x="736" y="221"/>
                        </a:lnTo>
                        <a:lnTo>
                          <a:pt x="737" y="210"/>
                        </a:lnTo>
                        <a:lnTo>
                          <a:pt x="735" y="198"/>
                        </a:lnTo>
                        <a:lnTo>
                          <a:pt x="721" y="177"/>
                        </a:lnTo>
                        <a:lnTo>
                          <a:pt x="695" y="158"/>
                        </a:lnTo>
                        <a:lnTo>
                          <a:pt x="710" y="145"/>
                        </a:lnTo>
                        <a:lnTo>
                          <a:pt x="717" y="131"/>
                        </a:lnTo>
                        <a:lnTo>
                          <a:pt x="718" y="124"/>
                        </a:lnTo>
                        <a:lnTo>
                          <a:pt x="717" y="117"/>
                        </a:lnTo>
                        <a:lnTo>
                          <a:pt x="709" y="104"/>
                        </a:lnTo>
                        <a:lnTo>
                          <a:pt x="697" y="93"/>
                        </a:lnTo>
                        <a:lnTo>
                          <a:pt x="680" y="85"/>
                        </a:lnTo>
                        <a:lnTo>
                          <a:pt x="659" y="82"/>
                        </a:lnTo>
                        <a:lnTo>
                          <a:pt x="654" y="82"/>
                        </a:lnTo>
                        <a:lnTo>
                          <a:pt x="648" y="83"/>
                        </a:lnTo>
                        <a:lnTo>
                          <a:pt x="636" y="85"/>
                        </a:lnTo>
                        <a:lnTo>
                          <a:pt x="601" y="62"/>
                        </a:lnTo>
                        <a:lnTo>
                          <a:pt x="558" y="48"/>
                        </a:lnTo>
                        <a:lnTo>
                          <a:pt x="535" y="45"/>
                        </a:lnTo>
                        <a:lnTo>
                          <a:pt x="523" y="45"/>
                        </a:lnTo>
                        <a:lnTo>
                          <a:pt x="517" y="45"/>
                        </a:lnTo>
                        <a:lnTo>
                          <a:pt x="511" y="44"/>
                        </a:lnTo>
                        <a:lnTo>
                          <a:pt x="464" y="52"/>
                        </a:lnTo>
                        <a:lnTo>
                          <a:pt x="443" y="30"/>
                        </a:lnTo>
                        <a:lnTo>
                          <a:pt x="414" y="13"/>
                        </a:lnTo>
                        <a:lnTo>
                          <a:pt x="382" y="4"/>
                        </a:lnTo>
                        <a:lnTo>
                          <a:pt x="348" y="0"/>
                        </a:lnTo>
                        <a:lnTo>
                          <a:pt x="339" y="0"/>
                        </a:lnTo>
                        <a:lnTo>
                          <a:pt x="330" y="1"/>
                        </a:lnTo>
                        <a:lnTo>
                          <a:pt x="313" y="3"/>
                        </a:lnTo>
                        <a:lnTo>
                          <a:pt x="281" y="13"/>
                        </a:lnTo>
                        <a:lnTo>
                          <a:pt x="253" y="29"/>
                        </a:lnTo>
                        <a:lnTo>
                          <a:pt x="231" y="52"/>
                        </a:lnTo>
                        <a:lnTo>
                          <a:pt x="211" y="38"/>
                        </a:lnTo>
                        <a:lnTo>
                          <a:pt x="188" y="30"/>
                        </a:lnTo>
                        <a:lnTo>
                          <a:pt x="163" y="27"/>
                        </a:lnTo>
                        <a:lnTo>
                          <a:pt x="157" y="27"/>
                        </a:lnTo>
                        <a:lnTo>
                          <a:pt x="150" y="28"/>
                        </a:lnTo>
                        <a:lnTo>
                          <a:pt x="137" y="30"/>
                        </a:lnTo>
                        <a:lnTo>
                          <a:pt x="115" y="37"/>
                        </a:lnTo>
                        <a:lnTo>
                          <a:pt x="95" y="49"/>
                        </a:lnTo>
                        <a:lnTo>
                          <a:pt x="81" y="65"/>
                        </a:lnTo>
                        <a:lnTo>
                          <a:pt x="74" y="85"/>
                        </a:lnTo>
                        <a:lnTo>
                          <a:pt x="73" y="8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4e4e4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433920" y="4290120"/>
                    <a:ext cx="2664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308">
                        <a:moveTo>
                          <a:pt x="79" y="277"/>
                        </a:moveTo>
                        <a:lnTo>
                          <a:pt x="85" y="287"/>
                        </a:lnTo>
                        <a:lnTo>
                          <a:pt x="96" y="295"/>
                        </a:lnTo>
                        <a:lnTo>
                          <a:pt x="108" y="302"/>
                        </a:lnTo>
                        <a:lnTo>
                          <a:pt x="124" y="306"/>
                        </a:lnTo>
                        <a:lnTo>
                          <a:pt x="140" y="307"/>
                        </a:lnTo>
                        <a:lnTo>
                          <a:pt x="148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7" y="295"/>
                        </a:lnTo>
                        <a:lnTo>
                          <a:pt x="208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6" y="292"/>
                        </a:lnTo>
                        <a:lnTo>
                          <a:pt x="260" y="283"/>
                        </a:lnTo>
                        <a:lnTo>
                          <a:pt x="269" y="273"/>
                        </a:lnTo>
                        <a:lnTo>
                          <a:pt x="272" y="261"/>
                        </a:lnTo>
                        <a:lnTo>
                          <a:pt x="269" y="248"/>
                        </a:lnTo>
                        <a:lnTo>
                          <a:pt x="256" y="236"/>
                        </a:lnTo>
                        <a:lnTo>
                          <a:pt x="275" y="219"/>
                        </a:lnTo>
                        <a:lnTo>
                          <a:pt x="285" y="199"/>
                        </a:lnTo>
                        <a:lnTo>
                          <a:pt x="286" y="189"/>
                        </a:lnTo>
                        <a:lnTo>
                          <a:pt x="286" y="184"/>
                        </a:lnTo>
                        <a:lnTo>
                          <a:pt x="285" y="179"/>
                        </a:lnTo>
                        <a:lnTo>
                          <a:pt x="275" y="159"/>
                        </a:lnTo>
                        <a:lnTo>
                          <a:pt x="289" y="146"/>
                        </a:lnTo>
                        <a:lnTo>
                          <a:pt x="299" y="132"/>
                        </a:lnTo>
                        <a:lnTo>
                          <a:pt x="304" y="118"/>
                        </a:lnTo>
                        <a:lnTo>
                          <a:pt x="305" y="110"/>
                        </a:lnTo>
                        <a:lnTo>
                          <a:pt x="305" y="106"/>
                        </a:lnTo>
                        <a:lnTo>
                          <a:pt x="305" y="103"/>
                        </a:lnTo>
                        <a:lnTo>
                          <a:pt x="293" y="74"/>
                        </a:lnTo>
                        <a:lnTo>
                          <a:pt x="281" y="60"/>
                        </a:lnTo>
                        <a:lnTo>
                          <a:pt x="264" y="48"/>
                        </a:lnTo>
                        <a:lnTo>
                          <a:pt x="265" y="41"/>
                        </a:lnTo>
                        <a:lnTo>
                          <a:pt x="265" y="37"/>
                        </a:lnTo>
                        <a:lnTo>
                          <a:pt x="265" y="33"/>
                        </a:lnTo>
                        <a:lnTo>
                          <a:pt x="258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6" y="0"/>
                        </a:lnTo>
                        <a:lnTo>
                          <a:pt x="185" y="1"/>
                        </a:lnTo>
                        <a:lnTo>
                          <a:pt x="165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6" y="8"/>
                        </a:lnTo>
                        <a:lnTo>
                          <a:pt x="109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7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79" y="276"/>
                        </a:lnTo>
                        <a:lnTo>
                          <a:pt x="79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434640" y="4322160"/>
                    <a:ext cx="2664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462720" y="4341240"/>
                    <a:ext cx="2664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5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8" y="306"/>
                        </a:lnTo>
                        <a:lnTo>
                          <a:pt x="174" y="302"/>
                        </a:lnTo>
                        <a:lnTo>
                          <a:pt x="188" y="295"/>
                        </a:lnTo>
                        <a:lnTo>
                          <a:pt x="210" y="298"/>
                        </a:lnTo>
                        <a:lnTo>
                          <a:pt x="220" y="298"/>
                        </a:lnTo>
                        <a:lnTo>
                          <a:pt x="230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1" y="273"/>
                        </a:lnTo>
                        <a:lnTo>
                          <a:pt x="274" y="261"/>
                        </a:lnTo>
                        <a:lnTo>
                          <a:pt x="270" y="248"/>
                        </a:lnTo>
                        <a:lnTo>
                          <a:pt x="258" y="236"/>
                        </a:lnTo>
                        <a:lnTo>
                          <a:pt x="277" y="219"/>
                        </a:lnTo>
                        <a:lnTo>
                          <a:pt x="287" y="199"/>
                        </a:lnTo>
                        <a:lnTo>
                          <a:pt x="288" y="189"/>
                        </a:lnTo>
                        <a:lnTo>
                          <a:pt x="288" y="184"/>
                        </a:lnTo>
                        <a:lnTo>
                          <a:pt x="287" y="179"/>
                        </a:lnTo>
                        <a:lnTo>
                          <a:pt x="277" y="159"/>
                        </a:lnTo>
                        <a:lnTo>
                          <a:pt x="291" y="146"/>
                        </a:lnTo>
                        <a:lnTo>
                          <a:pt x="301" y="132"/>
                        </a:lnTo>
                        <a:lnTo>
                          <a:pt x="306" y="118"/>
                        </a:lnTo>
                        <a:lnTo>
                          <a:pt x="307" y="110"/>
                        </a:lnTo>
                        <a:lnTo>
                          <a:pt x="307" y="106"/>
                        </a:lnTo>
                        <a:lnTo>
                          <a:pt x="307" y="103"/>
                        </a:lnTo>
                        <a:lnTo>
                          <a:pt x="295" y="74"/>
                        </a:lnTo>
                        <a:lnTo>
                          <a:pt x="283" y="60"/>
                        </a:lnTo>
                        <a:lnTo>
                          <a:pt x="266" y="48"/>
                        </a:lnTo>
                        <a:lnTo>
                          <a:pt x="267" y="41"/>
                        </a:lnTo>
                        <a:lnTo>
                          <a:pt x="267" y="37"/>
                        </a:lnTo>
                        <a:lnTo>
                          <a:pt x="267" y="33"/>
                        </a:lnTo>
                        <a:lnTo>
                          <a:pt x="259" y="21"/>
                        </a:lnTo>
                        <a:lnTo>
                          <a:pt x="246" y="10"/>
                        </a:lnTo>
                        <a:lnTo>
                          <a:pt x="228" y="3"/>
                        </a:lnTo>
                        <a:lnTo>
                          <a:pt x="208" y="0"/>
                        </a:lnTo>
                        <a:lnTo>
                          <a:pt x="198" y="0"/>
                        </a:lnTo>
                        <a:lnTo>
                          <a:pt x="187" y="1"/>
                        </a:lnTo>
                        <a:lnTo>
                          <a:pt x="166" y="7"/>
                        </a:lnTo>
                        <a:lnTo>
                          <a:pt x="149" y="17"/>
                        </a:lnTo>
                        <a:lnTo>
                          <a:pt x="137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8" y="12"/>
                        </a:lnTo>
                        <a:lnTo>
                          <a:pt x="88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9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443640" y="4327920"/>
                    <a:ext cx="266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308">
                        <a:moveTo>
                          <a:pt x="80" y="277"/>
                        </a:moveTo>
                        <a:lnTo>
                          <a:pt x="86" y="287"/>
                        </a:lnTo>
                        <a:lnTo>
                          <a:pt x="96" y="295"/>
                        </a:lnTo>
                        <a:lnTo>
                          <a:pt x="109" y="302"/>
                        </a:lnTo>
                        <a:lnTo>
                          <a:pt x="124" y="306"/>
                        </a:lnTo>
                        <a:lnTo>
                          <a:pt x="141" y="307"/>
                        </a:lnTo>
                        <a:lnTo>
                          <a:pt x="149" y="307"/>
                        </a:lnTo>
                        <a:lnTo>
                          <a:pt x="157" y="306"/>
                        </a:lnTo>
                        <a:lnTo>
                          <a:pt x="173" y="302"/>
                        </a:lnTo>
                        <a:lnTo>
                          <a:pt x="188" y="295"/>
                        </a:lnTo>
                        <a:lnTo>
                          <a:pt x="209" y="298"/>
                        </a:lnTo>
                        <a:lnTo>
                          <a:pt x="219" y="298"/>
                        </a:lnTo>
                        <a:lnTo>
                          <a:pt x="229" y="297"/>
                        </a:lnTo>
                        <a:lnTo>
                          <a:pt x="247" y="292"/>
                        </a:lnTo>
                        <a:lnTo>
                          <a:pt x="261" y="283"/>
                        </a:lnTo>
                        <a:lnTo>
                          <a:pt x="270" y="273"/>
                        </a:lnTo>
                        <a:lnTo>
                          <a:pt x="273" y="261"/>
                        </a:lnTo>
                        <a:lnTo>
                          <a:pt x="269" y="248"/>
                        </a:lnTo>
                        <a:lnTo>
                          <a:pt x="257" y="236"/>
                        </a:lnTo>
                        <a:lnTo>
                          <a:pt x="276" y="219"/>
                        </a:lnTo>
                        <a:lnTo>
                          <a:pt x="286" y="199"/>
                        </a:lnTo>
                        <a:lnTo>
                          <a:pt x="287" y="189"/>
                        </a:lnTo>
                        <a:lnTo>
                          <a:pt x="287" y="184"/>
                        </a:lnTo>
                        <a:lnTo>
                          <a:pt x="286" y="179"/>
                        </a:lnTo>
                        <a:lnTo>
                          <a:pt x="276" y="159"/>
                        </a:lnTo>
                        <a:lnTo>
                          <a:pt x="290" y="146"/>
                        </a:lnTo>
                        <a:lnTo>
                          <a:pt x="300" y="132"/>
                        </a:lnTo>
                        <a:lnTo>
                          <a:pt x="305" y="118"/>
                        </a:lnTo>
                        <a:lnTo>
                          <a:pt x="306" y="110"/>
                        </a:lnTo>
                        <a:lnTo>
                          <a:pt x="306" y="106"/>
                        </a:lnTo>
                        <a:lnTo>
                          <a:pt x="306" y="103"/>
                        </a:lnTo>
                        <a:lnTo>
                          <a:pt x="294" y="74"/>
                        </a:lnTo>
                        <a:lnTo>
                          <a:pt x="282" y="60"/>
                        </a:lnTo>
                        <a:lnTo>
                          <a:pt x="265" y="48"/>
                        </a:lnTo>
                        <a:lnTo>
                          <a:pt x="266" y="41"/>
                        </a:lnTo>
                        <a:lnTo>
                          <a:pt x="266" y="37"/>
                        </a:lnTo>
                        <a:lnTo>
                          <a:pt x="266" y="33"/>
                        </a:lnTo>
                        <a:lnTo>
                          <a:pt x="259" y="21"/>
                        </a:lnTo>
                        <a:lnTo>
                          <a:pt x="245" y="10"/>
                        </a:lnTo>
                        <a:lnTo>
                          <a:pt x="227" y="3"/>
                        </a:lnTo>
                        <a:lnTo>
                          <a:pt x="207" y="0"/>
                        </a:lnTo>
                        <a:lnTo>
                          <a:pt x="197" y="0"/>
                        </a:lnTo>
                        <a:lnTo>
                          <a:pt x="186" y="1"/>
                        </a:lnTo>
                        <a:lnTo>
                          <a:pt x="166" y="7"/>
                        </a:lnTo>
                        <a:lnTo>
                          <a:pt x="148" y="17"/>
                        </a:lnTo>
                        <a:lnTo>
                          <a:pt x="136" y="11"/>
                        </a:lnTo>
                        <a:lnTo>
                          <a:pt x="123" y="8"/>
                        </a:lnTo>
                        <a:lnTo>
                          <a:pt x="117" y="8"/>
                        </a:lnTo>
                        <a:lnTo>
                          <a:pt x="110" y="9"/>
                        </a:lnTo>
                        <a:lnTo>
                          <a:pt x="97" y="12"/>
                        </a:lnTo>
                        <a:lnTo>
                          <a:pt x="87" y="17"/>
                        </a:lnTo>
                        <a:lnTo>
                          <a:pt x="80" y="24"/>
                        </a:lnTo>
                        <a:lnTo>
                          <a:pt x="77" y="32"/>
                        </a:lnTo>
                        <a:lnTo>
                          <a:pt x="77" y="35"/>
                        </a:lnTo>
                        <a:lnTo>
                          <a:pt x="78" y="37"/>
                        </a:lnTo>
                        <a:lnTo>
                          <a:pt x="80" y="42"/>
                        </a:lnTo>
                        <a:lnTo>
                          <a:pt x="58" y="57"/>
                        </a:lnTo>
                        <a:lnTo>
                          <a:pt x="45" y="75"/>
                        </a:lnTo>
                        <a:lnTo>
                          <a:pt x="42" y="84"/>
                        </a:lnTo>
                        <a:lnTo>
                          <a:pt x="42" y="89"/>
                        </a:lnTo>
                        <a:lnTo>
                          <a:pt x="42" y="91"/>
                        </a:lnTo>
                        <a:lnTo>
                          <a:pt x="42" y="94"/>
                        </a:lnTo>
                        <a:lnTo>
                          <a:pt x="49" y="114"/>
                        </a:lnTo>
                        <a:lnTo>
                          <a:pt x="28" y="123"/>
                        </a:lnTo>
                        <a:lnTo>
                          <a:pt x="12" y="134"/>
                        </a:lnTo>
                        <a:lnTo>
                          <a:pt x="3" y="148"/>
                        </a:lnTo>
                        <a:lnTo>
                          <a:pt x="0" y="162"/>
                        </a:lnTo>
                        <a:lnTo>
                          <a:pt x="0" y="166"/>
                        </a:lnTo>
                        <a:lnTo>
                          <a:pt x="1" y="169"/>
                        </a:lnTo>
                        <a:lnTo>
                          <a:pt x="3" y="177"/>
                        </a:lnTo>
                        <a:lnTo>
                          <a:pt x="12" y="190"/>
                        </a:lnTo>
                        <a:lnTo>
                          <a:pt x="27" y="202"/>
                        </a:lnTo>
                        <a:lnTo>
                          <a:pt x="49" y="211"/>
                        </a:lnTo>
                        <a:lnTo>
                          <a:pt x="36" y="219"/>
                        </a:lnTo>
                        <a:lnTo>
                          <a:pt x="28" y="229"/>
                        </a:lnTo>
                        <a:lnTo>
                          <a:pt x="26" y="239"/>
                        </a:lnTo>
                        <a:lnTo>
                          <a:pt x="26" y="242"/>
                        </a:lnTo>
                        <a:lnTo>
                          <a:pt x="26" y="245"/>
                        </a:lnTo>
                        <a:lnTo>
                          <a:pt x="28" y="250"/>
                        </a:lnTo>
                        <a:lnTo>
                          <a:pt x="35" y="259"/>
                        </a:lnTo>
                        <a:lnTo>
                          <a:pt x="46" y="268"/>
                        </a:lnTo>
                        <a:lnTo>
                          <a:pt x="61" y="273"/>
                        </a:lnTo>
                        <a:lnTo>
                          <a:pt x="80" y="276"/>
                        </a:lnTo>
                        <a:lnTo>
                          <a:pt x="80" y="27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bcbc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6417720" y="4296240"/>
                    <a:ext cx="23760" cy="32400"/>
                    <a:chOff x="6417720" y="4296240"/>
                    <a:chExt cx="23760" cy="3240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rot="20580000">
                      <a:off x="6423120" y="4297320"/>
                      <a:ext cx="14040" cy="29880"/>
                    </a:xfrm>
                    <a:prstGeom prst="star5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6424920" y="4297680"/>
                      <a:ext cx="10080" cy="29880"/>
                    </a:xfrm>
                    <a:prstGeom prst="star5">
                      <a:avLst/>
                    </a:prstGeom>
                    <a:solidFill>
                      <a:srgbClr val="f82206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rot="20160000">
                      <a:off x="6422760" y="4297680"/>
                      <a:ext cx="11520" cy="28800"/>
                    </a:xfrm>
                    <a:prstGeom prst="star5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6434640" y="4333320"/>
                    <a:ext cx="34560" cy="45360"/>
                    <a:chOff x="6434640" y="4333320"/>
                    <a:chExt cx="34560" cy="4536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 rot="20580000">
                      <a:off x="6441840" y="4335480"/>
                      <a:ext cx="21960" cy="40680"/>
                    </a:xfrm>
                    <a:prstGeom prst="star5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6445080" y="4335840"/>
                      <a:ext cx="16200" cy="40680"/>
                    </a:xfrm>
                    <a:prstGeom prst="star5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160000">
                      <a:off x="6441480" y="4335480"/>
                      <a:ext cx="18360" cy="39240"/>
                    </a:xfrm>
                    <a:prstGeom prst="star5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6464160" y="4377960"/>
                    <a:ext cx="23040" cy="32040"/>
                    <a:chOff x="6464160" y="4377960"/>
                    <a:chExt cx="23040" cy="32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20580000">
                      <a:off x="6469200" y="4379040"/>
                      <a:ext cx="14040" cy="29520"/>
                    </a:xfrm>
                    <a:prstGeom prst="star5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6471360" y="4379400"/>
                      <a:ext cx="10080" cy="29520"/>
                    </a:xfrm>
                    <a:prstGeom prst="star5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rot="20160000">
                      <a:off x="6469200" y="4379760"/>
                      <a:ext cx="11520" cy="28080"/>
                    </a:xfrm>
                    <a:prstGeom prst="star5">
                      <a:avLst/>
                    </a:pr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1" name=""/>
              <p:cNvSpPr/>
              <p:nvPr/>
            </p:nvSpPr>
            <p:spPr>
              <a:xfrm flipH="1">
                <a:off x="3855960" y="2077920"/>
                <a:ext cx="1449360" cy="131760"/>
              </a:xfr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Rounded MT Bold"/>
                  </a:rPr>
                  <a:t>Prescriptions Le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6515280" y="4722840"/>
                <a:ext cx="156816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28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Monitor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29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677880" y="4831200"/>
            <a:ext cx="8085240" cy="1492200"/>
          </a:xfrm>
          <a:prstGeom prst="parallelogram">
            <a:avLst>
              <a:gd name="adj" fmla="val -123587"/>
            </a:avLst>
          </a:prstGeom>
          <a:solidFill>
            <a:srgbClr val="0000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77880" y="3040560"/>
            <a:ext cx="8085240" cy="1492200"/>
          </a:xfrm>
          <a:prstGeom prst="parallelogram">
            <a:avLst>
              <a:gd name="adj" fmla="val -123587"/>
            </a:avLst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77880" y="1249920"/>
            <a:ext cx="8085240" cy="1492200"/>
          </a:xfrm>
          <a:prstGeom prst="parallelogram">
            <a:avLst>
              <a:gd name="adj" fmla="val -123587"/>
            </a:avLst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25800" y="4888080"/>
            <a:ext cx="3276360" cy="1109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29080" y="56386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nd 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19240" y="5527800"/>
            <a:ext cx="730440" cy="338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462560" y="5483160"/>
            <a:ext cx="622080" cy="298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9360" y="5527800"/>
            <a:ext cx="546120" cy="368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2433600" y="5145120"/>
            <a:ext cx="730440" cy="338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25800" y="3351240"/>
            <a:ext cx="3276360" cy="1109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29080" y="4122720"/>
            <a:ext cx="31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 Schema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2751120" y="3575160"/>
            <a:ext cx="698400" cy="323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4451400" y="3828960"/>
            <a:ext cx="641160" cy="309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3649680" y="3898800"/>
            <a:ext cx="546120" cy="368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125800" y="1515960"/>
            <a:ext cx="3276360" cy="11098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2147760"/>
            <a:ext cx="15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2751120" y="1752480"/>
            <a:ext cx="698400" cy="324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4460760" y="1925640"/>
            <a:ext cx="622440" cy="299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3611520" y="1892160"/>
            <a:ext cx="546120" cy="368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486080" y="-76320"/>
            <a:ext cx="6208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mand Center Schema and Congru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 Situation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4940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gnitiv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930480"/>
            <a:ext cx="18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5607000"/>
            <a:ext cx="18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295280" y="4740120"/>
            <a:ext cx="2667240" cy="1192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ponry and Lanchester Force Eq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12952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bat modeling, C2 factors, such as use of shared COP schema, are viewed as multipliers of the force coefficient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in Lanchester equ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/dt  = 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 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 Lanchester Force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/dt  = 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,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friendly (Blue) force size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= friendly kills/sec/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= enemy (Red) force size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my kills/sec/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221440" y="5435640"/>
            <a:ext cx="2931840" cy="647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221440" y="6083280"/>
            <a:ext cx="2931840" cy="28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221440" y="4782960"/>
            <a:ext cx="2931840" cy="652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221440" y="4740120"/>
            <a:ext cx="2931840" cy="14814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740120"/>
            <a:ext cx="2667240" cy="14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400800" y="3355920"/>
            <a:ext cx="25146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at Decision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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46180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 Quality Decision Loop Spe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76760" y="2057400"/>
            <a:ext cx="0" cy="251460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4543560"/>
            <a:ext cx="29718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5520" y="2561760"/>
            <a:ext cx="16002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3940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512136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tiles/minu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1370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d Lo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Lo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154080"/>
            <a:ext cx="83818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2 Decision-Making and the OODA Loo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Decision Loop Speed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on Battlefield Exchange Ratio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74012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20574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0360" y="5911920"/>
            <a:ext cx="68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0(C x R)/(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--   (2) Quality Decision Loop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3120" y="4851360"/>
            <a:ext cx="38811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 = Reliability of COA Forecast ,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R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from  Wargame Simulation Schema Pr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3120" y="4343400"/>
            <a:ext cx="2890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 = Situation Awareness,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C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from  COP Schema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43120" y="5599080"/>
            <a:ext cx="2357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= Time to 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43120" y="5357880"/>
            <a:ext cx="196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= Actio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90640" y="1733400"/>
            <a:ext cx="2081160" cy="1314360"/>
            <a:chOff x="890640" y="1733400"/>
            <a:chExt cx="2081160" cy="131436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890640" y="2344680"/>
              <a:ext cx="208116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890640" y="2950920"/>
              <a:ext cx="2081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890640" y="1733400"/>
              <a:ext cx="208116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890640" y="1733400"/>
              <a:ext cx="2081160" cy="131436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3520" y="304920"/>
            <a:ext cx="627696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2 Combat Decision Superiority Derivation from Lanchester Equation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</a:rPr>
              <a:t>Sf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= (C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x R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 t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</a:rPr>
              <a:t>D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/  (C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x R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 t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</a:rPr>
              <a:t>Df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wher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  <a:ea typeface="Times New Roman"/>
              </a:rPr>
              <a:t>D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 = t 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 + t 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  <a:ea typeface="Times New Roman"/>
              </a:rPr>
              <a:t>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+  t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Arial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1600"/>
            </a:br>
            <a:br>
              <a:rPr sz="1600"/>
            </a:b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138480"/>
            <a:ext cx="335268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Information Supe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(3.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52102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ruity of Red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33560" y="2649600"/>
            <a:ext cx="0" cy="251460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5135400"/>
            <a:ext cx="266688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19120" y="2986200"/>
            <a:ext cx="4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35352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ruity of Blue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33520" y="2649600"/>
            <a:ext cx="457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1947960" y="3092400"/>
            <a:ext cx="2014560" cy="201456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57280" y="3429000"/>
            <a:ext cx="590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092400"/>
            <a:ext cx="0" cy="2014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4145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23080" y="5272200"/>
            <a:ext cx="425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24360" y="5607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4724280"/>
            <a:ext cx="33526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oll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active sensors and communications for this critical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ggests a focused strategy for Info 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38640" y="2313000"/>
            <a:ext cx="42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arrower Decision Information Supe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09480" y="282600"/>
            <a:ext cx="8229600" cy="65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from Three Controlled Experiments with Shared COP Prototypes, 1990-19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: Air/Sea battle set in Persian Gulf using RESA Wargame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 Treatment: All parties share big and little pictures fed by national and organic sens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Treatment: Big picture from national sensors at CJTF. Little pictures from organic sensors at ship capta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weaponry with experimentals and contro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 COP Prot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situation assessment accuracy (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commander’s sket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shared awareness (N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opinion repo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synchronization of action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+10% spe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1 COP Proto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battlefield exchange ratio (X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+2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controlling for weaponry, use of shared COP schema causes improved combat effectiveness (cf. IS Value Chain)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15:22:23Z</dcterms:created>
  <dc:creator>VIJAY KUMAR</dc:creator>
  <dc:description/>
  <dc:language>en-US</dc:language>
  <cp:lastModifiedBy>DISANet</cp:lastModifiedBy>
  <cp:lastPrinted>2000-12-05T14:00:40Z</cp:lastPrinted>
  <dcterms:modified xsi:type="dcterms:W3CDTF">2001-07-27T19:29:17Z</dcterms:modified>
  <cp:revision>152</cp:revision>
  <dc:subject/>
  <dc:title>No Slide Title</dc:title>
</cp:coreProperties>
</file>